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3BD4-E915-4B62-A719-336D21B3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801-812C-45C3-A631-E48EF41E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F431-DC32-44C9-8C7D-4DB51ABE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19A-FD4A-4059-9CD0-95233B10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723D-7A93-4D7C-8DDC-F47137B9F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8EBB-C91B-4DC3-B92D-9A5A99663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8686E-D2B5-445C-8E25-7AEDE85D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0DAB-2F98-4858-8AF8-CAD2D699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C9E5E-C298-415F-87B9-F6D6C910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5909-5880-45EB-88EB-1676F4FB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E655-64C1-4C16-89BE-7113B844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37C-6DC5-4920-BAE4-0643A9C3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160E-6407-4AC5-927D-9A16E985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3019E-2D98-4A44-B228-2155C503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CAAB-D63E-4223-AAF8-409D3D5D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BDC2-3315-4F08-B9CC-D9F51AD3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5080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3240" y="20602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36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5080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3240" y="431748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8244-4C47-40D2-9BB6-E7FD19F9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2CF-FA09-4CA3-83B3-620B85DA5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F639-AB87-4F4C-8867-5F5B37F6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462-F669-4BC0-B106-C1D45A38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8360" y="1052640"/>
            <a:ext cx="8229600" cy="39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FF3D-BF14-453C-ABFE-1461FF1A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D398-629E-43F5-813E-28F4BF25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5400" y="43174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D45C-B5F6-4301-8742-9F9F9B9C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5400" y="206028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431748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9718-76B9-4B94-B2DB-43A761A2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0038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300360" y="6578640"/>
            <a:ext cx="14130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68360" y="6570720"/>
            <a:ext cx="568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884720" y="6578640"/>
            <a:ext cx="86364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40C3-550F-4B88-B2FE-49E6AD0059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NBS_podstranka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79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NBS_uvod_modra"/>
          <p:cNvPicPr/>
          <p:nvPr/>
        </p:nvPicPr>
        <p:blipFill>
          <a:blip r:embed="rId2"/>
          <a:stretch/>
        </p:blipFill>
        <p:spPr>
          <a:xfrm>
            <a:off x="0" y="0"/>
            <a:ext cx="9140760" cy="4033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881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7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700"/>
              </a:spcBef>
              <a:buClr>
                <a:srgbClr val="9b003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720" y="6237360"/>
            <a:ext cx="1873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0920" y="6244920"/>
            <a:ext cx="61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028000" y="6453360"/>
            <a:ext cx="9367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494a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CF7DF-3C0E-4EEA-8B1B-C303F2AC8D78}" type="slidenum">
              <a:rPr b="1" lang="en-US" sz="2400" spc="-1" strike="noStrike">
                <a:solidFill>
                  <a:srgbClr val="494a4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707920"/>
            <a:ext cx="8708760" cy="25938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800" spc="-1" strike="noStrike">
                <a:solidFill>
                  <a:srgbClr val="dddddd"/>
                </a:solidFill>
                <a:latin typeface="Tahoma"/>
              </a:rPr>
              <a:t>AIFMD</a:t>
            </a:r>
            <a:br>
              <a:rPr sz="4800"/>
            </a:br>
            <a:br>
              <a:rPr sz="4800"/>
            </a:b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SLOVENSKÝ POHĽAD NA NOVÚ SMERNICU EÚ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23640" y="5589360"/>
            <a:ext cx="8705880" cy="115236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Konferencia Next Steps In Asset Management, 26. apríla 201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Mgr. Júlia Čillíková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riaditeľka odboru regulácie a finančných analýz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UCITS vs. AIFM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1484280"/>
          <a:ext cx="8229600" cy="5018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CITS I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IF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pitálové požiadav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kladné vlastné zdroje a dodatočné k rozsahu celkových Au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+ Dodatočné vlastné zdroje na krytie rizík vyplývajúcich z profesionálnej zodpoved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ačné podmienky a pravidlá čin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kmer zhodn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ceňovani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prava zodpovednosti správcu / externého oceňovateľ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legovanie (outsourcing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kladné princí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aceré dodatočné podmienk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meňovanie (remuneratio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* očakáva sa doplnenie v UCITS 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ulácia odmeňovania ekvivalentná bankám a o.c.p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pozitá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tandardná úp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* očakáva sa rozšírenie a zosúladenie v UCITS V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zšírenie o objektívnu zodpovednosť a detailnejšia právna úpra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parentnosť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prava KIID, prospektu a ročných a polročných správ – zameranie na reta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prava ročnej správy a informácií investorom pred investovaním a v prípade akejkoľvek významnej zmen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n lim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prava výpočtu, zverejňovania a možnosti regulátorov obmedzovať lever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dobúdanie kontrolných podielov v iných spoločnostiac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medzenia a povinností správc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kazníctv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kladné princí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tailná úprava vrátane vzoru výkazo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III. Ďalšie subjekt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erejné ponuky majetkových hodnô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dôsledku AIFMD dôjde k zániku tohto inštitútu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ivate equity a venture capital fon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efungujú cez verejnú ponuku </a:t>
            </a:r>
            <a:r>
              <a:rPr b="0" lang="sk-SK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v súčasnosti sú neregulované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k budú kvalifikované ako AIF, spadajú pod predmet úpravy AIFM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 obe kategórie pla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 závislosti od veľkosti spravovaného majetku prispôsobenie sa plnému režimu alebo „light“ režimu AIFM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Úplná nepripravenosť a predpokladané značné náklady na prispôsoben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otenciálne riziká pre slovenský finančný trh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úmerná regulá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právcovské spoločnosti sú už dnes značne regulované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a jednoduché business modely v private equity a venture capital je režim AIFMD príliš komplexný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One-size-fits-all“ prís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edostatok proporcionality smernice vo vzťahu k malým správcom a k správe fondov, ktoré sú produktovo regulované na národnej úrovn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Neúmerná záťaž na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Zložitosť a rozsah legislatívy (napr. 99 rôznych splnomocňovacích ustanovení pre EK a ESMA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otenciálne výhody pre slovenský finančný trh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Level playing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a národnej úrovni - jednotné podmienky pre súčasné podielové fondy a im konkurenčné produkty (nelicencované hedge fondy a private equity fondy, ktoré sa na Slovensku ponúkajú a verejné ponuky majetkových hodnôt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a úrovni EÚ – jednotný prístup na trh EÚ a dočasné zvýhodnenie EÚ správcov AIF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ostup prijímania a súčasný stav legislatívneho procesu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grpSp>
        <p:nvGrpSpPr>
          <p:cNvPr id="122" name="Group 24"/>
          <p:cNvGrpSpPr/>
          <p:nvPr/>
        </p:nvGrpSpPr>
        <p:grpSpPr>
          <a:xfrm>
            <a:off x="250920" y="3860640"/>
            <a:ext cx="8424720" cy="635400"/>
            <a:chOff x="250920" y="3860640"/>
            <a:chExt cx="8424720" cy="635400"/>
          </a:xfrm>
        </p:grpSpPr>
        <p:sp>
          <p:nvSpPr>
            <p:cNvPr id="123" name="Line 5"/>
            <p:cNvSpPr/>
            <p:nvPr/>
          </p:nvSpPr>
          <p:spPr>
            <a:xfrm>
              <a:off x="468360" y="4003560"/>
              <a:ext cx="820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Line 6"/>
            <p:cNvSpPr/>
            <p:nvPr/>
          </p:nvSpPr>
          <p:spPr>
            <a:xfrm>
              <a:off x="468360" y="3931920"/>
              <a:ext cx="820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Line 8"/>
            <p:cNvSpPr/>
            <p:nvPr/>
          </p:nvSpPr>
          <p:spPr>
            <a:xfrm>
              <a:off x="53964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Line 9"/>
            <p:cNvSpPr/>
            <p:nvPr/>
          </p:nvSpPr>
          <p:spPr>
            <a:xfrm>
              <a:off x="183528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Line 11"/>
            <p:cNvSpPr/>
            <p:nvPr/>
          </p:nvSpPr>
          <p:spPr>
            <a:xfrm>
              <a:off x="327492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Line 13"/>
            <p:cNvSpPr/>
            <p:nvPr/>
          </p:nvSpPr>
          <p:spPr>
            <a:xfrm>
              <a:off x="471492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615456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Line 17"/>
            <p:cNvSpPr/>
            <p:nvPr/>
          </p:nvSpPr>
          <p:spPr>
            <a:xfrm>
              <a:off x="759456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250920" y="421956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Text Box 19"/>
            <p:cNvSpPr/>
            <p:nvPr/>
          </p:nvSpPr>
          <p:spPr>
            <a:xfrm>
              <a:off x="154764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Text Box 20"/>
            <p:cNvSpPr/>
            <p:nvPr/>
          </p:nvSpPr>
          <p:spPr>
            <a:xfrm>
              <a:off x="298764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21"/>
            <p:cNvSpPr/>
            <p:nvPr/>
          </p:nvSpPr>
          <p:spPr>
            <a:xfrm>
              <a:off x="4427640" y="421956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Text Box 22"/>
            <p:cNvSpPr/>
            <p:nvPr/>
          </p:nvSpPr>
          <p:spPr>
            <a:xfrm>
              <a:off x="586728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Text Box 23"/>
            <p:cNvSpPr/>
            <p:nvPr/>
          </p:nvSpPr>
          <p:spPr>
            <a:xfrm>
              <a:off x="730872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Group 28"/>
          <p:cNvGrpSpPr/>
          <p:nvPr/>
        </p:nvGrpSpPr>
        <p:grpSpPr>
          <a:xfrm>
            <a:off x="755640" y="2133720"/>
            <a:ext cx="1152000" cy="746280"/>
            <a:chOff x="755640" y="2133720"/>
            <a:chExt cx="1152000" cy="746280"/>
          </a:xfrm>
        </p:grpSpPr>
        <p:sp>
          <p:nvSpPr>
            <p:cNvPr id="138" name="Text Box 26"/>
            <p:cNvSpPr/>
            <p:nvPr/>
          </p:nvSpPr>
          <p:spPr>
            <a:xfrm>
              <a:off x="755640" y="2421000"/>
              <a:ext cx="1152000" cy="45900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predloženie návrhu E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Text Box 27"/>
            <p:cNvSpPr/>
            <p:nvPr/>
          </p:nvSpPr>
          <p:spPr>
            <a:xfrm>
              <a:off x="755640" y="2133720"/>
              <a:ext cx="1152000" cy="2764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30.4.2009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" name="Line 30"/>
          <p:cNvSpPr/>
          <p:nvPr/>
        </p:nvSpPr>
        <p:spPr>
          <a:xfrm>
            <a:off x="971640" y="2924280"/>
            <a:ext cx="0" cy="10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1" name="Group 31"/>
          <p:cNvGrpSpPr/>
          <p:nvPr/>
        </p:nvGrpSpPr>
        <p:grpSpPr>
          <a:xfrm>
            <a:off x="1332000" y="5013360"/>
            <a:ext cx="1150560" cy="928800"/>
            <a:chOff x="1332000" y="5013360"/>
            <a:chExt cx="1150560" cy="928800"/>
          </a:xfrm>
        </p:grpSpPr>
        <p:sp>
          <p:nvSpPr>
            <p:cNvPr id="142" name="Text Box 32"/>
            <p:cNvSpPr/>
            <p:nvPr/>
          </p:nvSpPr>
          <p:spPr>
            <a:xfrm>
              <a:off x="1332000" y="5300640"/>
              <a:ext cx="1150560" cy="6415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ahoma"/>
                </a:rPr>
                <a:t>Rokovania na pôde Rady a EP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33"/>
            <p:cNvSpPr/>
            <p:nvPr/>
          </p:nvSpPr>
          <p:spPr>
            <a:xfrm>
              <a:off x="1332000" y="5013360"/>
              <a:ext cx="115056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09 - 201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" name="Group 44"/>
          <p:cNvGrpSpPr/>
          <p:nvPr/>
        </p:nvGrpSpPr>
        <p:grpSpPr>
          <a:xfrm>
            <a:off x="971640" y="4005360"/>
            <a:ext cx="2016000" cy="863280"/>
            <a:chOff x="971640" y="4005360"/>
            <a:chExt cx="2016000" cy="863280"/>
          </a:xfrm>
        </p:grpSpPr>
        <p:sp>
          <p:nvSpPr>
            <p:cNvPr id="145" name="Line 35"/>
            <p:cNvSpPr/>
            <p:nvPr/>
          </p:nvSpPr>
          <p:spPr>
            <a:xfrm flipV="1">
              <a:off x="971640" y="4005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Line 36"/>
            <p:cNvSpPr/>
            <p:nvPr/>
          </p:nvSpPr>
          <p:spPr>
            <a:xfrm>
              <a:off x="971640" y="4868640"/>
              <a:ext cx="20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37"/>
            <p:cNvSpPr/>
            <p:nvPr/>
          </p:nvSpPr>
          <p:spPr>
            <a:xfrm flipV="1">
              <a:off x="2987640" y="4005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" name="Group 41"/>
          <p:cNvGrpSpPr/>
          <p:nvPr/>
        </p:nvGrpSpPr>
        <p:grpSpPr>
          <a:xfrm>
            <a:off x="2916360" y="5013360"/>
            <a:ext cx="1150560" cy="746280"/>
            <a:chOff x="2916360" y="5013360"/>
            <a:chExt cx="1150560" cy="746280"/>
          </a:xfrm>
        </p:grpSpPr>
        <p:sp>
          <p:nvSpPr>
            <p:cNvPr id="149" name="Text Box 42"/>
            <p:cNvSpPr/>
            <p:nvPr/>
          </p:nvSpPr>
          <p:spPr>
            <a:xfrm>
              <a:off x="2916360" y="5300640"/>
              <a:ext cx="1150560" cy="459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ahoma"/>
                </a:rPr>
                <a:t>Legislatívne úprav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Text Box 43"/>
            <p:cNvSpPr/>
            <p:nvPr/>
          </p:nvSpPr>
          <p:spPr>
            <a:xfrm>
              <a:off x="2916360" y="5013360"/>
              <a:ext cx="115056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1.Q 201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1" name="Group 45"/>
          <p:cNvGrpSpPr/>
          <p:nvPr/>
        </p:nvGrpSpPr>
        <p:grpSpPr>
          <a:xfrm>
            <a:off x="2987640" y="4005360"/>
            <a:ext cx="936720" cy="863280"/>
            <a:chOff x="2987640" y="4005360"/>
            <a:chExt cx="936720" cy="863280"/>
          </a:xfrm>
        </p:grpSpPr>
        <p:sp>
          <p:nvSpPr>
            <p:cNvPr id="152" name="Line 46"/>
            <p:cNvSpPr/>
            <p:nvPr/>
          </p:nvSpPr>
          <p:spPr>
            <a:xfrm flipV="1">
              <a:off x="2987640" y="4005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47"/>
            <p:cNvSpPr/>
            <p:nvPr/>
          </p:nvSpPr>
          <p:spPr>
            <a:xfrm>
              <a:off x="2987640" y="48686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48"/>
            <p:cNvSpPr/>
            <p:nvPr/>
          </p:nvSpPr>
          <p:spPr>
            <a:xfrm flipV="1">
              <a:off x="3924360" y="4005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5" name="Line 49"/>
          <p:cNvSpPr/>
          <p:nvPr/>
        </p:nvSpPr>
        <p:spPr>
          <a:xfrm>
            <a:off x="190800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Line 50"/>
          <p:cNvSpPr/>
          <p:nvPr/>
        </p:nvSpPr>
        <p:spPr>
          <a:xfrm>
            <a:off x="349236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" name="Group 51"/>
          <p:cNvGrpSpPr/>
          <p:nvPr/>
        </p:nvGrpSpPr>
        <p:grpSpPr>
          <a:xfrm>
            <a:off x="3708360" y="2133720"/>
            <a:ext cx="1150560" cy="1111320"/>
            <a:chOff x="3708360" y="2133720"/>
            <a:chExt cx="1150560" cy="1111320"/>
          </a:xfrm>
        </p:grpSpPr>
        <p:sp>
          <p:nvSpPr>
            <p:cNvPr id="158" name="Text Box 52"/>
            <p:cNvSpPr/>
            <p:nvPr/>
          </p:nvSpPr>
          <p:spPr>
            <a:xfrm>
              <a:off x="3708360" y="2421000"/>
              <a:ext cx="1150560" cy="8240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zverejnenie smernice AIFMD v Ú.v. EÚ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Text Box 53"/>
            <p:cNvSpPr/>
            <p:nvPr/>
          </p:nvSpPr>
          <p:spPr>
            <a:xfrm>
              <a:off x="3708360" y="2133720"/>
              <a:ext cx="1150560" cy="2764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1.7.201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0" name="Line 54"/>
          <p:cNvSpPr/>
          <p:nvPr/>
        </p:nvSpPr>
        <p:spPr>
          <a:xfrm>
            <a:off x="3924360" y="3284640"/>
            <a:ext cx="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1" name="Group 55"/>
          <p:cNvGrpSpPr/>
          <p:nvPr/>
        </p:nvGrpSpPr>
        <p:grpSpPr>
          <a:xfrm>
            <a:off x="4427640" y="5013360"/>
            <a:ext cx="1152000" cy="1658880"/>
            <a:chOff x="4427640" y="5013360"/>
            <a:chExt cx="1152000" cy="1658880"/>
          </a:xfrm>
        </p:grpSpPr>
        <p:sp>
          <p:nvSpPr>
            <p:cNvPr id="162" name="Text Box 56"/>
            <p:cNvSpPr/>
            <p:nvPr/>
          </p:nvSpPr>
          <p:spPr>
            <a:xfrm>
              <a:off x="4427640" y="5300640"/>
              <a:ext cx="1152000" cy="1371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ahoma"/>
                </a:rPr>
                <a:t>zverejnenie technickej pomoci ESMA k budúcim delegovaným aktom E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Text Box 57"/>
            <p:cNvSpPr/>
            <p:nvPr/>
          </p:nvSpPr>
          <p:spPr>
            <a:xfrm>
              <a:off x="4427640" y="5013360"/>
              <a:ext cx="115200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16.11.201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" name="Line 58"/>
          <p:cNvSpPr/>
          <p:nvPr/>
        </p:nvSpPr>
        <p:spPr>
          <a:xfrm flipV="1">
            <a:off x="450072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59"/>
          <p:cNvGrpSpPr/>
          <p:nvPr/>
        </p:nvGrpSpPr>
        <p:grpSpPr>
          <a:xfrm>
            <a:off x="5076720" y="2133720"/>
            <a:ext cx="1223640" cy="1293840"/>
            <a:chOff x="5076720" y="2133720"/>
            <a:chExt cx="1223640" cy="1293840"/>
          </a:xfrm>
        </p:grpSpPr>
        <p:sp>
          <p:nvSpPr>
            <p:cNvPr id="166" name="Text Box 60"/>
            <p:cNvSpPr/>
            <p:nvPr/>
          </p:nvSpPr>
          <p:spPr>
            <a:xfrm>
              <a:off x="5076720" y="2421000"/>
              <a:ext cx="1223640" cy="10065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000000"/>
                  </a:solidFill>
                  <a:latin typeface="Tahoma"/>
                </a:rPr>
                <a:t>predpokladané zverejnenie návrhu delegovaných aktov EK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Text Box 61"/>
            <p:cNvSpPr/>
            <p:nvPr/>
          </p:nvSpPr>
          <p:spPr>
            <a:xfrm>
              <a:off x="5076720" y="2133720"/>
              <a:ext cx="122364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1. Q 201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" name="Line 62"/>
          <p:cNvSpPr/>
          <p:nvPr/>
        </p:nvSpPr>
        <p:spPr>
          <a:xfrm>
            <a:off x="514836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" name="Group 63"/>
          <p:cNvGrpSpPr/>
          <p:nvPr/>
        </p:nvGrpSpPr>
        <p:grpSpPr>
          <a:xfrm>
            <a:off x="6156360" y="5013360"/>
            <a:ext cx="1150560" cy="1111320"/>
            <a:chOff x="6156360" y="5013360"/>
            <a:chExt cx="1150560" cy="1111320"/>
          </a:xfrm>
        </p:grpSpPr>
        <p:sp>
          <p:nvSpPr>
            <p:cNvPr id="170" name="Text Box 64"/>
            <p:cNvSpPr/>
            <p:nvPr/>
          </p:nvSpPr>
          <p:spPr>
            <a:xfrm>
              <a:off x="6156360" y="5300640"/>
              <a:ext cx="1150560" cy="8240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Deadline na transpozíciu  smernice AIFM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" name="Text Box 65"/>
            <p:cNvSpPr/>
            <p:nvPr/>
          </p:nvSpPr>
          <p:spPr>
            <a:xfrm>
              <a:off x="6156360" y="5013360"/>
              <a:ext cx="1150560" cy="2764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2.7.201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2" name="Line 67"/>
          <p:cNvSpPr/>
          <p:nvPr/>
        </p:nvSpPr>
        <p:spPr>
          <a:xfrm flipV="1">
            <a:off x="6948360" y="4005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" name="Group 68"/>
          <p:cNvGrpSpPr/>
          <p:nvPr/>
        </p:nvGrpSpPr>
        <p:grpSpPr>
          <a:xfrm>
            <a:off x="7308720" y="2133720"/>
            <a:ext cx="1150560" cy="1111320"/>
            <a:chOff x="7308720" y="2133720"/>
            <a:chExt cx="1150560" cy="1111320"/>
          </a:xfrm>
        </p:grpSpPr>
        <p:sp>
          <p:nvSpPr>
            <p:cNvPr id="174" name="Text Box 69"/>
            <p:cNvSpPr/>
            <p:nvPr/>
          </p:nvSpPr>
          <p:spPr>
            <a:xfrm>
              <a:off x="7308720" y="2421000"/>
              <a:ext cx="1150560" cy="82404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Deadline na žiadosť o povolenie podľa AIFMD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5" name="Text Box 70"/>
            <p:cNvSpPr/>
            <p:nvPr/>
          </p:nvSpPr>
          <p:spPr>
            <a:xfrm>
              <a:off x="7308720" y="2133720"/>
              <a:ext cx="1150560" cy="276480"/>
            </a:xfrm>
            <a:prstGeom prst="rect">
              <a:avLst/>
            </a:prstGeom>
            <a:solidFill>
              <a:srgbClr val="99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Leto 201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6" name="Line 71"/>
          <p:cNvSpPr/>
          <p:nvPr/>
        </p:nvSpPr>
        <p:spPr>
          <a:xfrm>
            <a:off x="8317080" y="3429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 72"/>
          <p:cNvGrpSpPr/>
          <p:nvPr/>
        </p:nvGrpSpPr>
        <p:grpSpPr>
          <a:xfrm>
            <a:off x="7596360" y="4797360"/>
            <a:ext cx="1223280" cy="838080"/>
            <a:chOff x="7596360" y="4797360"/>
            <a:chExt cx="1223280" cy="838080"/>
          </a:xfrm>
        </p:grpSpPr>
        <p:sp>
          <p:nvSpPr>
            <p:cNvPr id="178" name="Text Box 73"/>
            <p:cNvSpPr/>
            <p:nvPr/>
          </p:nvSpPr>
          <p:spPr>
            <a:xfrm>
              <a:off x="7596360" y="5084640"/>
              <a:ext cx="1223280" cy="550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000" spc="-1" strike="noStrike">
                  <a:solidFill>
                    <a:srgbClr val="000000"/>
                  </a:solidFill>
                  <a:latin typeface="Tahoma"/>
                </a:rPr>
                <a:t>duálny režim pre správcov z tretích krajín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Text Box 74"/>
            <p:cNvSpPr/>
            <p:nvPr/>
          </p:nvSpPr>
          <p:spPr>
            <a:xfrm>
              <a:off x="7596360" y="4797360"/>
              <a:ext cx="122328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" name="Group 75"/>
          <p:cNvGrpSpPr/>
          <p:nvPr/>
        </p:nvGrpSpPr>
        <p:grpSpPr>
          <a:xfrm>
            <a:off x="7596360" y="5661000"/>
            <a:ext cx="1223280" cy="838080"/>
            <a:chOff x="7596360" y="5661000"/>
            <a:chExt cx="1223280" cy="838080"/>
          </a:xfrm>
        </p:grpSpPr>
        <p:sp>
          <p:nvSpPr>
            <p:cNvPr id="181" name="Text Box 76"/>
            <p:cNvSpPr/>
            <p:nvPr/>
          </p:nvSpPr>
          <p:spPr>
            <a:xfrm>
              <a:off x="7596360" y="5948280"/>
              <a:ext cx="1223280" cy="5508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000" spc="-1" strike="noStrike">
                  <a:solidFill>
                    <a:srgbClr val="000000"/>
                  </a:solidFill>
                  <a:latin typeface="Tahoma"/>
                </a:rPr>
                <a:t>režim passportu pre správcov z tretích krajín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Text Box 77"/>
            <p:cNvSpPr/>
            <p:nvPr/>
          </p:nvSpPr>
          <p:spPr>
            <a:xfrm>
              <a:off x="7596360" y="5661000"/>
              <a:ext cx="122328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8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" name="Line 78"/>
          <p:cNvSpPr/>
          <p:nvPr/>
        </p:nvSpPr>
        <p:spPr>
          <a:xfrm flipV="1">
            <a:off x="8893080" y="4076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Line 79"/>
          <p:cNvSpPr/>
          <p:nvPr/>
        </p:nvSpPr>
        <p:spPr>
          <a:xfrm flipV="1">
            <a:off x="9036000" y="4076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80"/>
          <p:cNvSpPr/>
          <p:nvPr/>
        </p:nvSpPr>
        <p:spPr>
          <a:xfrm>
            <a:off x="8820000" y="5084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81"/>
          <p:cNvSpPr/>
          <p:nvPr/>
        </p:nvSpPr>
        <p:spPr>
          <a:xfrm flipH="1">
            <a:off x="8820000" y="602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" name="Group 82"/>
          <p:cNvGrpSpPr/>
          <p:nvPr/>
        </p:nvGrpSpPr>
        <p:grpSpPr>
          <a:xfrm>
            <a:off x="250920" y="3860640"/>
            <a:ext cx="8424720" cy="635400"/>
            <a:chOff x="250920" y="3860640"/>
            <a:chExt cx="8424720" cy="635400"/>
          </a:xfrm>
        </p:grpSpPr>
        <p:sp>
          <p:nvSpPr>
            <p:cNvPr id="188" name="Line 83"/>
            <p:cNvSpPr/>
            <p:nvPr/>
          </p:nvSpPr>
          <p:spPr>
            <a:xfrm>
              <a:off x="468360" y="4003560"/>
              <a:ext cx="820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Line 84"/>
            <p:cNvSpPr/>
            <p:nvPr/>
          </p:nvSpPr>
          <p:spPr>
            <a:xfrm>
              <a:off x="468360" y="3931920"/>
              <a:ext cx="820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Line 85"/>
            <p:cNvSpPr/>
            <p:nvPr/>
          </p:nvSpPr>
          <p:spPr>
            <a:xfrm>
              <a:off x="53964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Line 86"/>
            <p:cNvSpPr/>
            <p:nvPr/>
          </p:nvSpPr>
          <p:spPr>
            <a:xfrm>
              <a:off x="183528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Line 87"/>
            <p:cNvSpPr/>
            <p:nvPr/>
          </p:nvSpPr>
          <p:spPr>
            <a:xfrm>
              <a:off x="327492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Line 88"/>
            <p:cNvSpPr/>
            <p:nvPr/>
          </p:nvSpPr>
          <p:spPr>
            <a:xfrm>
              <a:off x="471492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Line 89"/>
            <p:cNvSpPr/>
            <p:nvPr/>
          </p:nvSpPr>
          <p:spPr>
            <a:xfrm>
              <a:off x="615456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Line 90"/>
            <p:cNvSpPr/>
            <p:nvPr/>
          </p:nvSpPr>
          <p:spPr>
            <a:xfrm>
              <a:off x="7594560" y="3860640"/>
              <a:ext cx="0" cy="216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Text Box 91"/>
            <p:cNvSpPr/>
            <p:nvPr/>
          </p:nvSpPr>
          <p:spPr>
            <a:xfrm>
              <a:off x="250920" y="421956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Text Box 92"/>
            <p:cNvSpPr/>
            <p:nvPr/>
          </p:nvSpPr>
          <p:spPr>
            <a:xfrm>
              <a:off x="154764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Text Box 93"/>
            <p:cNvSpPr/>
            <p:nvPr/>
          </p:nvSpPr>
          <p:spPr>
            <a:xfrm>
              <a:off x="298764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Text Box 94"/>
            <p:cNvSpPr/>
            <p:nvPr/>
          </p:nvSpPr>
          <p:spPr>
            <a:xfrm>
              <a:off x="4427640" y="4219560"/>
              <a:ext cx="57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Text Box 95"/>
            <p:cNvSpPr/>
            <p:nvPr/>
          </p:nvSpPr>
          <p:spPr>
            <a:xfrm>
              <a:off x="586728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Text Box 96"/>
            <p:cNvSpPr/>
            <p:nvPr/>
          </p:nvSpPr>
          <p:spPr>
            <a:xfrm>
              <a:off x="7308720" y="4219560"/>
              <a:ext cx="5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1200" spc="-1" strike="noStrike">
                  <a:solidFill>
                    <a:srgbClr val="000000"/>
                  </a:solidFill>
                  <a:latin typeface="Tahoma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echodné ustanovenia AIFMD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Termín na implementáciu smernice AIFM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Tahoma"/>
              </a:rPr>
              <a:t>22. júla 2013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ovinnosť zosúladiť sa a požiadať o povolenie do 22. júla 20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Pre uzavreté AIF zostávajú zachované práva vyplývajúce z prospektovej smern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AIFM nemusia mať povolenie, 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pravujú uzavreté AIF vytvorené pred 22. júlom 2013 a po tomto dátume nevykonávajú nové investície, nemusia mať povoleni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pravujú uzavreté AIF, ktorých upisovacie obdobie sa skončilo pred 22. júlom 2013 a nie sú vytvorené na dlhšie ako 3 rok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Súčasný stav slovenskej legislatívy kolektívneho investovania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účasná úprava kolektívneho investovania je čiastočne pripravená na implementáciu smernice AIFM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Situácia je jednoduchšia pri licencovaných správcovských spoločnostiach spravujúcich špeciálne podielové fon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Existuje istá konzistencia s UCITS smernicou, avšak existuje veľa výnimiek a drobných rozdielo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V súčasnosti slovenská legislatíva neposkytuje priestor pre podnikanie v súčasnosti neregulovaných subjektov, ktoré budú pod úpravou AIFM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Chýba najmä flexibilita pri právnych formách osôb, ktoré budú kvalifikované ako AIFM a osôb, ktoré budú kvalifikované ako AI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Možné budúce zmeny legislatívy 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Nové právne formy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ávna forma AIF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 súčasnosti je povolená len forma akciovej spoločnosti – zvážiť aj prípadne iné obchodné spoloč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ávna forma A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 súčasnosti je povolená len forma podielového bez právnej subjek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Pre otvorený typ AIF (a prípade aj UCITS fondov) - Akciové spoločnosti s premenlivým základným imaním (SICA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Pre uzavretý typ AIF – akciová spoločnosť a ďalšie obchodné spoločnosti – spoločnosť s ručením obmedzeným, komanditná spoločnosť a verejná obchodná spoločnosť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388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Otázka je, či umožniť, aby k majetkovým podielom v týchto spoločnostiach mohli byť vydávané obchodovateľné cenné papiere – podpora slovenského kapitálového trh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ávne formy AIF by mali byť upravené v ZK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Ďalšie možné dopady implementácie AIFMD do právneho poriadku SR 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Väčšina smernice AIFMD by mohla byť implementovaná osobitným zákonom vo vzťahu k ZK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ento zákon by upravo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Správcov alternatívnych podielových fondov a ich právne for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odmienky výkonu ich č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epozitára AIF (s väzbou na úpravu depozitára podľa ZK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ransparentnosť a ďalšie osobitné ustanove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Cezhraničné vzťah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Dohľ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Tento zákon by neupravov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ávne formy AIF ako subjektov kolektívneho investovan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oduktovú reguláciu špeciálnych podielových fondo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Marketing retailovým investo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Možné budúce zmeny legislatívy 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Produktová regulácia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Extenzívna produktová regulácia by mala byť zachovaná pre verejné špeciálne podielové fon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mernica AIFMD nevyžaduje licencovanie samotných AI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iektoré (najmä rizikové) AIF by nemali byť licencované (typický príklad sú private equity a venture capital fondy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tázka je, ako pristúpiť k produktovej regulácie š.p.f. profesionálnych investoro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Riešenie inštitútu verejnej ponuky majetkových hodnôt podľa Zo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prekrýva sa predmetom úpravy AIFM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Obsah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čo bola prijatá nová smernic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Predmet úpravy – kto bude regulovaný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pad smernice na slovenský finančný tr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ýzvy a riziká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Ako smernicu implementovať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50560" y="4869000"/>
            <a:ext cx="8705880" cy="122400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Mgr. Júlia Čillíková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riaditeľka odboru regulácie a finančných analý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494a45"/>
                </a:solidFill>
                <a:latin typeface="Tahoma"/>
                <a:ea typeface="Tahoma"/>
              </a:rPr>
              <a:t>Národná banka Slovens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250560" y="4221000"/>
            <a:ext cx="8708760" cy="936720"/>
          </a:xfrm>
          <a:prstGeom prst="rect">
            <a:avLst/>
          </a:prstGeom>
          <a:noFill/>
          <a:ln w="0">
            <a:noFill/>
          </a:ln>
        </p:spPr>
        <p:txBody>
          <a:bodyPr rIns="0" t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3881"/>
                </a:solidFill>
                <a:latin typeface="Tahoma"/>
              </a:rPr>
              <a:t>Ďakujem za pozornosť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Smernica 2011/61/EÚ </a:t>
            </a:r>
            <a:br>
              <a:rPr sz="2800"/>
            </a:br>
            <a:r>
              <a:rPr b="1" lang="sk-SK" sz="2200" spc="-1" strike="noStrike">
                <a:solidFill>
                  <a:srgbClr val="003881"/>
                </a:solidFill>
                <a:latin typeface="Tahoma"/>
              </a:rPr>
              <a:t>Directive on managers of alternative investment funds </a:t>
            </a:r>
            <a:br>
              <a:rPr sz="2200"/>
            </a:br>
            <a:r>
              <a:rPr b="1" lang="sk-SK" sz="2800" spc="-1" strike="noStrike">
                <a:solidFill>
                  <a:srgbClr val="003881"/>
                </a:solidFill>
                <a:latin typeface="Tahoma"/>
              </a:rPr>
              <a:t>AIFMD</a:t>
            </a:r>
            <a:endParaRPr b="1" lang="en-US" sz="28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Pôvodné ciele Európskej komis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Zavedenie regulácie doteraz neregulovaných hedge fondov a private equity fondov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ástroj na obmedzenie systémového rizik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Ochrana investorov v AI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b003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ahoma"/>
              </a:rPr>
              <a:t>právo distribúcie profesionálnym investo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Harmonizácia a zavedenie jednotného trhu pre AIF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Dôsled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non-UCITS smernica“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Extenzívna regulácia, v mnohých prípadoch prísnejšia ako súčasný štandard pre retailové fond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Výrazne posilnené kompetencie ES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Značná legislatívna zložitosť a nezrelosť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Predmet úpravy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Smernica sa vzťahuj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a všetkých správcov alternatívnych investičných fondov (AIFM) so sídlom na území EÚ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na správcov alternatívnych investičných fondov (AIFM) so sídlom na mimo územia EÚ, ktorí spravujú alebo distribuujú na území EÚ alternatívne investičné fond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Alternatívny investičný fond (AIF)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Alternatívny investičný fond (AIF) je subjekt kolektívneho investovania, ktor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zhromažďuje kapitá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od viacerých investor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s cieľom investovať ho v súlade s vymedzenou investičnou politikou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v prospech týchto investorov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Tahoma"/>
              </a:rPr>
              <a:t>a nevyžaduje si povolenie podľa článku 5 smernice 2009/65/EÚ (UCITS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t.j. ide 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všetky špeciálne podielové fondy podľa ZKI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niektoré business modely spadajúce pod verejnú ponuku majetkových hodnôt 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ahoma"/>
              </a:rPr>
              <a:t>doteraz neregulované private equity a venture capital fon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„</a:t>
            </a: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Light“ režim smernice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2 režim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1500" spc="-1" strike="noStrike">
                <a:solidFill>
                  <a:srgbClr val="000000"/>
                </a:solidFill>
                <a:latin typeface="Tahoma"/>
              </a:rPr>
              <a:t>Plný“ reži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Tahoma"/>
              </a:rPr>
              <a:t>„</a:t>
            </a:r>
            <a:r>
              <a:rPr b="0" lang="sk-SK" sz="1500" spc="-1" strike="noStrike">
                <a:solidFill>
                  <a:srgbClr val="000000"/>
                </a:solidFill>
                <a:latin typeface="Tahoma"/>
              </a:rPr>
              <a:t>Light“ režim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AIFM, ktoré priamo alebo nepriamo spravujú AIF vo veľkosti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Tahoma"/>
              </a:rPr>
              <a:t>celkových AuM, vrátane akéhokoľvek majetku získaného cez leverage</a:t>
            </a: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, nepresahujúcich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100 miliónov EUR aleb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500 miliónov EUR, ak ide o AIF bez leverage a sú uzavreté aspoň na dobu 5 rok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obmedzená aplikácia AIFM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povinnosť registrácie (nie povolenia) u regulátora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reporting regulátorovi o hlavných investičných nástrojoch, expozíciách a koncentráciách majetku v AIF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podliehajú všeobecnému dohľadu podľa čl. 46 AIFM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Títo AIF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nemajú právo passpor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ahoma"/>
              </a:rPr>
              <a:t>môžu urobiť tzv. „opt-in“ – t.j. získať plnú licenciu a prejsť pod plný režim aplikácie AIFM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Kto bude regulovaný?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564000" y="1989000"/>
            <a:ext cx="1692360" cy="1015920"/>
          </a:xfrm>
          <a:prstGeom prst="rect">
            <a:avLst/>
          </a:prstGeom>
          <a:solidFill>
            <a:srgbClr val="00388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ahoma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619280" y="3141720"/>
            <a:ext cx="1152360" cy="91692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Test produkt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42920" y="4078440"/>
            <a:ext cx="2232000" cy="230544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Ide o AIF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Subjekt kolektívneho investovania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Zhromažďovanie majetk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Od viacerých investor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Definovaná investičná politik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Investovanie v prospech investor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924360" y="3141720"/>
            <a:ext cx="1152360" cy="64260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Test správc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419640" y="4078440"/>
            <a:ext cx="2232000" cy="231372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V rámci výnimk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Holdin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Dôchodkové fond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Poistné produkt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Sekuritizačné SP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Family office, joint-ventur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Zamestnanecké sché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3" name="AutoShape 10"/>
          <p:cNvCxnSpPr>
            <a:stCxn id="99" idx="3"/>
            <a:endCxn id="101" idx="1"/>
          </p:cNvCxnSpPr>
          <p:nvPr/>
        </p:nvCxnSpPr>
        <p:spPr>
          <a:xfrm>
            <a:off x="2784240" y="3474720"/>
            <a:ext cx="112788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04" name="Text Box 11"/>
          <p:cNvSpPr/>
          <p:nvPr/>
        </p:nvSpPr>
        <p:spPr>
          <a:xfrm>
            <a:off x="6443640" y="3141720"/>
            <a:ext cx="1152720" cy="642600"/>
          </a:xfrm>
          <a:prstGeom prst="rect">
            <a:avLst/>
          </a:prstGeom>
          <a:solidFill>
            <a:srgbClr val="003881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Režim AIFM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5796000" y="4078440"/>
            <a:ext cx="2376360" cy="1384560"/>
          </a:xfrm>
          <a:prstGeom prst="rect">
            <a:avLst/>
          </a:prstGeom>
          <a:solidFill>
            <a:srgbClr val="003881">
              <a:alpha val="5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Tahoma"/>
              </a:rPr>
              <a:t>Light reži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100 mil. / 500 mil. EUR limit (threshol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registrácia, reporting,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k-SK" sz="1200" spc="-1" strike="noStrike">
                <a:solidFill>
                  <a:srgbClr val="000000"/>
                </a:solidFill>
                <a:latin typeface="Tahoma"/>
              </a:rPr>
              <a:t>bez passportu (možný opt-i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5796000" y="5877000"/>
            <a:ext cx="2376360" cy="459720"/>
          </a:xfrm>
          <a:prstGeom prst="rect">
            <a:avLst/>
          </a:prstGeom>
          <a:solidFill>
            <a:srgbClr val="003881">
              <a:alpha val="7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ahoma"/>
              </a:rPr>
              <a:t>Plný reži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07" name="AutoShape 14"/>
          <p:cNvCxnSpPr>
            <a:stCxn id="101" idx="3"/>
            <a:endCxn id="104" idx="1"/>
          </p:cNvCxnSpPr>
          <p:nvPr/>
        </p:nvCxnSpPr>
        <p:spPr>
          <a:xfrm>
            <a:off x="5089680" y="3474720"/>
            <a:ext cx="134208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08" name="AutoShape 16"/>
          <p:cNvCxnSpPr>
            <a:stCxn id="105" idx="2"/>
            <a:endCxn id="106" idx="0"/>
          </p:cNvCxnSpPr>
          <p:nvPr/>
        </p:nvCxnSpPr>
        <p:spPr>
          <a:xfrm>
            <a:off x="6984720" y="5489280"/>
            <a:ext cx="1080" cy="375480"/>
          </a:xfrm>
          <a:prstGeom prst="straightConnector1">
            <a:avLst/>
          </a:prstGeom>
          <a:ln w="38160">
            <a:solidFill>
              <a:srgbClr val="003881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I. Dopad na slovenský finančný trh</a:t>
            </a:r>
            <a:br>
              <a:rPr sz="3200"/>
            </a:br>
            <a:r>
              <a:rPr b="1" lang="sk-SK" sz="3200" spc="-1" strike="noStrike">
                <a:solidFill>
                  <a:srgbClr val="003881"/>
                </a:solidFill>
                <a:latin typeface="Tahoma"/>
              </a:rPr>
              <a:t>Licencované správcovské spoločnosti</a:t>
            </a:r>
            <a:endParaRPr b="1" lang="en-US" sz="32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Z veľkej časti pripravené na AIFMD – značná konzistencia smerníc UCITS a AIFM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Správa špeciálnych fondov si bude vyžadovať druhé povolenie pre správcu (alebo registráciu, v prípade „light“ reži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Tahoma"/>
              </a:rPr>
              <a:t>Legislatívna dvojkoľajnosť regulác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UCITS smernica </a:t>
            </a:r>
            <a:r>
              <a:rPr b="0" lang="sk-SK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transpozícia do ZKI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AIFMD smernica </a:t>
            </a:r>
            <a:r>
              <a:rPr b="0" lang="sk-SK" sz="2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 čiastočná transpozícia do slovenského právneho poriadku + priame nariadenia EK a regulačné technické štandardy ESM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550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Tahoma"/>
              </a:rPr>
              <a:t>Zvýšené náklady na prispôsobenia a compli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3881"/>
                </a:solidFill>
                <a:latin typeface="Tahoma"/>
              </a:rPr>
              <a:t>II. Depozitári</a:t>
            </a:r>
            <a:endParaRPr b="1" lang="en-US" sz="3600" spc="-1" strike="noStrike">
              <a:solidFill>
                <a:srgbClr val="003881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Režim depozitára značne prekonáva štandard UCITS smern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Depozitárska úschova a s ňou spojená objektívna zodpovednosť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88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600" spc="-1" strike="noStrike">
                <a:solidFill>
                  <a:srgbClr val="000000"/>
                </a:solidFill>
                <a:latin typeface="Tahoma"/>
              </a:rPr>
              <a:t>Vyššia miera detailu regulácie – vyššia administratívna zaťaženi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Dočasná materiálna rozdielnosť v regulácii až do implementácie smernice UCITS 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Tahoma"/>
              </a:rPr>
              <a:t>Neskôr legislatívna dvojkoľajnosť regulácie činnosti depozitára pre UCITS fondy a pre AI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11:29:03Z</dcterms:created>
  <dc:creator>User</dc:creator>
  <dc:description/>
  <dc:language>en-US</dc:language>
  <cp:lastModifiedBy>Jana Michalíková - AKAT</cp:lastModifiedBy>
  <dcterms:modified xsi:type="dcterms:W3CDTF">2012-04-24T12:45:13Z</dcterms:modified>
  <cp:revision>55</cp:revision>
  <dc:subject/>
  <dc:title>Slide 1</dc:title>
</cp:coreProperties>
</file>