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A9A1-A6E0-4633-87E5-33293296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B8B5-C7F2-4974-A63B-EE38DA4A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D02F-4921-4BE9-B6A5-FFADDC3AD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BEBE-D8B9-4477-9AC4-E30699660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7091-A66D-4913-888A-562C4938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A100-1EE4-4C11-BEC7-266EFFE3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EDC4F-C00E-44EB-B466-E5A85C09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E9C6-3726-4D8A-8D30-FF546AA2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B1A5-02DD-4497-A8E2-648B8F99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FB6B-5930-43A1-A6A7-DEDB8BD4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B6D8-BD9F-4023-A6A2-C6F30DAA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766-D107-4F3F-B11D-C76BE076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E36A-DCFA-4049-BF7E-CA80DDE73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C787-9195-4AD4-9BA6-4439E664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F7BB-C1C5-4C01-8486-DBBB4263B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7CD3-14EB-4241-B647-9D37F3AF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D0F13-EB2E-45E3-AADC-6FFE5E12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5E81-EC9A-4FE5-BE00-31975D3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5850-ACB7-4C9C-BF58-46C7E388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7F62-D4B5-42BF-9C34-87B74A6A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E9C1-42FC-44C2-9654-5B5E0F79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0D4-7EB1-4B27-8325-C22BC6EA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C0A3-B1DC-4187-B3D3-B190AF7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7E2-1C0A-4518-90B5-2D597E0D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9A7B-6B7C-444C-8F02-F122314844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8ABA-A83E-4713-B0F0-95AA6428D689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tomas.ambra@nbs.sk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ffffff"/>
                </a:solidFill>
                <a:latin typeface="Tahoma"/>
              </a:rPr>
              <a:t>Výzvy nových smerníc týkajúce sa depozitárov</a:t>
            </a:r>
            <a:br>
              <a:rPr sz="40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POŽIADAVKY NA DEPOZITÁROV PO SMERNICI AIFMD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26. apríl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 a finančných analý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olaterál a SP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Custody“ režim sa vzťahuje aj na finančné nástroje poskytnuté alebo prijaté ako kolaterál, ak k nim nezaniklo alebo vzniklo vlastnícke právo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a režimy sa vzťahujú na „look-through“ bá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To znamená aj vo vzťahu k právnickým osobám alebo k finančným štruktúram priamo alebo nepriamo kontrolovaným fond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bjektívna zodpovednosť depozitár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„custody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bjektívna zodpovednosť za stratu finančných nástrojov v custody (alebo v sub-custody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trata finančného nástroj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sa zistí, že vlastnícke právo fondu zaniklo alebo nikdy neexistova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bol fond definitívne pozbavený vlastníckeho práv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k vlastnícke právo stále existuje, ale nemožno finančný nástroj priamo alebo nepriamo scudziť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osť prevodu objektívnej zodpoved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jektívnu zodpovednosť za finančné nástroje v sub-custody možno kontraktuálne previesť na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revod zodpovednosti písomnou zmluvou medzi depozitárom a sub-custodianom, ktorá umožňuje správcovi resp. fondu žiadať náhradu v prípade straty finančných nástroj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ísomná zmluva medzi depozitárom a správcom výslovne umožňuje prevod zodpovednosti a ustanovuje objektívny dôvod na takýto prevo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osť liberácie depozitára z objektívnej zodpoved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sa môže z objektívnej zodpovednosti liberovať, ak vie preukázať, ž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trata vznikla v dôsledku externej udalost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torej vznik nemohol ovplyvniť a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torej dôsledkom nebolo napriek všetkému odôvodnenému úsiliu možné zabráni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Zodpovednosť depozitára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evel 2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539640" y="2492280"/>
            <a:ext cx="1692360" cy="459720"/>
          </a:xfrm>
          <a:prstGeom prst="rect">
            <a:avLst/>
          </a:prstGeom>
          <a:solidFill>
            <a:srgbClr val="003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Str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916360" y="1989000"/>
            <a:ext cx="1657080" cy="916920"/>
          </a:xfrm>
          <a:prstGeom prst="rect">
            <a:avLst/>
          </a:prstGeom>
          <a:solidFill>
            <a:srgbClr val="ff0000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zodpovednos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79280" y="3068640"/>
            <a:ext cx="2232000" cy="21016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000000"/>
                </a:solidFill>
                <a:uFillTx/>
                <a:latin typeface="Tahoma"/>
              </a:rPr>
              <a:t>Finančný nástroj v custody sa považuje za stratený a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Už neexistuje alebo nikdy neexistoval (frau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tále existuje, ale AIF natrvalo stratil k nemu vlastnícke práv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81080" indent="-181080"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AIF má vlastnícke právo, ale nemôže finančný nástroj trvalo scudziť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203640" y="2924280"/>
            <a:ext cx="1152360" cy="5806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Vonkajšia udalos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843280" y="5157720"/>
            <a:ext cx="1800000" cy="1554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ásledkom ktorej by sa napriek všetkej primeranej snahe nedalo vyhnú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132000" y="3933720"/>
            <a:ext cx="1297080" cy="82404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emožnosť primerane ovplyvniť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3564000" y="3645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3564000" y="4869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3564000" y="2637000"/>
            <a:ext cx="43164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8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5724360" y="2133720"/>
            <a:ext cx="1582920" cy="137160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Udalosť vedúca k strate nebola výsledkom konania alebo opomenutia depozitára alebo jedného z sub-custodianov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724360" y="3933720"/>
            <a:ext cx="1582920" cy="82404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epozitár nemohol zabrániť vzniku udalosti v rámci primeranej snah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724360" y="5300640"/>
            <a:ext cx="1582920" cy="1189080"/>
          </a:xfrm>
          <a:prstGeom prst="rect">
            <a:avLst/>
          </a:prstGeom>
          <a:noFill/>
          <a:ln w="19080">
            <a:solidFill>
              <a:srgbClr val="00388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Napriek rozsiahlej a dôslednej odbornej starostlivosti depozitár nemohol zabrániť strat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Line 15"/>
          <p:cNvSpPr/>
          <p:nvPr/>
        </p:nvSpPr>
        <p:spPr>
          <a:xfrm flipV="1">
            <a:off x="4356000" y="2708280"/>
            <a:ext cx="1368360" cy="50472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Line 16"/>
          <p:cNvSpPr/>
          <p:nvPr/>
        </p:nvSpPr>
        <p:spPr>
          <a:xfrm flipV="1">
            <a:off x="4427640" y="4365360"/>
            <a:ext cx="1296720" cy="7308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7"/>
          <p:cNvSpPr/>
          <p:nvPr/>
        </p:nvSpPr>
        <p:spPr>
          <a:xfrm flipV="1">
            <a:off x="4643280" y="5877000"/>
            <a:ext cx="1081080" cy="1440"/>
          </a:xfrm>
          <a:prstGeom prst="line">
            <a:avLst/>
          </a:prstGeom>
          <a:ln cap="rnd" w="19080">
            <a:solidFill>
              <a:srgbClr val="003881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ontrolné funkcie depozitár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5 kontrolných funkcií (totožných s UCITS smernicou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vydávania a vyplácania podiel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oceňovania a výpočtu NA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lnenie (a kontrola) pokynov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dodržiavania obvyklých lehôt protiplnen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Kontrola rozdeľovania výnosov (dividend) z AI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ová kontrolná funkcia – monitoring cash-flow fon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5 štandardných kontrolných funkcií depozitár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Upresnenie obsahu týchto funkcií vychádzajúcich z UCITS smer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Značne v zhode so súčasným znením rekodifikovaného ZKI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Potvrdenie princíp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ýkonu kontrolných činností na ex-post báz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kontroly správnosti procesov a postupov správcu (nie kontrola výsledk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yššia miera detailu – upresnenie postupov depozitára pri výkone kontrolných činnost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Monitoring cash flow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overuje, či sú zabezpečené postupy sledovania cash flow AIF, t.j. č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Hotovosť je uložená na účtoch AIF /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istujú postupy rekoncilácie cash flow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Identifikácia významných transakcií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view a overovanie konzistencie medzi svojimi záznamami a záznamami AIF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avidlá činnosti depozitár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 nesmie vykonávať aktivity ohľadne AIF / AIFM, ktoré by mohli vytvárať konflikt záujmov medzi AIF, jeho investormi, AIFM a depozitárom, iba ak má depozitár funkčne a hierarchicky oddelený výkon depozitárskych činností a je ošetrený konflikt záujmo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tíva v custody nesmú byť používané depozitárom (re-hypotekácia) bez predchádzajúceho súhlasu AIF /AIFM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UCITS V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ávrh smernice UCITS V sa očakáva v lete 20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pre UCITS fondy by mal byť založený na regulácii depozitárov podľa AIF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eďže UCITS sú vnímané ako retailový produkt, niektoré ustanovenia budú prísnejšie / menej flexibilné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Menší rozsah prípustných osôb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emožnosť kontraktuálne previesť objektívnu zodpovednos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ové smernice týkajúce sa depozitárov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Smernica 2011/61/EÚ – AIFM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tenzívna regulácia depozitárov alternatívnych investičných fondo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oplňujúce Nariadenie E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aložené na technickej pomoci E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sa konzultuje na úrovni Európskeho parlamentu a R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Budúca novelizácia smernice UCITS – </a:t>
            </a:r>
            <a:r>
              <a:rPr b="1" lang="sk-SK" sz="2800" spc="-1" strike="noStrike">
                <a:solidFill>
                  <a:srgbClr val="000000"/>
                </a:solidFill>
                <a:latin typeface="Tahoma"/>
              </a:rPr>
              <a:t>UCITS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Minimálne tak striktný režim ako pri AIFM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Ing. Tomáš Ambr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Odbor regulácie a finančných analýz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 u="sng">
                <a:solidFill>
                  <a:srgbClr val="7f9bc0"/>
                </a:solidFill>
                <a:uFillTx/>
                <a:latin typeface="Tahoma"/>
                <a:ea typeface="Tahoma"/>
                <a:hlinkClick r:id="rId1"/>
              </a:rPr>
              <a:t>tomas.ambra@nbs.s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494a45"/>
                </a:solidFill>
                <a:latin typeface="Tahoma"/>
                <a:ea typeface="Tahoma"/>
              </a:rPr>
              <a:t>tel.: 02 5787 3363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Regulácia depozitárov podľa smernice AIFMD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Širšie spektrum prípustných osôb na výkon činnosti depozitá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ska úscho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bjektívna zodpovednosť za finančné nástroje v rámci „custody“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gulácia sub-custo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Kontrolné činnosti depozitá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ozšírenie a spresnenie súčasného rozsahu oproti smernici UCITS IV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Depozitárska úschova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šetky aktíva alternatívneho investičného fondu musia byť zverené do depozitárskej úschov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pozitárska úschova sa delí na dva reži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Custody“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verovanie vlastníctva a vedenie záznamov („record-keeping“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V závislosti od režimu depozitárskej úschovy sa odvodzuje zodpovednosť depozitára za zverený majetok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Custo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ozsah - všetky finančné nástroje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toré môžu byť registrované na účte u depozitára a možno ich držať v priamo alebo nepriamo v mene depozitár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materializované prevoditeľné cenné papiere, nástroje peňažného trhu a cenný papiere subjektov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ktoré nie sú registrované priamo u emitenta alebo jeho agenta (registrára alebo transfer agent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 ďalej všetky finančné nástroje, ktoré môžu byť fyzicky dodané depozitárov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Listinné cenné papie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Špecifické povinnosti depozitára pri „custody“ režim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Finančné nástroje musia byť registrované na segregovanom účte u depozitá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Záznamy a účty depozitára musia korešpondovať a aktuálnym stavom majetku AIF zvereného depozitárovi do úschov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vykonávať rekoncilácie medzi internými účtami a záznamami depozitára a akéhokoľvek sub-custodiana, ktorému bola custody majetku zveren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ovinnosť vykonávať odbornú starostlivosť ohľadne finančných nástrojov držaných v custo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monitorovať a vyhodnocovať riziko custody v rámci celého custody reťaz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prijať organizačné opatrenia, aby sa minimalizovalo riziko straty finančných nástrojov v dôsledku podvodu, nesprávnych administratívnych postupov, zlej registrácie alebo opomenutia povinností depozitár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Je potrebné overiť vlastnícke práva fondu k predmetným finančným nástrojom v custod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Overovanie vlastníctva a vedenie záznamov („record-keeping)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Tomuto režimu depozitárskej úschovy podliehajú všetky aktíva fondu, ktoré nespadajú pod režim „custody“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ovinnosť overovať vlastnícke práva fondu nad týmito aktívami a viesť o nich záznam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Overovanie sa vykoná na základe dokumentov od správcu a ak je to možné aj od tretích strá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vinnosti depozitára pri „record-keeping“ režim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a je povinný zabezpečiť prístup depozitára k potrebným dokumentom od tretích str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Je potrebné zabezpečiť, aby depozitár mal k dispozícii dostatočné a spoľahlivé informácie na overenie vlastníckych práv fon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 musí byť schopný kedykoľvek poskytnúť aktuálny zoznam majetku fondu v vrátane nominálnych hodnô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 musí zabezpečiť, a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Aktíva nemohli byť prevedené, vymenené alebo dodané bez jeho súhlasu aleb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l okamžitý prístup k údajom o každej transakcii od tretích strá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Overovanie správneho registrovanie predmetných aktív a porovnávanie vlastných záznamov o majetku fondu a záznamov správc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Sub-custod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elegovať možno nielen custody, ale aj overovaciu a záznamovú povinnosť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bjektívny dôvod na delegovan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Odborná starostlivosť pri výbere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Expertíza a zdroje sub-custodia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Regulácia a dohľad nad sub-custodiano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Segregácia aktív u sub-custodian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iebežný monitoring sub-custodi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2-04-24T12:45:43Z</dcterms:modified>
  <cp:revision>55</cp:revision>
  <dc:subject/>
  <dc:title>Slide 1</dc:title>
</cp:coreProperties>
</file>