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F3C4-E095-425C-90C3-93A97A4DA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DD23-9D03-495C-A580-3044BAB558A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67B4-DE53-485D-A37C-4B33BBC842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F61D-A759-4C71-8577-4A8B1CC65A1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41FBA-BDCE-4763-B242-D88B869E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92100-CAA1-4EBD-B4E7-5EB26722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A784-14D0-4E52-93E6-4773115A5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CC1C5-1506-4524-88FC-70FB86363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F697-3B99-4FBD-A5E5-64CFD55C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6DAEA-DC8B-450F-AA18-1501794D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1C28-4BE8-4506-B5D9-F05EDED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F058-A06B-4738-98DD-45D6DC78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7C291-44CF-4BF9-B393-89C17194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4CF8E-4B8A-4D5D-8789-E978B0A4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3D9C7-1145-4AE2-B98D-C83CE1C0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014E8-A7FB-4353-B986-7614956A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2E8-1DC4-4C5B-A640-E267EB12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EBDF-3EA8-4226-A2EB-D5ACA3F1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C9F5-F9CF-49E5-A67D-381862F9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279A-7A9B-44A6-BB47-6F297655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DFBF-4C5F-4476-8DEC-F2542D16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D0D7-66C4-48A5-A94F-83ADF6BC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B5BD-B947-4FDE-856A-A7315B28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5CBD-FDA0-4D53-9572-BED7222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E64DC-C52F-4026-966C-3D2412EB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0F27-9297-4C13-A639-B952861B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26482-3B4A-40B8-B92D-D002C6CA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CB99C-4B42-435A-9103-D2DEA1F2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B287-BA13-45B5-85B4-7A7FCC2619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B26-B744-43AA-AEDB-8AF93C39400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daniela.dolezalova@mf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174132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e5e5ff"/>
                </a:solidFill>
                <a:latin typeface="Garamond"/>
              </a:rPr>
              <a:t>AIFMD – Level II Measure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oporučení ESMA a návrh Evropské komise ohledně depozitář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Garamond"/>
              </a:rPr>
              <a:t>Next Steps in Asset Management 2012</a:t>
            </a:r>
            <a:r>
              <a:rPr b="0" lang="en-GB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Bratislava, 26. dubna 2012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5e5ff"/>
                </a:solidFill>
                <a:latin typeface="Garamond"/>
              </a:rPr>
              <a:t>Depozitáře (článek 21 AIFMD)</a:t>
            </a:r>
            <a:r>
              <a:rPr b="1" lang="cs-CZ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Vymezení finančních nástrojů, které by měly být v opatrování (custody) a úschově (safe-keeping) podle AIFMD a podle návrhu ESMA a EK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Chybí vymezení „financial instrument accounts“ (vlastnické účty vedené pro AIF podle AIFMD, nikoliv podle ESMA); co je vlastně „custody“ a „sub-custody“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Nejasný právní režim kolaterálů, zejména z hlediska odpovědnosti za ztrátu, možné změny charakteru aktiv (cenné papíry-kolaterál-konverze závazků-závěrečné vyrovnání v peněžních prostředcích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Budou depozitáře fungovat jako „garanční fond“ při centrálním clearingu kvůli excesivní odpovědnosti? (otázka právního režimu margins –plná segregace versus omnibus účty a sdílení ztráty „pro rata“ mezi klienty, právo CCP nakládat s kolaterálem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Garamond"/>
              </a:rPr>
              <a:t>Pravidla úschovy „safe-keeping“ pro derivátové kontrakty – nereflektují nařízení EMIR (např. proč duplicita činnosti trade repositories?);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5e5ff"/>
                </a:solidFill>
                <a:latin typeface="Garamond"/>
              </a:rPr>
              <a:t>Závěr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Garamond"/>
              </a:rPr>
              <a:t>Místo nadávání na Brusel je třeba začít hrát aktivní roli při tvorbě EU legislativy, zapojit se do pracovních skupin ESMA a snažit se věcně korigovat nadměrnou a mnohdy nepromyšlenou regulaci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Garamond"/>
              </a:rPr>
              <a:t>Děkuji za pozornost</a:t>
            </a: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Kontakt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Daniela Doležalová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Ministerstvo financí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Letenská 15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118 10 Praha 1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Tel. 257042957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Garamond"/>
              </a:rPr>
              <a:t>Email: </a:t>
            </a:r>
            <a:r>
              <a:rPr b="0" lang="cs-CZ" sz="1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daniela.dolezalova@mfcr.cz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50:40Z</dcterms:created>
  <dc:creator>12207</dc:creator>
  <dc:description/>
  <dc:language>en-US</dc:language>
  <cp:lastModifiedBy>Jana Michalíková - AKAT</cp:lastModifiedBy>
  <dcterms:modified xsi:type="dcterms:W3CDTF">2012-04-24T12:48:14Z</dcterms:modified>
  <cp:revision>20</cp:revision>
  <dc:subject/>
  <dc:title>Snímek 1</dc:title>
</cp:coreProperties>
</file>