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move the slide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B96F-75B6-44F8-ADA7-4A028D542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ůst zamětnanců z 30/CESR na 100/E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počet rostě úměrně tom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stou i ambice v oblast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ohl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formačních povinností (omnibus direktiv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tifikace 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Single Ruleboo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40 technickcých standardů (OTC, deriváty, AIF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Level 2 Advice – považovaná za vybalancovaný s ohledem na zásadní připomínky člen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K připravila návrh implementační direktivy, kterou představí co nevidě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F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depozitá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výpočet leverage, total as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3. země – guidline k MoU, aby se esma nemontova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blém – off-shore- GB/Kajmanské fondy, je otázka zda se zapoj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ESMA chce zapojit IO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tázky důvěrnosti a on-site k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Money market fon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ustupuje se od kritéria kreditního ratingu státních dluhopis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RA upouštní od přeceňování rating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TS k remmuneration založené na 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BA0CE-4EE5-4017-B531-1AC9ED073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724CA-F379-4A2C-BCAF-1366D29C3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05147-F59B-488D-9C6E-3532EB78F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94C3E-4B53-4425-A4DB-FFB952B77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6CC6-49DE-4876-96B9-7576FBBDC6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872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9040" y="90756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872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9040" y="3766680"/>
            <a:ext cx="257256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D6062-36DC-461A-B188-46A43079E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488A-B01C-4A3F-A165-FAA3F3136F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A2B56-5EA7-47E4-9905-9385047E2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79640" y="76320"/>
            <a:ext cx="59040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D5973-B932-4F57-BD21-4766EEA763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84419-71C7-4CE3-870C-61725CF45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0080" y="376668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CD9EE-9159-4E03-9978-C4EDC61EE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907560"/>
            <a:ext cx="389880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989840" cy="261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C9AF7-A1BB-4D4E-900B-79DB157AC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CNB_prezentace_2_2bila_lista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453000"/>
            <a:ext cx="21337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1D06-A016-44E6-B1A1-1C909AB5D1F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0" descr="CNB_prezentace_2_2bila_lista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f7c"/>
                </a:solidFill>
                <a:latin typeface="Arial Narrow"/>
              </a:rPr>
              <a:t>Click to edit the title text forma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3" marL="1600200" indent="-23004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3f7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f7c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nb.cz/" TargetMode="External"/><Relationship Id="rId2" Type="http://schemas.openxmlformats.org/officeDocument/2006/relationships/hyperlink" Target="mailto:alena.sebestova@cnb.cz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79640" y="92160"/>
            <a:ext cx="590544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Spolupráce regulátorů v ESMA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779640" y="2924280"/>
            <a:ext cx="467964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f7c"/>
                </a:solidFill>
                <a:latin typeface="Arial Narrow"/>
              </a:rPr>
              <a:t>Aktuality ESMA</a:t>
            </a:r>
            <a:endParaRPr b="0" lang="en-US" sz="40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f9bc8"/>
                </a:solidFill>
                <a:latin typeface="Arial Narrow"/>
              </a:rPr>
              <a:t>Alena Šebestová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Sekce regulace a mezinárodní spolupráce na finančním trhu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Konference Next Steps in Asset Management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5f9bc8"/>
                </a:solidFill>
                <a:latin typeface="Arial Narrow"/>
              </a:rPr>
              <a:t>Bratislava 26. 4. 2012</a:t>
            </a:r>
            <a:endParaRPr b="0" lang="en-US" sz="1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BCB3-84B5-4314-85AC-B0D598639F3A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Co je ESMA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ESMA - European Securities and Markets Authority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f9bc8"/>
                </a:solidFill>
                <a:latin typeface="Arial Narrow"/>
              </a:rPr>
              <a:t>Nezávislá agentura EU (dříve CESR)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f9bc8"/>
                </a:solidFill>
                <a:latin typeface="Arial Narrow"/>
              </a:rPr>
              <a:t>Spolupráce evropských regulátorů v oblasti kapitálového trhu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f7c"/>
                </a:solidFill>
                <a:latin typeface="Arial Narrow"/>
              </a:rPr>
              <a:t>Organizace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Board of Supervisors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Internal committees and panels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9bc8"/>
                </a:solidFill>
                <a:latin typeface="Arial Narrow"/>
              </a:rPr>
              <a:t>Investment Standing committee pro fondovou oblast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lnSpc>
                <a:spcPct val="90000"/>
              </a:lnSpc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9bc8"/>
                </a:solidFill>
                <a:latin typeface="Arial Narrow"/>
              </a:rPr>
              <a:t>Review panel, ESMA-Pol…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Management Board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Chair + 6 členů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Executive Director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Staff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f7c"/>
                </a:solidFill>
                <a:latin typeface="Arial Narrow"/>
              </a:rPr>
              <a:t>Joint Committee of ESAs</a:t>
            </a:r>
            <a:endParaRPr b="0" lang="en-US" sz="2400" spc="-1" strike="noStrike">
              <a:solidFill>
                <a:srgbClr val="003f7c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Průřezová témata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E0B8-76DB-4404-B970-10E0A55EC09F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Formy práce ESMA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5f9bc8"/>
                </a:solidFill>
                <a:latin typeface="Arial Narrow"/>
              </a:rPr>
              <a:t>Lamfalussy proces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1 – Směrnice, Nařízení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Obecná stanoviska, technické rady Komisi EU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2 – Prováděcí směrnice, prováděcí nařízení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Větší role než CERS, návrhy prováděcích předpisů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Regulatory technical standards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3 - Guidelines a Recommendations pro orgány dohledu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spcBef>
                <a:spcPts val="45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9bc8"/>
                </a:solidFill>
                <a:latin typeface="Arial Narrow"/>
              </a:rPr>
              <a:t>Princip - Comply or explain</a:t>
            </a:r>
            <a:endParaRPr b="0" lang="en-US" sz="18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550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f9bc8"/>
                </a:solidFill>
                <a:latin typeface="Arial Narrow"/>
              </a:rPr>
              <a:t>Level 4 </a:t>
            </a:r>
            <a:endParaRPr b="0" lang="en-US" sz="22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Questions/Answers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Operational task force (dohledová spolupráce)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Fast track procedure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C4A8D-C07C-4F1A-938E-E30A9DE7668D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"/>
              </a:rPr>
              <a:t>Aktuální témata z oblasti fondů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07560"/>
            <a:ext cx="79898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AIFMD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Level 2 Advice 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MoU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9bc8"/>
                </a:solidFill>
                <a:latin typeface="Arial Narrow"/>
              </a:rPr>
              <a:t>Regulatory technical standard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3" marL="1600200" indent="-230040">
              <a:spcBef>
                <a:spcPts val="499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9bc8"/>
                </a:solidFill>
                <a:latin typeface="Arial Narrow"/>
              </a:rPr>
              <a:t>Remuneration guidelines </a:t>
            </a:r>
            <a:endParaRPr b="0" lang="en-US" sz="20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Venture fondy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Social fund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5f9bc8"/>
                </a:solidFill>
                <a:latin typeface="Arial Narrow"/>
              </a:rPr>
              <a:t>Shadow banking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UCITS V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f9bc8"/>
                </a:solidFill>
                <a:latin typeface="Arial Narrow"/>
              </a:rPr>
              <a:t>Money market funds – revize guidelines</a:t>
            </a:r>
            <a:endParaRPr b="0" lang="en-US" sz="2400" spc="-1" strike="noStrike">
              <a:solidFill>
                <a:srgbClr val="5f9bc8"/>
              </a:solidFill>
              <a:latin typeface="Arial Narrow"/>
            </a:endParaRPr>
          </a:p>
          <a:p>
            <a:pPr lvl="1" marL="743040" indent="-285840">
              <a:spcBef>
                <a:spcPts val="649"/>
              </a:spcBef>
              <a:buClr>
                <a:srgbClr val="ff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9bc8"/>
                </a:solidFill>
                <a:latin typeface="Arial Narrow"/>
              </a:rPr>
              <a:t>PRIPS (packaged retail investment products</a:t>
            </a:r>
            <a:endParaRPr b="0" lang="en-US" sz="2600" spc="-1" strike="noStrike">
              <a:solidFill>
                <a:srgbClr val="5f9bc8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6553080" y="6453360"/>
            <a:ext cx="2133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8DCB-3C2A-40F9-BA34-49C7393881A2}" type="slidenum">
              <a:rPr b="0" lang="en-CA" sz="1200" spc="-1" strike="noStrike">
                <a:solidFill>
                  <a:srgbClr val="003f7c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f7c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640" y="76320"/>
            <a:ext cx="5904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f7c"/>
                </a:solidFill>
                <a:latin typeface="Arial Narrow"/>
              </a:rPr>
              <a:t>Děkujume za pozornost</a:t>
            </a:r>
            <a:endParaRPr b="1" lang="en-US" sz="2000" spc="-1" strike="noStrike">
              <a:solidFill>
                <a:srgbClr val="003f7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632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1"/>
              </a:rPr>
              <a:t>www.cnb.cz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Alena Šebestová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f7c"/>
                </a:solidFill>
                <a:latin typeface="Arial Narrow"/>
              </a:rPr>
              <a:t>Sekce regulace a mezinárodní spolupráce na finačním trhu</a:t>
            </a:r>
            <a:endParaRPr b="0" lang="en-US" sz="2000" spc="-1" strike="noStrike">
              <a:solidFill>
                <a:srgbClr val="003f7c"/>
              </a:solidFill>
              <a:latin typeface="Arial Narrow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5f9bc8"/>
                </a:solidFill>
                <a:uFillTx/>
                <a:latin typeface="Arial Narrow"/>
                <a:hlinkClick r:id="rId2"/>
              </a:rPr>
              <a:t>alena.sebestova@cnb.cz</a:t>
            </a:r>
            <a:r>
              <a:rPr b="0" lang="cs-CZ" sz="2800" spc="-1" strike="noStrike">
                <a:solidFill>
                  <a:srgbClr val="003f7c"/>
                </a:solidFill>
                <a:latin typeface="Arial Narrow"/>
              </a:rPr>
              <a:t>  </a:t>
            </a:r>
            <a:endParaRPr b="0" lang="en-US" sz="2800" spc="-1" strike="noStrike">
              <a:solidFill>
                <a:srgbClr val="003f7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7T12:09:39Z</dcterms:created>
  <dc:creator>U00139</dc:creator>
  <dc:description/>
  <dc:language>en-US</dc:language>
  <cp:lastModifiedBy>Jana Michalíková - AKAT</cp:lastModifiedBy>
  <dcterms:modified xsi:type="dcterms:W3CDTF">2012-04-25T13:06:52Z</dcterms:modified>
  <cp:revision>61</cp:revision>
  <dc:subject/>
  <dc:title>Český název přednášky/akce</dc:title>
</cp:coreProperties>
</file>