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BFAEF-B3D2-45E7-A5E9-57360EB18F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325D-361D-43AB-9BF7-99BB857CBA0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90F4-7431-424A-B06B-F60F090F344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B569-01FA-4EEB-89DE-369CCE39693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EA6DB-232C-4906-93EA-158631D5358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D87BE-8C1F-4A36-A9DD-2E5AD89B7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178D5-EBE9-4F11-93F8-A6FE87C82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A03B9-5754-4A56-821E-F4C7D6C6A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17B41-76BE-417B-A6F1-90694DD47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781D-4822-4166-87AE-028B52A90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300E-6A90-48E4-8FD3-DA773807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BC61-B78C-4B10-A420-EB33F54A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E163-D898-44F2-9673-72ADA680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5B8AF-A176-41FC-9574-9B51A0E4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9D26-A6B7-4ED6-B314-D97689A8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1099-9D91-4D0E-85B1-150E2563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844F2-BF9A-4EBC-AAB3-B4C972CE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3C75-CC4E-47C9-91AD-44C53429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5082-8D67-4E9A-92BC-654E7CA5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F411-9A27-45BE-B9F6-97D03C1E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B2D2-5747-4B2E-86F8-B99E958AC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55F1-45D6-4786-8FE6-E30EB83AE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15976-8D24-4F47-9A7F-C8BB2107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3EF20-8807-40CC-95C6-BA918D5C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28F84-6111-4E3B-A864-5CF0045B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12D82-2263-47AB-8CB9-00920BAA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27B26-DB38-4686-916F-FEE3FA78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6BE16-37E6-47E1-A010-C4DF3ABE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E3889-AB22-4FE8-AD47-7E3A6A29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3E42-2F9E-4742-88BC-1DCAAE8BC3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33160-8E5E-4DE3-94A5-E689B8C0B5A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daniela.dolezalova@mfcr.cz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MiFID II/MiFI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3068280"/>
            <a:ext cx="8291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Garamond"/>
              </a:rPr>
              <a:t>Nejpodstatnější problematické okruhy pro Č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Garamond"/>
              </a:rPr>
              <a:t>Next Steps in Asset Management 2012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Garamond"/>
              </a:rPr>
              <a:t>Bratislava, 26. dubna 2012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5e5ff"/>
                </a:solidFill>
                <a:latin typeface="Garamond"/>
              </a:rPr>
              <a:t>MiFID/MiFIR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„</a:t>
            </a: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Blanketní“ forma návrhu, faktický přesun pravomocí na EK a ESMA – ČR požaduje mnohem detailnější vymezení pravidel již na „level I“; špatně nastavená pravidla na level II by například výrazně prodražila korporátní i státní financování a zajišťování proti rizikům;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Pre-trade transparency ohledně obchodů s dluhovými nástroji a deriváty - nerespektuje odlišný charakter obchodů s těmito finančními instrumenty od obchodů s akciemi (maturity, counterparty credit risk contra settlement risk, rozdílná likvidita a frekvence obchodování, složení a počet účastníků na trhu atd.) – ČR požaduje vyjmout „wholesale market“ a zavést pravidla pouze pro vysoce likvidní aktiva; nutné oddělit pravidla pro dluhové nástroje a deriváty; ideální by bylo fázování celého procesu (začít s post-trade transparencí a postupně rozšiřovat regulaci i na před-obchodní fázi u nejlikvidnějších aktiv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5e5ff"/>
                </a:solidFill>
                <a:latin typeface="Garamond"/>
              </a:rPr>
              <a:t>MiFID/MiFIR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Regulace OTF a SI – ČR požaduje zachování pro OTF obchodování na vlastní účet, zachování hybridních i voice broking platforem; SI – pro jednotlivé finanční nástroje, „firm quotes“ jen pro retailové klienty; není jasné, jak by fungoval RFQ;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Regulace algoritmického obchodování – ČR nesouhlasí s tak přemrštěnou regulací (povinný market making pro všechny uživatele algoritmického obchodování – včetně retailových klientů, CCP a CSD?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Vztah s třetími zeměmi – mechanismus uznávání obchodních míst (v souvislosti s trading obligation) z  třetích zemí je pro ČR velmi problematický;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5e5ff"/>
                </a:solidFill>
                <a:latin typeface="Garamond"/>
              </a:rPr>
              <a:t>Závěr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Místo nadávání na Brusel je třeba začít hrát aktivní roli při tvorbě EU legislativy, zapojit se do pracovních skupin ESMA a snažit se věcně korigovat nadměrnou a mnohdy nepromyšlenou regulaci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Děkuji za pozornost</a:t>
            </a:r>
            <a:r>
              <a:rPr b="0" lang="cs-CZ" sz="1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Kontakt: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Daniela Doležalová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Ministerstvo financí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Letenská 15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118 10 Praha 1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Tel. 257042957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Email: </a:t>
            </a:r>
            <a:r>
              <a:rPr b="0" lang="cs-CZ" sz="1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daniela.dolezalova@mfcr.cz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1:50:40Z</dcterms:created>
  <dc:creator>12207</dc:creator>
  <dc:description/>
  <dc:language>en-US</dc:language>
  <cp:lastModifiedBy>Jana Michalíková - AKAT</cp:lastModifiedBy>
  <dcterms:modified xsi:type="dcterms:W3CDTF">2012-04-24T12:49:07Z</dcterms:modified>
  <cp:revision>20</cp:revision>
  <dc:subject/>
  <dc:title>Snímek 1</dc:title>
</cp:coreProperties>
</file>