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C4C91E3C-8225-45EA-A51B-1B0B7FFD6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8EDB1DC-049A-4B1A-81CC-85E80BECA9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66F7C7F-30B7-4510-BA7C-BF6963454A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A1EE8A4D-8B56-4212-BCE3-2D26EC69C6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1E48E9BE-EC2E-4A04-83EC-869ADCE540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3A5F8D7B-12C7-4D35-A420-785F45F25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onsolid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5E6FE57-A9C0-4CB3-BC0A-2DD0BD4C35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24C-7C44-49AD-AF07-FDE2921B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E01-694C-4D9A-ADDD-8F4A4D1C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A35-EF59-4BAD-99E6-089C1CDF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8C80-541F-4F70-8EB3-303BB31A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073E-F493-44CF-A2F1-9EF79233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1C1-ED6A-4637-92AD-27BAC7A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20AD-E4D5-4FF3-AD7A-D9DC24A4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BC5-7C28-4658-8B9C-F57EFB30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AE6B-F742-4558-B616-860ABD2B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D6A-2DB1-48B0-954C-B6183CFE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5FE7-E91D-4B9A-8637-C70DDA39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F73-C207-499B-9CC5-3A2DB303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4E71-6D3A-4062-9995-D9C2B3122D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AKAT_česky_pozadí-losos"/>
          <p:cNvPicPr/>
          <p:nvPr/>
        </p:nvPicPr>
        <p:blipFill>
          <a:blip r:embed="rId2"/>
          <a:stretch/>
        </p:blipFill>
        <p:spPr>
          <a:xfrm>
            <a:off x="7451640" y="6093000"/>
            <a:ext cx="1548000" cy="607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katcr.cz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4"/>
          <p:cNvSpPr/>
          <p:nvPr/>
        </p:nvSpPr>
        <p:spPr>
          <a:xfrm>
            <a:off x="755640" y="371628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Konference Next Steps in Asset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49373"/>
                </a:solidFill>
                <a:latin typeface="Arial"/>
              </a:rPr>
              <a:t>26. dubna 2012, Bratisl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949373"/>
                </a:solidFill>
                <a:latin typeface="Arial"/>
              </a:rPr>
              <a:t>Nové produktové možnosti –budoucnost Č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49373"/>
                </a:solidFill>
                <a:latin typeface="Arial"/>
              </a:rPr>
              <a:t>Josef Beneš, Předseda AKAT Č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6" descr="AKAT_česky_pozadí-losos"/>
          <p:cNvPicPr/>
          <p:nvPr/>
        </p:nvPicPr>
        <p:blipFill>
          <a:blip r:embed="rId1"/>
          <a:stretch/>
        </p:blipFill>
        <p:spPr>
          <a:xfrm>
            <a:off x="2484360" y="2060640"/>
            <a:ext cx="464184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Kdo bude těžit z AIFMD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Lucembu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Švýcarsk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Snaha soustředit se na služby s vyšší přidanou hodnotou jako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risk management a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990033"/>
                </a:solidFill>
                <a:latin typeface="Arial"/>
              </a:rPr>
              <a:t>corporate governance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Ma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Člen eurozó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Co očekávají manažeři alternativní fondů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980720"/>
            <a:ext cx="7772400" cy="42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Značné zkušenosti a expertízu v administrování různých typů fondů – mezinárodně uznávaná jurisdi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Široký výběr mezi administrá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Rozsáhlá mezinárodní distribuce fon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ý daňový režim (fondy i administrátoř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střícný regulátor a stabilní legislativní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Efektivní listování investičních fondů na bur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Vhodná poloha, angličtina a jednotná mě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Náklady AIF (Hedge fondů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Obhospodařovatelský poplatek – kolem 200b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le HedgeFundsReview poplatek za správu závisí na fondu – typ, velikost, strategie: 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8bp 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-</a:t>
            </a:r>
            <a:r>
              <a:rPr b="0" lang="en-GB" sz="2600" spc="-1" strike="noStrike">
                <a:solidFill>
                  <a:srgbClr val="990033"/>
                </a:solidFill>
                <a:latin typeface="Arial"/>
              </a:rPr>
              <a:t> 20bp</a:t>
            </a: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jde ke zvýšení těchto nákladů v důsledku AIFMD – regulatorní náklady,  větší nutnost automatizace, případně na vytvoření paralelní struktury v EU, nebo klonu, nebo feed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U hedge fondů: soustředění na kvalitu poskytovaných služe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cc"/>
                </a:solidFill>
                <a:latin typeface="Arial"/>
              </a:rPr>
              <a:t>Děkuji za pozornost</a:t>
            </a:r>
            <a:r>
              <a:rPr b="0" lang="cs-CZ" sz="36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0033"/>
                </a:solidFill>
                <a:latin typeface="Arial"/>
              </a:rPr>
              <a:t>Asociace pro kapitálový trh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Štěpánská 16/6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110 00 Prah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Tel.: +420 224 919 1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0033"/>
                </a:solidFill>
                <a:latin typeface="Arial"/>
              </a:rPr>
              <a:t>Fax: +420 224 919 1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33cc"/>
                </a:solidFill>
                <a:uFillTx/>
                <a:latin typeface="Arial"/>
                <a:hlinkClick r:id="rId1"/>
              </a:rPr>
              <a:t>www.akatcr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Nové produktové možnosti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ČR po přijetí nového zákona upravujícího kolektivní invest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spcAft>
                <a:spcPts val="601"/>
              </a:spcAft>
              <a:buClr>
                <a:srgbClr val="9900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Trh v EU a očekávaný vývoj po implementaci AIF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ffffcc"/>
                </a:solidFill>
                <a:latin typeface="Arial"/>
              </a:rPr>
              <a:t>Historický vývoj </a:t>
            </a: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aktiv ve správě</a:t>
            </a:r>
            <a:r>
              <a:rPr b="0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(v ml</a:t>
            </a:r>
            <a:r>
              <a:rPr b="0" lang="cs-CZ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sz="2400" spc="-1" strike="noStrike">
                <a:solidFill>
                  <a:srgbClr val="ffffcc"/>
                </a:solidFill>
                <a:latin typeface="Arial"/>
              </a:rPr>
              <a:t>. CZK)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5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 podílových fondech v ČR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7" name="Chart 1" descr=""/>
          <p:cNvPicPr/>
          <p:nvPr/>
        </p:nvPicPr>
        <p:blipFill>
          <a:blip r:embed="rId1"/>
          <a:stretch/>
        </p:blipFill>
        <p:spPr>
          <a:xfrm>
            <a:off x="689040" y="1981080"/>
            <a:ext cx="777240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Fondy kvalifikovaných investorů - vývoj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59" name="Zástupný symbol pro obsah 4" descr=""/>
          <p:cNvPicPr/>
          <p:nvPr/>
        </p:nvPicPr>
        <p:blipFill>
          <a:blip r:embed="rId1"/>
          <a:stretch/>
        </p:blipFill>
        <p:spPr>
          <a:xfrm>
            <a:off x="682560" y="1974960"/>
            <a:ext cx="777888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Trendy roku 2011 v oblasti investování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Rostoucí zájem o individuální správu aktiv (fondy kvalifikovaných investorů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Vytváření fondových struktur pro menší počet investor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Zájem investorů podílet se na řízení fond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Konsolidace odvětv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Transformace těchto principů do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Příprava nového Zákon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Implementace směrnice AIFM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Nové produktové možnosti v právní úpravě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Investiční fond jako varianta akciové společnosti, která obdobně jako podílový fond průběžně vydává a </a:t>
            </a:r>
            <a:r>
              <a:rPr b="0" lang="pl-PL" sz="2200" spc="-1" strike="noStrike">
                <a:solidFill>
                  <a:srgbClr val="990033"/>
                </a:solidFill>
                <a:latin typeface="Arial"/>
              </a:rPr>
              <a:t>odkupuje akcie, které odkupem zanikají </a:t>
            </a: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včetně možnosti podfondů (SICA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Oddělení funkce obhospodařování a administrace fond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Probíhající diskuze nad nastavením nového zák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Historický vývoj majetku ve fondech členů EFAMA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65" name="Zástupný symbol pro obsah 3" descr=""/>
          <p:cNvPicPr/>
          <p:nvPr/>
        </p:nvPicPr>
        <p:blipFill>
          <a:blip r:embed="rId1"/>
          <a:stretch/>
        </p:blipFill>
        <p:spPr>
          <a:xfrm>
            <a:off x="1203480" y="1981080"/>
            <a:ext cx="6737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Arial"/>
              </a:rPr>
              <a:t>Dopady AIFMD na off-shore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 na správce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Dle AIFMD všichni správci AIFs (non-UCITS), kteří chtějí tyto fondy v EU nabízet nebo spravovat, musejí být registrováni v EU a splňovat pravidla AIFM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990033"/>
                </a:solidFill>
                <a:latin typeface="Arial"/>
              </a:rPr>
              <a:t>Dopady na off-shore fond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Ztratí některé z výhody off-shore destinací (levnější complianc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990033"/>
                </a:solidFill>
                <a:latin typeface="Arial"/>
              </a:rPr>
              <a:t>Nejsou jasná pravidla pro referenční stát, nastane regulatorní arbitráž, případně klonování fon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07:46:14Z</dcterms:created>
  <dc:creator>pzaplet</dc:creator>
  <dc:description/>
  <dc:language>en-US</dc:language>
  <cp:lastModifiedBy>Jana Michalíková - AKAT</cp:lastModifiedBy>
  <cp:lastPrinted>2012-03-06T14:15:32Z</cp:lastPrinted>
  <dcterms:modified xsi:type="dcterms:W3CDTF">2012-04-25T06:40:23Z</dcterms:modified>
  <cp:revision>189</cp:revision>
  <dc:subject/>
  <dc:title>Prezentace aplikace PowerPoint</dc:title>
</cp:coreProperties>
</file>