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9EC4-D8A7-4168-B789-59F098832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9CB8-6CC4-41AB-A38C-3BEBB04D1A0C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 prečo prichádza rekodifikácia, rekodifikačný proces, pripomienkovanie cez asociáciu, vyjednávanie s N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774960" y="9340920"/>
            <a:ext cx="2887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7FED-EA53-47E6-80F3-4F9E4C0829CF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2849-2C0B-4CFA-AE9B-CD5B06DF4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BFCA-9634-43DD-9532-1093BC09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F6B-CB5D-4D3F-86C4-A02DFAFE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A87D-FFBA-4171-86DA-9D9B32D8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E30-1172-4F07-A69C-439F9C4B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6152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89160" y="213336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6152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789160" y="4224600"/>
            <a:ext cx="250236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787-56C0-46B6-8FB1-86B18961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9351-9EE1-4AA0-8037-CB8689AB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4D5-0FA9-410A-AC4E-74D5EEFA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04560"/>
            <a:ext cx="7962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015-4016-404C-A12D-48C1584F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F94-2663-4260-9368-0DC5D902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22460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BEA7-64B2-4428-B4EB-5D138C3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2133360"/>
            <a:ext cx="37926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224600"/>
            <a:ext cx="7772400" cy="19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A8C-B1AC-4722-8DEE-2DFC5271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7326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1782-B94F-4708-96D0-7E030D1F25B5}" type="slidenum">
              <a:rPr b="0" lang="en-US" sz="1400" spc="-1" strike="noStrike">
                <a:solidFill>
                  <a:srgbClr val="07326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7326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1" marL="190440" indent="26676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550"/>
              </a:spcBef>
              <a:buClr>
                <a:srgbClr val="0732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3" marL="1601640" indent="-228600">
              <a:spcBef>
                <a:spcPts val="550"/>
              </a:spcBef>
              <a:buClr>
                <a:srgbClr val="0732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732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26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42720" y="304560"/>
            <a:ext cx="796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7326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09480" y="1655280"/>
            <a:ext cx="792504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Nové produktové možnosti – 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súčasný stav v SR</a:t>
            </a:r>
            <a:endParaRPr b="0" lang="en-US" sz="28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609480" y="4800600"/>
            <a:ext cx="331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eter Žilinek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Tatra Asset Management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ffffff"/>
                </a:solidFill>
                <a:latin typeface="Arial"/>
              </a:rPr>
              <a:t>26.04.2012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novinky na trhu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3BF90-2D37-4E6F-8EF3-620470D51883}" type="slidenum">
              <a:rPr b="0" lang="en-US" sz="1400" spc="-1" strike="noStrike">
                <a:solidFill>
                  <a:srgbClr val="07326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324000" y="1700280"/>
            <a:ext cx="8229600" cy="43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73260"/>
              </a:buClr>
              <a:buSzPct val="11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380880" indent="533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Text Box 33"/>
          <p:cNvSpPr/>
          <p:nvPr/>
        </p:nvSpPr>
        <p:spPr>
          <a:xfrm>
            <a:off x="1219320" y="2209680"/>
            <a:ext cx="6781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é fon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Zmeny medzi peňažnými fondam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é štruktú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Nové fond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95" name="Text Box 50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1.03.2012 podľa údajov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19320" y="4267080"/>
          <a:ext cx="6781680" cy="1782720"/>
        </p:xfrm>
        <a:graphic>
          <a:graphicData uri="http://schemas.openxmlformats.org/drawingml/2006/table">
            <a:tbl>
              <a:tblPr/>
              <a:tblGrid>
                <a:gridCol w="2979720"/>
                <a:gridCol w="3801960"/>
              </a:tblGrid>
              <a:tr h="769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3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 správcovia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Nových non-UCITS fond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é ŠPF cenných papier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 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verejné ŠPF alternatívnych investícii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ŠPF profesionálnych investor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7" name="Text Box 66"/>
          <p:cNvSpPr/>
          <p:nvPr/>
        </p:nvSpPr>
        <p:spPr>
          <a:xfrm>
            <a:off x="1219320" y="1752480"/>
            <a:ext cx="6781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Renesancia non UCITS fondov na Slovensk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é licencie len pre non UCITS fon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yužitie nových pravidiel a povolených aktí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K 31.3.2012 – 346 mil. eur, 9% podiel na trh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304560"/>
            <a:ext cx="826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meny medzi likviditnými fondami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05120" y="3962520"/>
          <a:ext cx="5562360" cy="2149200"/>
        </p:xfrm>
        <a:graphic>
          <a:graphicData uri="http://schemas.openxmlformats.org/drawingml/2006/table">
            <a:tbl>
              <a:tblPr/>
              <a:tblGrid>
                <a:gridCol w="1960560"/>
                <a:gridCol w="3601800"/>
              </a:tblGrid>
              <a:tr h="758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6</a:t>
                      </a:r>
                      <a:r>
                        <a:rPr b="0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13 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Fondy peňažného trh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0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Fond krátkodobého peňažného trh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Fondy peňažného trhu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8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Fondov krátkodobých investícií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2</a:t>
                      </a: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Verejné ŠPF cenných papier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0" name="Text Box 16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1.03.2012 podľa údajov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ext Box 49"/>
          <p:cNvSpPr/>
          <p:nvPr/>
        </p:nvSpPr>
        <p:spPr>
          <a:xfrm>
            <a:off x="1219320" y="1752480"/>
            <a:ext cx="69339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Upratanie v kategóriách peňažných fond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á kategóra fondov krátkodobých investícií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Nové non-UCITS fon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Viacero kategórií likviditných fondov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9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Nové štruktúr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523880" y="3048120"/>
          <a:ext cx="6096240" cy="315108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75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73</a:t>
                      </a:r>
                      <a:br>
                        <a:rPr sz="2400"/>
                      </a:b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otvorených podielových fondov v správe domácich správc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3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0</a:t>
                      </a:r>
                      <a:r>
                        <a:rPr b="0" lang="sk-SK" sz="20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Uzavreté fond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Emisie podielových listov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Master/Feeder štruktúr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73260"/>
                          </a:solidFill>
                          <a:latin typeface="Arial"/>
                        </a:rPr>
                        <a:t>Strešné fondy</a:t>
                      </a:r>
                      <a:endParaRPr b="0" lang="en-US" sz="1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16"/>
          <p:cNvSpPr/>
          <p:nvPr/>
        </p:nvSpPr>
        <p:spPr>
          <a:xfrm>
            <a:off x="838080" y="624852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3366"/>
                </a:solidFill>
                <a:latin typeface="Arial"/>
              </a:rPr>
              <a:t>Stav k 31.03.2012 podľa údajov SASS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Text Box 41"/>
          <p:cNvSpPr/>
          <p:nvPr/>
        </p:nvSpPr>
        <p:spPr>
          <a:xfrm>
            <a:off x="1219320" y="175248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rispôsobenie sa UCITS4 stále prebieh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Termín na prispôsobenie 30.6.201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0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Produktové novinky podľa UCITS4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73260"/>
                </a:solidFill>
                <a:latin typeface="Arial"/>
              </a:rPr>
              <a:t>Nové produkty pre slovenský trh - Non UCITS legislatíva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73260"/>
                </a:solidFill>
                <a:latin typeface="Arial"/>
              </a:rPr>
              <a:t>Fondy peňažného trhu a krátkodobého peňažného trhu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Strešné fondy/podfondy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Hlavné/zberné fondy (Master-feeder štruktúry)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Emisie podielových listov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  <a:p>
            <a:pPr lvl="2" marL="380880" indent="533520">
              <a:spcBef>
                <a:spcPts val="499"/>
              </a:spcBef>
              <a:buClr>
                <a:srgbClr val="0732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73260"/>
                </a:solidFill>
                <a:latin typeface="Arial"/>
              </a:rPr>
              <a:t>Uzavreté fondy</a:t>
            </a:r>
            <a:endParaRPr b="0" lang="en-US" sz="2000" spc="-1" strike="noStrike">
              <a:solidFill>
                <a:srgbClr val="0732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3080" y="30456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Zhrnutie a závery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609480" y="1676520"/>
            <a:ext cx="8077320" cy="44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Doteraz najviac využívané produktové novinky sú nové non-UCITS fond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tenciál využitia do budúcna aj p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emisie podielových listov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master/feeder štruktú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 </a:t>
            </a:r>
            <a:r>
              <a:rPr b="0" lang="sk-SK" sz="2000" spc="-1" strike="noStrike">
                <a:solidFill>
                  <a:srgbClr val="003366"/>
                </a:solidFill>
                <a:latin typeface="Arial"/>
                <a:ea typeface="ＭＳ Ｐゴシック"/>
              </a:rPr>
              <a:t>uzavreté fond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Potrebné legislatívne úpravy pri strešných fondoch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6248520" y="2971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85760" indent="-185760" algn="ctr">
              <a:lnSpc>
                <a:spcPct val="80000"/>
              </a:lnSpc>
              <a:buClr>
                <a:srgbClr val="073260"/>
              </a:buClr>
              <a:buSzPct val="115000"/>
              <a:buFont typeface="Arial"/>
              <a:buChar char="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Ďakujem za pozornosť </a:t>
            </a:r>
            <a:br>
              <a:rPr sz="3000"/>
            </a:br>
            <a:br>
              <a:rPr sz="3000"/>
            </a:br>
            <a:r>
              <a:rPr b="1" lang="sk-SK" sz="3000" spc="-1" strike="noStrike">
                <a:solidFill>
                  <a:srgbClr val="073260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7326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905120" y="4343400"/>
            <a:ext cx="52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3366"/>
                </a:solidFill>
                <a:latin typeface="Arial"/>
              </a:rPr>
              <a:t>Peter Žilinek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Tatra Asset Management</a:t>
            </a:r>
            <a:br>
              <a:rPr sz="2400"/>
            </a:br>
            <a:r>
              <a:rPr b="0" lang="sk-SK" sz="2400" spc="-1" strike="noStrike">
                <a:solidFill>
                  <a:srgbClr val="003366"/>
                </a:solidFill>
                <a:latin typeface="Arial"/>
              </a:rPr>
              <a:t>e-mail: peter_zilinek@tam.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6:22:27Z</dcterms:created>
  <dc:creator>Peter Žilinek</dc:creator>
  <dc:description/>
  <dc:language>en-US</dc:language>
  <cp:lastModifiedBy>Jana Michalíková - AKAT</cp:lastModifiedBy>
  <dcterms:modified xsi:type="dcterms:W3CDTF">2012-04-24T13:29:26Z</dcterms:modified>
  <cp:revision>93</cp:revision>
  <dc:subject/>
  <dc:title>Slide 1</dc:title>
</cp:coreProperties>
</file>