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1DC4-C13D-4722-99C8-FF5F0DC23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230D-E071-4C73-B9F2-639945189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are many areas to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4EC88-76F9-4A32-8650-30E251AF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28C6B-20B0-41EE-9236-101D5BCF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98237-19C0-466E-A309-66ECE2F9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4644A-16B3-4306-9E7E-3224AC1C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1D48-1620-47B1-9C39-32318365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86E6-A9D4-42FB-8F0D-D951C42F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9DED-C62F-4C99-9A9F-469AA3AB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8917-C8CD-4275-A76F-D8AF9D56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39C5-747A-41B8-8E54-B9FAC554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FC27-FE4A-4C21-9B10-FCFFFD0C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8F0B-1F4B-4C4E-8F44-EF6B1A87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40D2-255A-49EF-81E1-8986F033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5D76-E35B-4FAE-A1EB-26F2ED09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A124-C1A7-4BB3-A076-C941030E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06F4-F471-4A73-8F6C-75A18319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B561-F14C-4520-89DD-C1B9F92E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98FD-C39D-47AF-971F-288FC8B3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62D73-2929-46EB-BB6B-3BC45F39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36039-12ED-4672-9B25-CC0663C9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DD6DF-30CC-46F5-B38A-582410D6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4E4E0-5547-45E3-962A-3CA0E258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DD246-B515-455A-A9D3-CEEA8954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2A08F-285B-4300-A0A9-31E46D27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5150D-54BC-4BDA-948E-3AEA8581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4B76-B8BA-40DF-97AB-05AE494B8838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Footlight MT Light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Footlight MT Light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1027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1028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53" name="Freeform 1029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54" name="Freeform 1030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55" name="Freeform 1031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56" name="Freeform 1032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</p:grpSp>
        <p:sp>
          <p:nvSpPr>
            <p:cNvPr id="57" name="Freeform 1033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Footlight MT Light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Footlight MT Light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E89F-DE0C-4698-A0B6-D0C62831C14C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kapitalovy.trh@mfcr.cz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4582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4000"/>
            </a:br>
            <a:r>
              <a:rPr b="1" lang="cs-CZ" sz="6000" spc="-1" strike="noStrike">
                <a:solidFill>
                  <a:srgbClr val="ffcc00"/>
                </a:solidFill>
                <a:latin typeface="Arial"/>
              </a:rPr>
              <a:t>PŘEMĚNY AKCIOVÉ SPOLEČNOSTI</a:t>
            </a:r>
            <a:br>
              <a:rPr sz="6000"/>
            </a:br>
            <a:r>
              <a:rPr b="1" lang="cs-CZ" sz="6000" spc="-1" strike="noStrike">
                <a:solidFill>
                  <a:srgbClr val="ffcc00"/>
                </a:solidFill>
                <a:latin typeface="Arial"/>
              </a:rPr>
              <a:t> S PROMĚNNÝM ZÁKLADNÍM KAPITÁLEM (SICAV)</a:t>
            </a:r>
            <a:br>
              <a:rPr sz="4000"/>
            </a:br>
            <a:br>
              <a:rPr sz="4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971640" y="5157720"/>
            <a:ext cx="712944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Footlight MT Light"/>
              </a:rPr>
              <a:t>Jan Šovar</a:t>
            </a:r>
            <a:endParaRPr b="0" lang="en-US" sz="3600" spc="-1" strike="noStrike">
              <a:solidFill>
                <a:srgbClr val="003399"/>
              </a:solidFill>
              <a:latin typeface="Footlight MT Light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ffff"/>
                </a:solidFill>
                <a:latin typeface="Footlight MT Light"/>
              </a:rPr>
              <a:t>Praha 19. dubna 2013, hotel Sheraton</a:t>
            </a:r>
            <a:br>
              <a:rPr sz="2400"/>
            </a:br>
            <a:r>
              <a:rPr b="1" i="1" lang="pl-PL" sz="2400" spc="-1" strike="noStrike">
                <a:solidFill>
                  <a:srgbClr val="ffffff"/>
                </a:solidFill>
                <a:latin typeface="Footlight MT Light"/>
              </a:rPr>
              <a:t>Next Steps in Asset Management, AKAT ČR/SASS</a:t>
            </a: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65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kapitalovy.trh@mfcr.cz</a:t>
            </a:r>
            <a:r>
              <a:rPr b="1" lang="en-US" sz="4400" spc="-1" strike="noStrike">
                <a:solidFill>
                  <a:srgbClr val="e5e5ff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11280" y="170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Footlight MT Light"/>
              </a:rPr>
              <a:t>Děkuj</a:t>
            </a:r>
            <a:r>
              <a:rPr b="1" lang="cs-CZ" sz="4400" spc="-1" strike="noStrike">
                <a:solidFill>
                  <a:srgbClr val="e5e5ff"/>
                </a:solidFill>
                <a:latin typeface="Times New Roman"/>
              </a:rPr>
              <a:t>i</a:t>
            </a:r>
            <a:r>
              <a:rPr b="1" lang="cs-CZ" sz="4400" spc="-1" strike="noStrike">
                <a:solidFill>
                  <a:srgbClr val="e5e5ff"/>
                </a:solidFill>
                <a:latin typeface="Footlight MT Light"/>
              </a:rPr>
              <a:t> za pozornost</a:t>
            </a:r>
            <a:br>
              <a:rPr sz="4400"/>
            </a:br>
            <a:br>
              <a:rPr sz="4400"/>
            </a:br>
            <a:r>
              <a:rPr b="1" lang="cs-CZ" sz="4400" spc="-1" strike="noStrike">
                <a:solidFill>
                  <a:srgbClr val="e5e5ff"/>
                </a:solidFill>
                <a:latin typeface="Footlight MT Light"/>
              </a:rPr>
              <a:t>Dotazy</a:t>
            </a:r>
            <a:endParaRPr b="0" lang="en-US" sz="4400" spc="-1" strike="noStrike">
              <a:solidFill>
                <a:srgbClr val="003399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Footlight MT Light"/>
              </a:rPr>
              <a:t>Výhrada prezent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e5e5ff"/>
                </a:solidFill>
                <a:latin typeface="Footlight MT Light"/>
              </a:rPr>
              <a:t>	</a:t>
            </a:r>
            <a:r>
              <a:rPr b="0" i="1" lang="cs-CZ" sz="3200" spc="-1" strike="noStrike">
                <a:solidFill>
                  <a:srgbClr val="e5e5ff"/>
                </a:solidFill>
                <a:latin typeface="Footlight MT Light"/>
              </a:rPr>
              <a:t>Obsah zobrazený v této prezentaci, jakož i ústní projev, odráží výlučně individuální názory, hodnocení a přístup autora k dané problematice, jež se nemusí shodovat s názory či hodnoceními Ministerstva financí ani nepředstavují jeho oficiální pozic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e5e5ff"/>
                </a:solidFill>
                <a:latin typeface="Footlight MT Light"/>
              </a:rPr>
              <a:t>	</a:t>
            </a:r>
            <a:r>
              <a:rPr b="0" i="1" lang="cs-CZ" sz="3200" spc="-1" strike="noStrike">
                <a:solidFill>
                  <a:srgbClr val="e5e5ff"/>
                </a:solidFill>
                <a:latin typeface="Footlight MT Light"/>
              </a:rPr>
              <a:t>Přestože autor připravil prezentaci </a:t>
            </a:r>
            <a:br>
              <a:rPr sz="3200"/>
            </a:br>
            <a:r>
              <a:rPr b="0" i="1" lang="cs-CZ" sz="3200" spc="-1" strike="noStrike">
                <a:solidFill>
                  <a:srgbClr val="e5e5ff"/>
                </a:solidFill>
                <a:latin typeface="Footlight MT Light"/>
              </a:rPr>
              <a:t>s</a:t>
            </a:r>
            <a:r>
              <a:rPr b="0" i="1" lang="cs-CZ" sz="32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e5e5ff"/>
                </a:solidFill>
                <a:latin typeface="Footlight MT Light"/>
              </a:rPr>
              <a:t>náležitou péčí, činí tak bez nároku na úplnost </a:t>
            </a:r>
            <a:br>
              <a:rPr sz="3200"/>
            </a:br>
            <a:r>
              <a:rPr b="0" i="1" lang="cs-CZ" sz="3200" spc="-1" strike="noStrike">
                <a:solidFill>
                  <a:srgbClr val="e5e5ff"/>
                </a:solidFill>
                <a:latin typeface="Footlight MT Light"/>
              </a:rPr>
              <a:t>a přesnost obsažených informací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457200" y="1295280"/>
            <a:ext cx="813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41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Footlight MT Light"/>
              </a:rPr>
              <a:t>Shrnutí prezent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609480" y="1371600"/>
            <a:ext cx="78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44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Footlight MT Light"/>
              </a:rPr>
              <a:t>  </a:t>
            </a:r>
            <a:r>
              <a:rPr b="0" lang="cs-CZ" sz="4800" spc="-1" strike="noStrike">
                <a:solidFill>
                  <a:srgbClr val="ffffff"/>
                </a:solidFill>
                <a:latin typeface="Arial"/>
              </a:rPr>
              <a:t>Poznámky do úvodu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Footlight MT Light"/>
              </a:rPr>
              <a:t>  </a:t>
            </a:r>
            <a:r>
              <a:rPr b="0" lang="cs-CZ" sz="4800" spc="-1" strike="noStrike">
                <a:solidFill>
                  <a:srgbClr val="ffffff"/>
                </a:solidFill>
                <a:latin typeface="Arial"/>
              </a:rPr>
              <a:t>Typy přemě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4800" spc="-1" strike="noStrike">
                <a:solidFill>
                  <a:srgbClr val="ffffff"/>
                </a:solidFill>
                <a:latin typeface="Arial"/>
              </a:rPr>
              <a:t>Dotazy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41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Arial"/>
              </a:rPr>
              <a:t>Poznámky do úvod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Line 3"/>
          <p:cNvSpPr/>
          <p:nvPr/>
        </p:nvSpPr>
        <p:spPr>
          <a:xfrm>
            <a:off x="609480" y="1371600"/>
            <a:ext cx="78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44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Footlight MT Light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ypické omy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ICAV je nová právní for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ICAV má „proměnlivý“ kapitá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nvestiční akcie jsou zvláštním druhem akc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ICAV bude možno zřídit bezprostředně po účinnosti ZISI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e vzniku SICAV je vždy třeba povolení ČN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 přeměně SICAV je vždy třeba povolení ČNB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41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Arial"/>
              </a:rPr>
              <a:t>Typy přemě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609480" y="1371600"/>
            <a:ext cx="78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44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S -&gt;  SICA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F -&gt;  SICA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statn</a:t>
            </a:r>
            <a:r>
              <a:rPr b="0" lang="cs-CZ" sz="32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právní formy -&gt;  SICA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§ 154 odst. 1 ZISIF: SICAV 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kciov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polečnost, která vyd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akcie, s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 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imiž je spojeno pr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o akcio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ře na jejich odkoupe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na 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ú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et společnosti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 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j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ž syst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é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 vnitř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truktury je monistický 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chod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firma obsahuje označe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nvestič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fond s proměnným z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lad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 kapit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em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41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Arial"/>
              </a:rPr>
              <a:t>AS -</a:t>
            </a: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&gt; </a:t>
            </a:r>
            <a:r>
              <a:rPr b="1" lang="cs-CZ" sz="4400" spc="-1" strike="noStrike">
                <a:solidFill>
                  <a:srgbClr val="e5e5ff"/>
                </a:solidFill>
                <a:latin typeface="Arial"/>
              </a:rPr>
              <a:t>SICAV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Line 3"/>
          <p:cNvSpPr/>
          <p:nvPr/>
        </p:nvSpPr>
        <p:spPr>
          <a:xfrm>
            <a:off x="611280" y="1341360"/>
            <a:ext cx="784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44416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měna stanov v souladu s požadavky na obsah stanov SICAV (§ 156 ZISI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zhodnut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valn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é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hromady o změně druhu akci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kladatelsk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é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akc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e vý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 pod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u na z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ladn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 kapit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u = zapisovaný z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ladn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kapit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 SICA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uze akcie, jejichž emisn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kurs byl zcela splacen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ouhlas v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ch akcion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řů, jejichž akcie se po přeměně stanou zakladatelskými akciem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n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pr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o na jejich odkoupen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nvestič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akc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statn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akci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algn="just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o na jejich odkoupen</a:t>
            </a:r>
            <a:r>
              <a:rPr b="0" lang="cs-CZ" sz="1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volení CNB – jen FKI, žádost podává administrátor, účastnici : Přeměňovaný fond, obhospodařovatel, administr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or, depozit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Arial"/>
              </a:rPr>
              <a:t>PF -</a:t>
            </a: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&gt;</a:t>
            </a:r>
            <a:r>
              <a:rPr b="1" lang="cs-CZ" sz="4400" spc="-1" strike="noStrike">
                <a:solidFill>
                  <a:srgbClr val="e5e5ff"/>
                </a:solidFill>
                <a:latin typeface="Arial"/>
              </a:rPr>
              <a:t> SICAV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868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PF 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–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n na SICAV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PF 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–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AS i SICAV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 přeměně rozhoduje obhospodařovat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dle schv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en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o projektu přeměny (vypracov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 administr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orem), n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ežitosti projektu § 416 ZISI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o na odkoupen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L 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–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2 měs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rozhodnut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obhospodařovatele PF o přeměně a souč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ojektu přeměny je z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azek obhospodařovatele PF upsat zakladatelsk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akcie budouc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o SICAVu, a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 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o ve vý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i pod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u na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 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ladn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 kapit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u, kter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bude odpov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at zapisovan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u z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ladn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u kapit</a:t>
            </a:r>
            <a:r>
              <a:rPr b="0" lang="cs-CZ" sz="24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u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611280" y="1341360"/>
            <a:ext cx="784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Arial"/>
              </a:rPr>
              <a:t>PF -</a:t>
            </a: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&gt;</a:t>
            </a:r>
            <a:r>
              <a:rPr b="1" lang="cs-CZ" sz="4400" spc="-1" strike="noStrike">
                <a:solidFill>
                  <a:srgbClr val="e5e5ff"/>
                </a:solidFill>
                <a:latin typeface="Arial"/>
              </a:rPr>
              <a:t> SICAV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868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d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i PF -&gt; vlast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y investičních akcií dnem z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isu do obchod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o rejstř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ICAV nelze zapsat do obchod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o rejstř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u přede dnem nabyt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r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moci rozhodnut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ČNB o povole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řemě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ICAV nelze zapsat do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 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chod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o rejstř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u, nebyl-li zcela splacen emis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kurs zakladatelských akci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měna PL za IA: Administr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or do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 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 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ěs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ů ode dne 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ú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innosti přeměny, možnost peněž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o dorov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volen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ČNB – jen FKI, žádost podává administrátor, účastnici : obhospodařovatel, administr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or, depozit</a:t>
            </a:r>
            <a:r>
              <a:rPr b="0" lang="cs-CZ" sz="28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611280" y="1197000"/>
            <a:ext cx="784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Arial"/>
              </a:rPr>
              <a:t>Non AS nebo non PF -</a:t>
            </a: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&gt;</a:t>
            </a:r>
            <a:r>
              <a:rPr b="1" lang="cs-CZ" sz="4400" spc="-1" strike="noStrike">
                <a:solidFill>
                  <a:srgbClr val="e5e5ff"/>
                </a:solidFill>
                <a:latin typeface="Arial"/>
              </a:rPr>
              <a:t> SICAV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868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 krok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měna na AS podle z</a:t>
            </a:r>
            <a:r>
              <a:rPr b="0" lang="cs-CZ" sz="3200" spc="-1" strike="noStrike">
                <a:solidFill>
                  <a:srgbClr val="ffffff"/>
                </a:solidFill>
                <a:latin typeface="Footlight MT Light"/>
              </a:rPr>
              <a:t>á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na upravuj</a:t>
            </a:r>
            <a:r>
              <a:rPr b="0" lang="cs-CZ" sz="32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o přeměny obchodn</a:t>
            </a:r>
            <a:r>
              <a:rPr b="0" lang="cs-CZ" sz="32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h společnost</a:t>
            </a:r>
            <a:r>
              <a:rPr b="0" lang="cs-CZ" sz="3200" spc="-1" strike="noStrike">
                <a:solidFill>
                  <a:srgbClr val="ffffff"/>
                </a:solidFill>
                <a:latin typeface="Footlight MT Light"/>
              </a:rPr>
              <a:t>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družste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měna AS na SICA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611280" y="1197000"/>
            <a:ext cx="784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06:21:23Z</dcterms:created>
  <dc:creator>J. Šovar</dc:creator>
  <dc:description/>
  <dc:language>en-US</dc:language>
  <cp:lastModifiedBy>Jana Michalíková - AKAT</cp:lastModifiedBy>
  <dcterms:modified xsi:type="dcterms:W3CDTF">2013-04-17T19:15:25Z</dcterms:modified>
  <cp:revision>226</cp:revision>
  <dc:subject/>
  <dc:title>AIFMD</dc:title>
</cp:coreProperties>
</file>