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BF5-74DA-4B6D-A6ED-E700B138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56E-D25B-4EC9-87C1-A486C916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ADB-B3B7-41E7-9DAF-BE8E80E9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87B-FDE6-4862-B7AE-E8AAEF34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60F-3D35-4409-B46D-A448C525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217-7B05-46DF-A4E3-3B49EECF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D54-76E7-4425-9BD2-A067DB6A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971-7C39-43F5-87AF-77AD823A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D0D-0870-4381-ACA2-2C8480BA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F3A-D563-472E-A7D8-A3F0B8C6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245-ECA9-4B78-B81E-BBD9D41E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F99-E5E5-4AF9-A422-CB3CEBF0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1FC5-E9F8-4EA1-9E50-BFD126C61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224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43434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vé produktové možnosti v praxi kolektívneho investov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99"/>
                </a:solidFill>
                <a:latin typeface="Arial Narrow"/>
              </a:rPr>
              <a:t>Ďakujeme za pozornos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638680" y="6275520"/>
            <a:ext cx="2210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800" spc="-1" strike="noStrike">
                <a:solidFill>
                  <a:srgbClr val="ffffff"/>
                </a:solidFill>
                <a:latin typeface="Arial Narrow"/>
              </a:rPr>
              <a:t>Slovesnksá asociácia správcovských spoločnost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800" spc="-1" strike="noStrike">
                <a:solidFill>
                  <a:srgbClr val="ffffff"/>
                </a:solidFill>
                <a:latin typeface="Arial Narrow"/>
              </a:rPr>
              <a:t>Drieňová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800" spc="-1" strike="noStrike">
                <a:solidFill>
                  <a:srgbClr val="ffffff"/>
                </a:solidFill>
                <a:latin typeface="Arial Narrow"/>
              </a:rPr>
              <a:t>821 01  Bratisla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6275520"/>
            <a:ext cx="990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800" spc="-1" strike="noStrike" u="sng">
                <a:solidFill>
                  <a:srgbClr val="ffffcc"/>
                </a:solidFill>
                <a:uFillTx/>
                <a:latin typeface="Arial Narrow"/>
              </a:rPr>
              <a:t>www.sass-sk.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800" spc="-1" strike="noStrike">
                <a:solidFill>
                  <a:srgbClr val="ffffff"/>
                </a:solidFill>
                <a:latin typeface="Arial Narrow"/>
              </a:rPr>
              <a:t>+421 2 444  56  59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800" spc="-1" strike="noStrike">
                <a:solidFill>
                  <a:srgbClr val="ffffff"/>
                </a:solidFill>
                <a:latin typeface="Arial Narrow"/>
              </a:rPr>
              <a:t>+421 2 446 32  5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822960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Štruktúra majetku v špeciálnych fondoch </a:t>
            </a:r>
            <a:br>
              <a:rPr sz="3600"/>
            </a:b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k 29.03.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1219320"/>
            <a:ext cx="3962520" cy="642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1 517 895 0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-380880" y="1143000"/>
          <a:ext cx="10287000" cy="594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1143000"/>
                    <a:ext cx="10287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Rozdelenie špeciálnych fondov a UCITS </a:t>
            </a:r>
            <a:br>
              <a:rPr sz="3600"/>
            </a:b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2007 -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-228600" y="1143000"/>
          <a:ext cx="9601200" cy="54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1143000"/>
                    <a:ext cx="96012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362320" y="14479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Mil.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77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66"/>
                </a:solidFill>
                <a:uFillTx/>
                <a:latin typeface="Arial Narrow"/>
              </a:rPr>
              <a:t>Vývoj majetku v špeciálnych OPF </a:t>
            </a:r>
            <a:br>
              <a:rPr sz="4000"/>
            </a:br>
            <a:r>
              <a:rPr b="0" i="1" lang="en-US" sz="4000" spc="-1" strike="noStrike" u="sng">
                <a:solidFill>
                  <a:srgbClr val="000066"/>
                </a:solidFill>
                <a:uFillTx/>
                <a:latin typeface="Arial Narrow"/>
              </a:rPr>
              <a:t>2008 – 2013 (mil. EU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2590920"/>
            <a:ext cx="1447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-228600" y="1219320"/>
          <a:ext cx="9524880" cy="5638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1219320"/>
                    <a:ext cx="95248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Čisté predaje v špeciálnych OPF </a:t>
            </a:r>
            <a:br>
              <a:rPr sz="3600"/>
            </a:b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(EU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1676520"/>
          <a:ext cx="8915400" cy="3736800"/>
        </p:xfrm>
        <a:graphic>
          <a:graphicData uri="http://schemas.openxmlformats.org/drawingml/2006/table">
            <a:tbl>
              <a:tblPr/>
              <a:tblGrid>
                <a:gridCol w="3200400"/>
                <a:gridCol w="1828800"/>
                <a:gridCol w="1828800"/>
                <a:gridCol w="2057400"/>
              </a:tblGrid>
              <a:tr h="832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Kategória O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31.12.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31.12.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29.03.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07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špeciálne fondy nehnute</a:t>
                      </a:r>
                      <a:r>
                        <a:rPr b="1" i="1" lang="en-US" sz="1600" spc="-1" strike="noStrike">
                          <a:solidFill>
                            <a:srgbClr val="000066"/>
                          </a:solidFill>
                          <a:latin typeface="Arial Narrow"/>
                        </a:rPr>
                        <a:t>ľ</a:t>
                      </a: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nost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8 200 7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7 019 9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 916 8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špeciálne fond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cenných papier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4 638 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13 354 5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9 996 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Špeciálne fond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alternatívnych investíci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9 567 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645 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špeciálne fond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profesionálnych investor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0 865 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21 333 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7 107 3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65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SPO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13 704 3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91 275 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6 666 5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Čisté predaje špeciálnych OPF v SR v roku 2013 (mil. EU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2658960"/>
          <a:ext cx="4038480" cy="24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58960"/>
                    <a:ext cx="403848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-533520" y="838080"/>
          <a:ext cx="9677520" cy="6019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533520" y="838080"/>
                    <a:ext cx="96775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Registrované špeciálne OPF členov SASS v SR</a:t>
            </a:r>
            <a:br>
              <a:rPr sz="3600"/>
            </a:br>
            <a:r>
              <a:rPr b="0" i="1" lang="en-US" sz="3600" spc="-1" strike="noStrike" u="sng">
                <a:solidFill>
                  <a:srgbClr val="000066"/>
                </a:solidFill>
                <a:uFillTx/>
                <a:latin typeface="Arial Narrow"/>
              </a:rPr>
              <a:t> k 29.03.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52280" y="1066680"/>
          <a:ext cx="8991720" cy="533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066680"/>
                    <a:ext cx="89917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267080" y="1676520"/>
          <a:ext cx="3429000" cy="455400"/>
        </p:xfrm>
        <a:graphic>
          <a:graphicData uri="http://schemas.openxmlformats.org/drawingml/2006/table">
            <a:tbl>
              <a:tblPr/>
              <a:tblGrid>
                <a:gridCol w="866880"/>
                <a:gridCol w="851040"/>
                <a:gridCol w="857160"/>
                <a:gridCol w="85392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31.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6699ff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993366"/>
                          </a:solidFill>
                          <a:latin typeface="Arial CE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993366"/>
                          </a:solidFill>
                          <a:latin typeface="Arial CE"/>
                          <a:ea typeface="Times New Roman"/>
                        </a:rPr>
                        <a:t>31.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993366"/>
                          </a:solidFill>
                          <a:latin typeface="Arial CE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00"/>
                          </a:solidFill>
                          <a:latin typeface="Arial CE"/>
                          <a:ea typeface="Times New Roman"/>
                        </a:rPr>
                        <a:t>31.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6600"/>
                          </a:solidFill>
                          <a:latin typeface="Arial CE"/>
                          <a:ea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02.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 Narrow"/>
              </a:rPr>
              <a:t>NAV v OPF v porovnaní s NAV v OPF podľa triedy aktí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880" y="1523880"/>
          <a:ext cx="8382240" cy="4272120"/>
        </p:xfrm>
        <a:graphic>
          <a:graphicData uri="http://schemas.openxmlformats.org/drawingml/2006/table">
            <a:tbl>
              <a:tblPr/>
              <a:tblGrid>
                <a:gridCol w="1679760"/>
                <a:gridCol w="1482840"/>
                <a:gridCol w="723600"/>
                <a:gridCol w="1411560"/>
                <a:gridCol w="711000"/>
                <a:gridCol w="1470240"/>
                <a:gridCol w="903240"/>
              </a:tblGrid>
              <a:tr h="699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Kategória O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NAV k 30.03.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NAV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NAV k 29.03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NA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NAV podľa tried aktí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NAV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Peňažn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843 442 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0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4 238 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74 865 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Dlhopisov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10 345 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441 516 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445 269 6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Akciov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59 166 5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2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93 873 8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94 097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Zmiešan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89 031 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30 707 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6 205 8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Fondy fond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23 785 6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4 293 7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4 293 7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n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76 593 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0 887 6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4 744 4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Špeciálne fond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nehnuteľnost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28 595 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23 850 6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23 850 6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Komoditné fo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 085 8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SPO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 530 960 4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 609 368 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 603 412 6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 Narrow"/>
              </a:rPr>
              <a:t>Porovnanie čistých predajov v OPF podľa tried aktív  v roku 2012 +1Q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1600200"/>
          <a:ext cx="8458200" cy="4145040"/>
        </p:xfrm>
        <a:graphic>
          <a:graphicData uri="http://schemas.openxmlformats.org/drawingml/2006/table">
            <a:tbl>
              <a:tblPr/>
              <a:tblGrid>
                <a:gridCol w="4114800"/>
                <a:gridCol w="2209680"/>
                <a:gridCol w="21337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Kategória O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Podľa klasickej kategorizá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 Narrow CE"/>
                          <a:ea typeface="Times New Roman"/>
                        </a:rPr>
                        <a:t>Podľa tried aktí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Peňažné fon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181 806 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73 326 4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Dlhopisové fon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92 604 4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89 204 4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Akciové fon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 682 6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 885 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Zmiešané fon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2 378 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21 878 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Fondy fond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21 931 6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21 931 6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né fon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115 281 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111 725 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Špeciálne fondy nehnuteľnost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4 936 7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4 936 7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Komoditné fon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1 213 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45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 CE"/>
                          <a:ea typeface="Times New Roman"/>
                        </a:rPr>
                        <a:t>SPO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-240 625 5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52 379 3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86" name="" descr=""/>
          <p:cNvPicPr/>
          <p:nvPr/>
        </p:nvPicPr>
        <p:blipFill>
          <a:blip r:embed="rId1"/>
          <a:srcRect l="2065" t="0" r="0" b="0"/>
          <a:stretch/>
        </p:blipFill>
        <p:spPr>
          <a:xfrm>
            <a:off x="0" y="6305400"/>
            <a:ext cx="1655640" cy="552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00200" y="6248520"/>
            <a:ext cx="7543800" cy="609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SS - Michaela Bordováčová</cp:lastModifiedBy>
  <dcterms:modified xsi:type="dcterms:W3CDTF">2013-04-17T12:58:16Z</dcterms:modified>
  <cp:revision>9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