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2088-2FDE-427D-84DB-4AF62271B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D321-F951-4C5F-94BF-DFB5370CD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CBAE-0B77-4338-9015-64E8BB8EE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6037-0469-4D21-A22F-604B99716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54D1-0772-4FD1-846D-FB5AB74D8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D1A4-0F5C-4258-9861-DAD4C327E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C681-1C12-4887-9DCC-E05A82423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8386-DD36-46E9-BE76-C411DE924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944D-AF8B-4ACE-85E9-70BDAA86B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F11E-293B-4FD3-BFBD-B354924E0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CD13-247C-4C9D-BF0A-0C3653C1D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C542-E831-4D84-8064-B47C00A62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logo_down"/>
          <p:cNvPicPr/>
          <p:nvPr/>
        </p:nvPicPr>
        <p:blipFill>
          <a:blip r:embed="rId3"/>
          <a:stretch/>
        </p:blipFill>
        <p:spPr>
          <a:xfrm>
            <a:off x="34920" y="6381720"/>
            <a:ext cx="7302600" cy="47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600F-5908-4409-BF11-5379D7AD5E5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logo_down"/>
          <p:cNvPicPr/>
          <p:nvPr/>
        </p:nvPicPr>
        <p:blipFill>
          <a:blip r:embed="rId3"/>
          <a:stretch/>
        </p:blipFill>
        <p:spPr>
          <a:xfrm>
            <a:off x="34920" y="6381720"/>
            <a:ext cx="7302600" cy="477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_ftn1" TargetMode="External"/><Relationship Id="rId2" Type="http://schemas.openxmlformats.org/officeDocument/2006/relationships/hyperlink" Target="_ftn1" TargetMode="External"/><Relationship Id="rId3" Type="http://schemas.openxmlformats.org/officeDocument/2006/relationships/hyperlink" Target="_ftnref1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_ftn1" TargetMode="External"/><Relationship Id="rId2" Type="http://schemas.openxmlformats.org/officeDocument/2006/relationships/hyperlink" Target="_ftn1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79912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f7c"/>
                </a:solidFill>
                <a:latin typeface="Arial Narrow"/>
              </a:rPr>
              <a:t>Dohled ČNB</a:t>
            </a:r>
            <a:endParaRPr b="0" lang="en-US" sz="4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f7c"/>
                </a:solidFill>
                <a:latin typeface="Arial Narrow"/>
              </a:rPr>
              <a:t>po implementaci AIFMD / ZISIF</a:t>
            </a:r>
            <a:endParaRPr b="0" lang="en-US" sz="4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Konference Next Steps in Asset Management 201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Arial Narrow"/>
              </a:rPr>
              <a:t>19.4.2013, Praha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 Narrow"/>
              </a:rPr>
              <a:t>Václav Simon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 Narrow"/>
              </a:rPr>
              <a:t>Sekce dohledu nad finančním trhem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 Narrow"/>
              </a:rPr>
              <a:t>Česká národní banka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7ECE-0DBE-4A26-AA3B-BFC791A1B32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18684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NOVÉ VYKAZOVACÍ POVINNOSTI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I</a:t>
            </a: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nformační povinnost</a:t>
            </a: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 bude rozšířena o výkazy, které budou prostřednictvím ČNB zasílané </a:t>
            </a: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ESMA</a:t>
            </a: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3f7c"/>
              </a:solidFill>
              <a:latin typeface="Arial Narrow"/>
            </a:endParaRPr>
          </a:p>
          <a:p>
            <a:pPr lvl="1" marL="1049400" indent="-59220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5f9bc8"/>
                </a:solidFill>
                <a:latin typeface="Arial Narrow"/>
              </a:rPr>
              <a:t>Nadlimitní obhospodařovatelé 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speciálního fondu nebo FKvI, kteří jej fakticky překračují, budou plnit IP ve lhůtách podle Nařízení Komise </a:t>
            </a:r>
            <a:r>
              <a:rPr b="0" lang="cs-CZ" sz="17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1"/>
              </a:rPr>
              <a:t>[2</a:t>
            </a:r>
            <a:r>
              <a:rPr b="0" lang="en-US" sz="17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2"/>
              </a:rPr>
              <a:t>]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 v závislosti na míře, ve které přesahuje rozhodný limit</a:t>
            </a:r>
            <a:endParaRPr b="0" lang="en-US" sz="1700" spc="-1" strike="noStrike">
              <a:solidFill>
                <a:srgbClr val="5f9bc8"/>
              </a:solidFill>
              <a:latin typeface="Arial Narrow"/>
            </a:endParaRPr>
          </a:p>
          <a:p>
            <a:pPr lvl="2" marL="139212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f9bc8"/>
                </a:solidFill>
                <a:latin typeface="Arial Narrow"/>
              </a:rPr>
              <a:t>ve čtvrtletní frekvenci</a:t>
            </a:r>
            <a:r>
              <a:rPr b="0" lang="cs-CZ" sz="1600" spc="-1" strike="noStrike">
                <a:solidFill>
                  <a:srgbClr val="5f9bc8"/>
                </a:solidFill>
                <a:latin typeface="Arial Narrow"/>
              </a:rPr>
              <a:t> (obhospodařovatelé speciálního fondu nebo fondu kvalifikovaných investorů s majetkem více než 1 mld. EUR nebo obhospodařovatelé speciálního fondu nebo fondu kvalifikovaných investorů s majetkem více než 500 mil EUR v případě využití finanční páky),</a:t>
            </a:r>
            <a:endParaRPr b="0" lang="en-US" sz="1600" spc="-1" strike="noStrike">
              <a:solidFill>
                <a:srgbClr val="5f9bc8"/>
              </a:solidFill>
              <a:latin typeface="Arial Narrow"/>
            </a:endParaRPr>
          </a:p>
          <a:p>
            <a:pPr lvl="2" marL="139212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f9bc8"/>
                </a:solidFill>
                <a:latin typeface="Arial Narrow"/>
              </a:rPr>
              <a:t>v pololetní frekvenci</a:t>
            </a:r>
            <a:r>
              <a:rPr b="0" lang="cs-CZ" sz="1600" spc="-1" strike="noStrike">
                <a:solidFill>
                  <a:srgbClr val="5f9bc8"/>
                </a:solidFill>
                <a:latin typeface="Arial Narrow"/>
              </a:rPr>
              <a:t> (obhospodařovatelé speciálního fondu nebo fondu kvalifikovaných investorů s majetkem více než 500 mil. EUR nebo obhospodařovatelé speciálního fondu kvalifikovaných majetkem více než 100 mil. EUR v případě využití finanční páky),</a:t>
            </a:r>
            <a:endParaRPr b="0" lang="en-US" sz="1600" spc="-1" strike="noStrike">
              <a:solidFill>
                <a:srgbClr val="5f9bc8"/>
              </a:solidFill>
              <a:latin typeface="Arial Narrow"/>
            </a:endParaRPr>
          </a:p>
          <a:p>
            <a:pPr lvl="2" marL="1392120" indent="-228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f9bc8"/>
                </a:solidFill>
                <a:latin typeface="Arial Narrow"/>
              </a:rPr>
              <a:t>v roční frekvenci</a:t>
            </a:r>
            <a:r>
              <a:rPr b="0" lang="cs-CZ" sz="1600" spc="-1" strike="noStrike">
                <a:solidFill>
                  <a:srgbClr val="5f9bc8"/>
                </a:solidFill>
                <a:latin typeface="Arial Narrow"/>
              </a:rPr>
              <a:t> (ostatní obhospodařovatelé speciálního fondu nebo fondu kvalifikovaných investorů).</a:t>
            </a:r>
            <a:endParaRPr b="0" lang="en-US" sz="1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3f7c"/>
              </a:solidFill>
              <a:latin typeface="Arial Narrow"/>
            </a:endParaRPr>
          </a:p>
          <a:p>
            <a:pPr lvl="1" marL="1049400" indent="-59220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5f9bc8"/>
                </a:solidFill>
                <a:latin typeface="Arial Narrow"/>
              </a:rPr>
              <a:t>Podlimitní obhospodařovatelé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 FKvI a osoby provádějící správcu obdobnou obhospodařování (§ 15/1) budou plnit informační povinnost podle čl. 3 (3) AIFMD v roční frekvenci a ve sníženém rozsahu. Toto vykazování se uplatní i pro </a:t>
            </a:r>
            <a:r>
              <a:rPr b="1" lang="cs-CZ" sz="1700" spc="-1" strike="noStrike">
                <a:solidFill>
                  <a:srgbClr val="5f9bc8"/>
                </a:solidFill>
                <a:latin typeface="Arial Narrow"/>
              </a:rPr>
              <a:t>nadlimitní obhospodařovatelé kteří rozhodný limit fakticky nepřekročí</a:t>
            </a:r>
            <a:r>
              <a:rPr b="0" lang="cs-CZ" sz="1700" spc="-1" strike="noStrike">
                <a:solidFill>
                  <a:srgbClr val="5f9bc8"/>
                </a:solidFill>
                <a:latin typeface="Arial Narrow"/>
              </a:rPr>
              <a:t>. </a:t>
            </a:r>
            <a:endParaRPr b="0" lang="en-US" sz="17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200" spc="-1" strike="noStrike" u="sng">
                <a:solidFill>
                  <a:srgbClr val="5f9bc8"/>
                </a:solidFill>
                <a:uFillTx/>
                <a:latin typeface="Arial Narrow"/>
                <a:hlinkClick r:id="rId3"/>
              </a:rPr>
              <a:t>[2]</a:t>
            </a:r>
            <a:r>
              <a:rPr b="0" lang="cs-CZ" sz="1200" spc="-1" strike="noStrike">
                <a:solidFill>
                  <a:srgbClr val="003f7c"/>
                </a:solidFill>
                <a:latin typeface="Arial Narrow"/>
              </a:rPr>
              <a:t> Nařízení Komise v přenesené pravomoci (EU) č. 231/2013 ze dne 19. prosince 2012 , kterým se doplňuje směrnice Evropského parlamentu a Rady 2011/61/EU, pokud jde o výjimky, obecné podmínky provozování činnosti, depozitáře, pákový efekt, transparentnost a dohled.</a:t>
            </a:r>
            <a:endParaRPr b="0" lang="en-US" sz="12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3280" y="193320"/>
            <a:ext cx="5689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Děkuji za pozorno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1640" y="2060280"/>
            <a:ext cx="3887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áclav Sim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Sekce dohledu nad F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Česká národní banka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vaclav.simon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OBSAH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USPOŘÁDÁNÍ DOHLEDU V ČNB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SEKTOR FONDŮ KOLEKTIVNÍHO INVESTOVÁNÍ V Č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ROZSAH DOHLED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EDOVÁ OPATŘENÍ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ZAMĚŘENÍ DOHLED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YKAZOVACÍ POVINNOSTI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B9C2-377F-4245-A2BC-0F72E550F27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Uspořádání dohledu v ČNB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I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299-6A17-486C-B33B-AF10C494843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8" name="Picture 78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Uspořádání dohledu v ČNB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II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Schéma uspořádání sekce dohledu nad F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        </a:t>
            </a: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Dohled na dálku        Dohled na místě</a:t>
            </a:r>
            <a:endParaRPr b="0" lang="en-US" sz="28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Obezřetnostní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odborné péč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A66-39E8-4CCD-A1F9-11829EBA9B2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2" name="Obdélník 4"/>
          <p:cNvSpPr/>
          <p:nvPr/>
        </p:nvSpPr>
        <p:spPr>
          <a:xfrm>
            <a:off x="3780000" y="3068640"/>
            <a:ext cx="3887640" cy="309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3f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dbor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dbor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dohledu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kontroly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bezřetnosti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bezřetnosti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dbor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dbor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dohledu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kontroly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odborné 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odborné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Péče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 péče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3" name="Přímá spojnice 6"/>
          <p:cNvSpPr/>
          <p:nvPr/>
        </p:nvSpPr>
        <p:spPr>
          <a:xfrm>
            <a:off x="5724360" y="3068640"/>
            <a:ext cx="0" cy="30970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4" name="Přímá spojnice 9"/>
          <p:cNvSpPr/>
          <p:nvPr/>
        </p:nvSpPr>
        <p:spPr>
          <a:xfrm>
            <a:off x="3780000" y="4616280"/>
            <a:ext cx="388764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číslo snímku 4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AA30-9204-48C0-B99A-9F0DBDF7803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86840"/>
            <a:ext cx="8136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Fondy kolektivního investování v ČR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I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9898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Vývoj počtu domácích fondů kolektivního investování v ČR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2276640"/>
          <a:ext cx="7989840" cy="3504960"/>
        </p:xfrm>
        <a:graphic>
          <a:graphicData uri="http://schemas.openxmlformats.org/drawingml/2006/table">
            <a:tbl>
              <a:tblPr/>
              <a:tblGrid>
                <a:gridCol w="820800"/>
                <a:gridCol w="2465280"/>
                <a:gridCol w="2536920"/>
                <a:gridCol w="2166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Rok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určené veřejnosti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kvalifikovaných investorů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75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7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3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8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9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DB4-B7BB-429C-9C80-BE9F6AB4855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Fondy kolektivního investování v ČR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II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1700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Vývoj majetku v domácích fondech kolektivního investování v ČR (v mld. Kč)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43280" y="3141720"/>
            <a:ext cx="564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05000"/>
          <a:ext cx="7989840" cy="3697200"/>
        </p:xfrm>
        <a:graphic>
          <a:graphicData uri="http://schemas.openxmlformats.org/drawingml/2006/table">
            <a:tbl>
              <a:tblPr/>
              <a:tblGrid>
                <a:gridCol w="820800"/>
                <a:gridCol w="2465280"/>
                <a:gridCol w="2536920"/>
                <a:gridCol w="216684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Rok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určené veřejnosti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ondy kvalifikovaných investorů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9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5760">
                      <a:solidFill>
                        <a:srgbClr val="003f7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19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97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6</a:t>
                      </a: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576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ROZSAH DOHLEDU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DOHLÍŽENÉ OSOBY a ČINNOSTI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Nově – hlavní administrátor, hlavní podpůrce, noví depozitáři, zahraniční obhospodařovatel, vznik nových produktů – nesamosprávných AIF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VĚCNÝ ROZSAH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vinnosti stanovené zákonem, na základě zákona, přímo použitelným předpisem E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dmínky určené v Rozhodnutí ČNB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D3F6-BDEF-4169-A5ED-2A9BF33C204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86840"/>
            <a:ext cx="799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DOHLEDOVÁ OPATŘENÍ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Změn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Dohlížený subjekt je povinen bez zbytečného odkladu oznámit ČNB způsob odstranění nedostatků a zjednání náprav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ožadovat ověření oceňování majetku a dluhů IF jinou osobo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Určit podmínky pro využití pákového efektu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Omezit rozsah investiční strategi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Přijmout opatření k účinnějšímu sledování možných zdrojů systémového rizika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9" name="Zástupný symbol pro číslo snímku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CE36-F533-42DF-8264-E18BEEEABB6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8CC-61B8-4ABC-80AA-AF40543BD8E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186840"/>
            <a:ext cx="806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Narrow"/>
              </a:rPr>
              <a:t>ZAMĚŘENÍ DOHLEDU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9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§ 536 ZISIF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ČNB se při výkonu dohledu zaměří především na: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14240" indent="-19188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ochranu zájmů investorů fondů kolektivního investování </a:t>
            </a:r>
            <a:r>
              <a:rPr b="0" lang="cs-CZ" sz="26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1"/>
              </a:rPr>
              <a:t>[1</a:t>
            </a:r>
            <a:r>
              <a:rPr b="0" lang="en-US" sz="2600" spc="-1" strike="noStrike" u="sng" baseline="30000">
                <a:solidFill>
                  <a:srgbClr val="5f9bc8"/>
                </a:solidFill>
                <a:uFillTx/>
                <a:latin typeface="Arial Narrow"/>
                <a:hlinkClick r:id="rId2"/>
              </a:rPr>
              <a:t>]</a:t>
            </a: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14240" indent="-19188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možné zdroje systémového rizika pro řádné fungování finančního trhu v České republice.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14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14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5f9bc8"/>
                </a:solidFill>
                <a:latin typeface="Arial Narrow"/>
              </a:rPr>
              <a:t>	</a:t>
            </a:r>
            <a:r>
              <a:rPr b="0" lang="en-US" sz="1400" spc="-1" strike="noStrike" baseline="30000">
                <a:solidFill>
                  <a:srgbClr val="5f9bc8"/>
                </a:solidFill>
                <a:latin typeface="Arial Narrow"/>
              </a:rPr>
              <a:t>[1]</a:t>
            </a:r>
            <a:r>
              <a:rPr b="0" lang="cs-CZ" sz="1400" spc="-1" strike="noStrike">
                <a:solidFill>
                  <a:srgbClr val="5f9bc8"/>
                </a:solidFill>
                <a:latin typeface="Arial Narrow"/>
              </a:rPr>
              <a:t> Ustanovení § 92 návrhu ZISIF rozděluje investiční fondy na fondy kolektivního investování a fondy kvalifikovaných investorů. Fondy kolektivního investování se dále rozdělují na standardní a speciální fondy.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27:11Z</dcterms:created>
  <dc:creator>Jan Škoda</dc:creator>
  <dc:description/>
  <dc:language>en-US</dc:language>
  <cp:lastModifiedBy>Václav Simon</cp:lastModifiedBy>
  <cp:lastPrinted>2013-04-18T12:30:57Z</cp:lastPrinted>
  <dcterms:modified xsi:type="dcterms:W3CDTF">2013-04-18T14:21:45Z</dcterms:modified>
  <cp:revision>39</cp:revision>
  <dc:subject/>
  <dc:title>Snímek 1</dc:title>
</cp:coreProperties>
</file>