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E12A-84A7-4A4D-BCFF-54ACE269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AD09-3653-40A9-85D5-68DC7A7E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6720" y="757080"/>
            <a:ext cx="4935600" cy="37008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AD8-9D4F-4E03-B446-FCD85ACEE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5DCB-ABAF-4AF5-83F1-9CF42F82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F2C-4145-4B9F-BE7A-123D0767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AA73-0F80-4C34-A4DA-E1936B9F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8177-A05E-4188-986C-11999C0B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538-39F5-4FB6-A0BE-5FF8C7B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549-D70A-42A3-B287-CB948535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EC9-8FEF-474E-B1C6-7282B2BD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D81-6E14-492A-A509-D4D334A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E9C-A90B-4233-8AC1-8351108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16A-51BB-4D42-8BCE-308C7C2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749-DF96-4DF1-A6FF-FCCEA9D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3D3-EFE0-4C7B-A4C0-9FC5166D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AC0-16AC-4563-8B8C-708D706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120-5C6A-4044-85B9-8B7FCC7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777-3FD9-4C16-B7BD-327CC15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6EB-FC5A-46B6-95FF-A215917C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02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56386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ISIF – problematické otázk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533520" y="4054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k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áš Vá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32" descr="D:\Sales_Marketing\Corporate_Identity\QIIS\QIIS_logo.jpg"/>
          <p:cNvPicPr/>
          <p:nvPr/>
        </p:nvPicPr>
        <p:blipFill>
          <a:blip r:embed="rId3"/>
          <a:stretch/>
        </p:blipFill>
        <p:spPr>
          <a:xfrm>
            <a:off x="380880" y="5562720"/>
            <a:ext cx="19353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vnímáme sporné otázky?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0" y="177336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bude přístup regulátora k obhospodařovatelům neoprávněným přesáhnout rozhodný lim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enciálně reputační riziko pro fondový byznys jako takový, kdy pár „nepoctivců“ může zkazit reputaci celému odvětv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sí depozitář vykonávat kontrolní činnosti v plném rozsahu i u fondů kvalifikovaných investorů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k zpět oproti aktuálnímu ZKI, kdy lze smluvně vyloučit kontrolu oceňování, rozdělování výnosů a nakládání s majetk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e snad upraveno pozměňovacím návr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kvalifikovaným investorem opravdu jen investor se 125 000 E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raveno o kompromis, že se jedná o souhrn splacených vkladů u jednoho obhospodařova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vnímáme sporné otázky?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0" y="173988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rocesní stránka věci aneb kdy budou novinky fungovat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implementací SICAV musí jít ruku v ruce komplexní úprava související legislativy (občanský zákoník, zákon o obchodních společnostech a prováděcí předpisy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Reálná účinnost se posouvá minimálně na počátek 201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ůsobnost statutárního orgánu fondu s právní subjektivitou bude nově vykonávat statutární orgán investiční společnost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dy bude uzpůsoben elektronický obchodní rejstřík a začne změnu reflektovat rejstříkový soud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ůjde ruku v ruce se ZISIF i smysluplné, a především dlouhodobě </a:t>
            </a:r>
            <a:r>
              <a:rPr b="1" lang="cs-CZ" sz="1900" spc="-1" strike="noStrike" u="sng">
                <a:solidFill>
                  <a:srgbClr val="000000"/>
                </a:solidFill>
                <a:uFillTx/>
                <a:latin typeface="Arial"/>
              </a:rPr>
              <a:t>udržitelný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daňový režim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9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ké pozitivní změny bude ZISIF znamenat pro FK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0" y="1844640"/>
            <a:ext cx="6705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působnosti zákona se dostane de facto jakékoli shromažďování finančních prostředků za účelem jeho inve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ělení funkcí administrátora a depozitá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CA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íření okruhu osob, oprávněných vykonávat činnosti depozitá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ušení zákazu veřejné propag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pital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jednodušení povolovací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ložení doby stanovování NAV u fondů investujících do nemovitostí až na 2 ro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emise dluhopisů F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ušení maximálního počtu invest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ížení limitů na vlastní kapit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971800" y="1905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48120" y="3060720"/>
            <a:ext cx="406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káš Vá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QI investiční společnost, a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rzovní pal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bná 682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0 05 Prah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.: +420 225 988 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cha@conseq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:\Sales_Marketing\Corporate_Identity\QIIS\QIIS_logo.jpg"/>
          <p:cNvPicPr/>
          <p:nvPr/>
        </p:nvPicPr>
        <p:blipFill>
          <a:blip r:embed="rId1"/>
          <a:stretch/>
        </p:blipFill>
        <p:spPr>
          <a:xfrm>
            <a:off x="152280" y="2819520"/>
            <a:ext cx="19353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3:01:11Z</dcterms:created>
  <dc:creator>vacha</dc:creator>
  <dc:description/>
  <dc:language>en-US</dc:language>
  <cp:lastModifiedBy>Jana Michalíková - AKAT</cp:lastModifiedBy>
  <cp:lastPrinted>2013-01-17T13:21:28Z</cp:lastPrinted>
  <dcterms:modified xsi:type="dcterms:W3CDTF">2013-04-17T19:16:22Z</dcterms:modified>
  <cp:revision>100</cp:revision>
  <dc:subject/>
  <dc:title>Fondy kvalifikovaných investorů  - aktuální situace</dc:title>
</cp:coreProperties>
</file>