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EDD2-018C-4E96-A1DB-DA6A63D7B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B825-85DF-423F-A082-2E3BF872B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EC9F-2F88-4F65-B1E9-D66065FC4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4A06-6FF4-4B34-83EE-D974D5D86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A23E-01E8-4DDD-BA18-88CDDD84B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D67D-7D5A-40D0-BC90-DFE6E68DC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4E84-3136-419A-A0D6-1A7B7CF35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656E-27E9-4170-BA53-9C626FB55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7C17-B48D-4246-9BE0-C83DA18B5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F00D-7C6D-44A8-8467-BFAE2D1C5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3CC3-53DD-4759-A30F-B23DAE467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A7D7-B680-4E1A-945C-334550DAD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771D-735B-444E-8E34-3930B75CE72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0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f7c"/>
                </a:solidFill>
                <a:latin typeface="Arial Narrow"/>
              </a:rPr>
              <a:t>Regulace obchodování 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f7c"/>
                </a:solidFill>
                <a:latin typeface="Arial Narrow"/>
              </a:rPr>
              <a:t>s OTC deriváty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 Narrow"/>
              </a:rPr>
              <a:t>Petr Gavlas, Česká národní banka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7c"/>
                </a:solidFill>
                <a:latin typeface="Arial Narrow"/>
              </a:rPr>
              <a:t>Next Steps in Asset Management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Praha, 19. dubna 2013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EMIR – legislativa</a:t>
            </a: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EMIR – Nařízení Evropského parlamentu a Rady (EU) č. 648/2012 ze dne 4. července 2012 o OTC derivátech, ústředních protistranách a registrech obchodních údajů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rováděcí nařízení Komise (EU)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 Narrow"/>
              </a:rPr>
              <a:t>1247/2012</a:t>
            </a:r>
            <a:r>
              <a:rPr b="0" lang="cs-CZ" sz="1800" spc="-1" strike="noStrike">
                <a:solidFill>
                  <a:srgbClr val="ff0000"/>
                </a:solidFill>
                <a:latin typeface="Arial Narrow"/>
              </a:rPr>
              <a:t> – struktura hlášení do registru obchodních údajů, začátek hlášení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248/2012 – žádost o licenci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249/2012 – formát údajů uchovávaných ústřední protistranou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Nařízení Komise v přenesené pravomoci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48/2013 – obsah hlášení do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 Narrow"/>
              </a:rPr>
              <a:t>149/2013</a:t>
            </a:r>
            <a:r>
              <a:rPr b="0" lang="cs-CZ" sz="1800" spc="-1" strike="noStrike">
                <a:solidFill>
                  <a:srgbClr val="ff0000"/>
                </a:solidFill>
                <a:latin typeface="Arial Narrow"/>
              </a:rPr>
              <a:t> – nepřímý clearing, nefinanční protistrany, řízení rizik, atd.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0/2013 – náležitosti žádosti o licenci registru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1/2013 – údaje zveřejňované registrem obchodních údajů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2/2013 – kapitálové požadavky na ústřední protistrany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153/2013 – obezřetnostní požadavky na ústřední protistrany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Nařízení ke kolaterálu a řízení rizik  (čl. 11 odst. 3 a 4 EMIR) se stále diskutují (IOSCO). 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9258-AEEF-4833-A8DD-B2C872A0322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další zdroje informací</a:t>
            </a: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EK 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nejčastější dotazy FAQ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ESMA 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FAQ k implementaci EMIR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Předpokládaný časový harmonogram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Informace pro nefinanční instituce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ČNB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 – Dohled a regulace – Legislativní základna – Obchodování s OTC deriváty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- Odkazy na všechny uvedené dokumenty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37DA-9BF4-4732-A53B-99F552EC6A9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FBC-364E-426D-A494-94E62166AEE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1) Povinnost clearovat některé OTC derivátové kontrakty prostřednictví ústředních protistran - CCP (Clearing obligation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pouze pro některé kategorie OTC derivát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Stanoví ESMA, prostřednictvím technického standardu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bude vyhlášeno prostřednictvím Nařízení EK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veřejněno v rejstříku ESMA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ESMA zohlední: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Míru standardizace smluvních podmínek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Objem a likviditu příslušné kategorie OTC derivát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Dostupnost cenových informací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Dosavadní protistrany mají 6 měsíců na podání žádosti o povolení k činnosti dle EMIR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ESMA - 6 měsíců na veřejné konzultace a rozhodnutí o: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vinném clearingu pro určitou kategorii OTC derivátů, 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atu účinnosti povinného clearing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existujících smlouvách, které budou muset být clearován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2) Požadavky na řízení rizik u OTC derivátů, které nejsou clearovány prostřednictvím (Risk mitigation techniques) - viz nařízení 149/2013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1) Včasné potvrzení (konfirmace)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kud možno, tak elektronick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elší lhůty pro transakce s nefinančními protistranami (až 7 dnů)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2) Sesouhlasení portfolií (rekonciliace)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čtvrtletně – 50 vzájemných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týdně – 51 – 499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enně – 500 a více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3) Komprese portfolií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ři počtu 500 a více OTC derivátových smluv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2x ročně analyzovat možnost provedení komprese portfoli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4) Řešení sporů 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80028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dohodnuto před uzavřením smlouv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5) Oceňování tržní hodnotou nebo modelem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6 měsíční přechodné období pro rekonciliaci, kompresi a řešení sporů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BAF-F80E-44D9-9E2C-23B4584272B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EMIR – základní povinnosti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vinnost hlásit obchody s deriváty do registrů obchodních údajů (Reporting obligation) – Trade repository (TR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Reportují se všechny deriváty, tzn. i burzovn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Povinnost mají obě strany transakce, nutno zamezit duplicitám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Reporting možno delegovat: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Jedna protistrana na druhou proti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Jedna protistrana deleguje na třetí 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bě protistrany delegují na stejnou třetí stranu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bě protistrany delegují na různé třetí strany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3f7c"/>
                </a:solidFill>
                <a:latin typeface="Arial"/>
              </a:rPr>
              <a:t>ESMA připraví FAQ k reportingu do TR</a:t>
            </a:r>
            <a:endParaRPr b="0" lang="en-US" sz="12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ředpokládaný časový harmonogram (od 15. března 2013)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ESMA uděluje licenci, 40 pracovních dní na rozhodnutí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K harmonogramu začátku reportingu, viz nařízení EK 1247/2012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Úvěrové a úrokové deriváty do 90 dnů po registraci TR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5f9bc8"/>
                </a:solidFill>
                <a:latin typeface="Arial"/>
              </a:rPr>
              <a:t>Ostatní deriváty od 1. ledna 2014, byl-li TR registrován před 1. říjnem 2013, jinak 90 dnů po jeho registraci</a:t>
            </a:r>
            <a:endParaRPr b="0" lang="en-US" sz="14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4) Požadavky na povolení a pravidla činnosti CCP a TR</a:t>
            </a: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f9bc8"/>
                </a:solidFill>
                <a:latin typeface="Arial"/>
              </a:rPr>
              <a:t>V ČR zatím nepředpokládáme vznik CCP ani TR</a:t>
            </a:r>
            <a:endParaRPr b="0" lang="en-US" sz="1200" spc="-1" strike="noStrike">
              <a:solidFill>
                <a:srgbClr val="5f9bc8"/>
              </a:solidFill>
              <a:latin typeface="Arial Narrow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  <a:p>
            <a:pPr marL="57240">
              <a:spcBef>
                <a:spcPts val="3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CC9-1183-4E3B-BB42-7D78FC600AD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8CF-DBF4-47ED-891B-2A151472960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136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Petr Gavla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Odbor regulace finančního trhu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petr.gavlas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Jana Michalíková - AKAT</cp:lastModifiedBy>
  <dcterms:modified xsi:type="dcterms:W3CDTF">2013-04-17T19:27:48Z</dcterms:modified>
  <cp:revision>99</cp:revision>
  <dc:subject/>
  <dc:title>Český název přednášky/akce</dc:title>
</cp:coreProperties>
</file>