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f7c"/>
                </a:solidFill>
                <a:latin typeface="Arial Narrow"/>
              </a:rPr>
              <a:t>Click to move the slide</a:t>
            </a: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43BAC-CDE3-4CB7-9085-2B0AB7C2D2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3880"/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9B5D1-7449-4906-83B6-D21F0DBCB6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798984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98984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1CC54-321B-4770-9396-9C254E8456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0080" y="90756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80080" y="376668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0A6DD-B745-4EEB-8157-00D148541F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257256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87240" y="907560"/>
            <a:ext cx="257256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89040" y="907560"/>
            <a:ext cx="257256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7256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87240" y="3766680"/>
            <a:ext cx="257256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89040" y="3766680"/>
            <a:ext cx="257256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2E874-37F4-484B-B7BD-BFE3FA9C0D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907560"/>
            <a:ext cx="798984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79898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3898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80080" y="907560"/>
            <a:ext cx="3898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979640" y="76320"/>
            <a:ext cx="590400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80080" y="907560"/>
            <a:ext cx="3898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907560"/>
            <a:ext cx="798984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3232F-7875-4E74-A076-F60FF26743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3898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80080" y="90756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80080" y="376668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90756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98984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798984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98984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90756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80080" y="376668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257256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87240" y="907560"/>
            <a:ext cx="257256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89040" y="907560"/>
            <a:ext cx="257256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7256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87240" y="3766680"/>
            <a:ext cx="257256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89040" y="3766680"/>
            <a:ext cx="257256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79898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0BF49-23D1-4BA5-AE7A-EA4B3B06B9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3898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80080" y="907560"/>
            <a:ext cx="3898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CA12D-FED2-4044-BDA4-7E068FCC08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093B4-3F10-4A1E-9168-77A7010C72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979640" y="76320"/>
            <a:ext cx="590400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3BE4A-EC03-4EC7-8747-8A318A2CB4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907560"/>
            <a:ext cx="3898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77193-7977-4A53-8890-2B07F07FBC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3898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90756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80080" y="376668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1A15C-1D84-4071-825F-3686BA9530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90756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98984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FADBF-3C54-4EF5-825B-2B4430E335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4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f7c"/>
                </a:solidFill>
                <a:latin typeface="Arial Narrow"/>
              </a:rPr>
              <a:t>Click to edit the title text format</a:t>
            </a: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907560"/>
            <a:ext cx="79898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3" marL="1600200" indent="-230040">
              <a:spcBef>
                <a:spcPts val="700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453000"/>
            <a:ext cx="213372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3f7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11F96-999D-4431-890B-CDB891DE7D6E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488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79640" y="92160"/>
            <a:ext cx="5905440" cy="47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f7c"/>
                </a:solidFill>
                <a:latin typeface="Arial Narrow"/>
              </a:rPr>
              <a:t>Click to edit the title text format</a:t>
            </a: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9bc8"/>
                </a:solidFill>
                <a:latin typeface="Arial Narrow"/>
              </a:rPr>
              <a:t>Second Outline Level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75000"/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3" marL="1370160" algn="ctr">
              <a:spcBef>
                <a:spcPts val="499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9bc8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5f9bc8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9bc8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5f9bc8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9bc8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5f9bc8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9bc8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5f9bc8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lena.sebestova@cnb.cz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79640" y="92160"/>
            <a:ext cx="5905440" cy="47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779640" y="2924280"/>
            <a:ext cx="467964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f7c"/>
                </a:solidFill>
                <a:latin typeface="Arial Narrow"/>
              </a:rPr>
              <a:t>ZISIF - výzvy pro ČNB</a:t>
            </a:r>
            <a:endParaRPr b="0" lang="en-US" sz="4000" spc="-1" strike="noStrike">
              <a:solidFill>
                <a:srgbClr val="003f7c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5f9bc8"/>
                </a:solidFill>
                <a:latin typeface="Arial Narrow"/>
              </a:rPr>
              <a:t>Alena Šebestová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f7c"/>
                </a:solidFill>
                <a:latin typeface="Arial Narrow"/>
              </a:rPr>
              <a:t>Next Steps in Asset Management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f7c"/>
                </a:solidFill>
                <a:latin typeface="Arial Narrow"/>
              </a:rPr>
              <a:t>Změny v postavení národních bank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Praha, 19. dubna 2013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f7c"/>
                </a:solidFill>
                <a:latin typeface="Arial Narrow"/>
              </a:rPr>
              <a:t>ZISIF - výzvy pro ČNB                              1/5</a:t>
            </a:r>
            <a:endParaRPr b="1" lang="en-US" sz="24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79898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c"/>
                </a:solidFill>
                <a:latin typeface="Arial Narrow"/>
              </a:rPr>
              <a:t>Věcné dopady ZISIF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spcBef>
                <a:spcPts val="649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5f9bc8"/>
                </a:solidFill>
                <a:latin typeface="Arial Narrow"/>
              </a:rPr>
              <a:t>Rekodifikace UCITS IV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49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5f9bc8"/>
                </a:solidFill>
                <a:latin typeface="Arial Narrow"/>
              </a:rPr>
              <a:t>Implementace AIFMD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49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5f9bc8"/>
                </a:solidFill>
                <a:latin typeface="Arial Narrow"/>
              </a:rPr>
              <a:t>Národní novinky (centrální administrátor, nové soukromoprávní typy fondů)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49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5f9bc8"/>
                </a:solidFill>
                <a:latin typeface="Arial Narrow"/>
              </a:rPr>
              <a:t>Přímý krok k rekodifikaci soukromého práva v ČR (2014)  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c"/>
                </a:solidFill>
                <a:latin typeface="Arial Narrow"/>
              </a:rPr>
              <a:t>Dopady do činností ČNB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spcBef>
                <a:spcPts val="649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5f9bc8"/>
                </a:solidFill>
                <a:latin typeface="Arial Narrow"/>
              </a:rPr>
              <a:t>Regulace 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49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5f9bc8"/>
                </a:solidFill>
                <a:latin typeface="Arial Narrow"/>
              </a:rPr>
              <a:t>Licencování a registrace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49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5f9bc8"/>
                </a:solidFill>
                <a:latin typeface="Arial Narrow"/>
              </a:rPr>
              <a:t>Dohled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49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5f9bc8"/>
                </a:solidFill>
                <a:latin typeface="Arial Narrow"/>
              </a:rPr>
              <a:t>Mezinárodní spolupráce - průřezově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3A951-7DA5-4BF9-B9E3-0DD7FEB88E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f7c"/>
                </a:solidFill>
                <a:latin typeface="Arial Narrow"/>
              </a:rPr>
              <a:t>ZISIF - výzvy pro ČNB                              2/5</a:t>
            </a:r>
            <a:endParaRPr b="1" lang="en-US" sz="24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79898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c"/>
                </a:solidFill>
                <a:latin typeface="Arial Narrow"/>
              </a:rPr>
              <a:t>Výzvy v oblasti regulace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spcBef>
                <a:spcPts val="649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5f9bc8"/>
                </a:solidFill>
                <a:latin typeface="Arial Narrow"/>
              </a:rPr>
              <a:t>Nařízení EK 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49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5f9bc8"/>
                </a:solidFill>
                <a:latin typeface="Arial Narrow"/>
              </a:rPr>
              <a:t>Nové vyhlášky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49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5f9bc8"/>
                </a:solidFill>
                <a:latin typeface="Arial Narrow"/>
              </a:rPr>
              <a:t>Interpretační materiály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SzPct val="75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Revize stanovisek a nová urgentní stanoviska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SzPct val="75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ESMA guidelines 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SzPct val="75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ESMA Q</a:t>
            </a: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&amp;</a:t>
            </a: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A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49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5f9bc8"/>
                </a:solidFill>
                <a:latin typeface="Arial Narrow"/>
              </a:rPr>
              <a:t>Uzavření MoU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2DCB1-9139-4B44-86F8-E533CC9ABE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f7c"/>
                </a:solidFill>
                <a:latin typeface="Arial Narrow"/>
              </a:rPr>
              <a:t>ZISIF - výzvy pro ČNB                              3/5</a:t>
            </a:r>
            <a:endParaRPr b="1" lang="en-US" sz="24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79898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c"/>
                </a:solidFill>
                <a:latin typeface="Arial Narrow"/>
              </a:rPr>
              <a:t>Výzvy v oblasti licencování resp. vstupu na trh (1)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spcBef>
                <a:spcPts val="649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5f9bc8"/>
                </a:solidFill>
                <a:latin typeface="Arial Narrow"/>
              </a:rPr>
              <a:t>Poskytovatelé služeb (v ČR)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SzPct val="75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převod dosavadních licencí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3" marL="1600200" indent="-230040">
              <a:spcBef>
                <a:spcPts val="499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f9bc8"/>
                </a:solidFill>
                <a:latin typeface="Arial Narrow"/>
              </a:rPr>
              <a:t>Vytvoření a naplnění nových seznamů</a:t>
            </a:r>
            <a:endParaRPr b="0" lang="en-US" sz="2000" spc="-1" strike="noStrike">
              <a:solidFill>
                <a:srgbClr val="5f9bc8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SzPct val="75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Noví poskytovatelé služeb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SzPct val="75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Nová povinnost registrace u dosavadních poskytovatelů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SzPct val="75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Nová povinnost registrace pro neregulované správce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SzPct val="75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Přeshraniční přeměny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48C36-A2C5-442D-A092-BAB91DE6C8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f7c"/>
                </a:solidFill>
                <a:latin typeface="Arial Narrow"/>
              </a:rPr>
              <a:t>ZISIF - výzvy pro ČNB                              4/5</a:t>
            </a:r>
            <a:endParaRPr b="1" lang="en-US" sz="24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79898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c"/>
                </a:solidFill>
                <a:latin typeface="Arial Narrow"/>
              </a:rPr>
              <a:t>Výzvy v oblasti licencování resp. vstupu na trh (2)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spcBef>
                <a:spcPts val="649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5f9bc8"/>
                </a:solidFill>
                <a:latin typeface="Arial Narrow"/>
              </a:rPr>
              <a:t>Produkty (v ČR)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SzPct val="75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Licencování nadále jen UCITS a samosprávné fondy 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SzPct val="75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Registrace CZ nesamosprávných fondů (do 5 dnů)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SzPct val="75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Nově – zahraniční správci CZ produktů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SzPct val="75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Přeshraniční přeměny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49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5f9bc8"/>
                </a:solidFill>
                <a:latin typeface="Arial Narrow"/>
              </a:rPr>
              <a:t>Vstup z/do zahraničí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SzPct val="75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EU notifikace služeb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SzPct val="75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EU notifikace produktů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6D620-4520-40F6-854C-6FAB76B2E88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f7c"/>
                </a:solidFill>
                <a:latin typeface="Arial Narrow"/>
              </a:rPr>
              <a:t>ZISIF - výzvy pro ČNB                              5/5</a:t>
            </a:r>
            <a:endParaRPr b="1" lang="en-US" sz="24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79898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c"/>
                </a:solidFill>
                <a:latin typeface="Arial Narrow"/>
              </a:rPr>
              <a:t>Výzvy v oblasti dohledu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spcBef>
                <a:spcPts val="649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5f9bc8"/>
                </a:solidFill>
                <a:latin typeface="Arial Narrow"/>
              </a:rPr>
              <a:t>Rizikově vážený přístup k dohledu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49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5f9bc8"/>
                </a:solidFill>
                <a:latin typeface="Arial Narrow"/>
              </a:rPr>
              <a:t>Rozšíření a modifikace předmětu dohledu 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SzPct val="75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Nové subjekty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SzPct val="75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Nová pravidla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SzPct val="75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Přenos odpovědnosti za tvorbu produktů na správce 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49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5f9bc8"/>
                </a:solidFill>
                <a:latin typeface="Arial Narrow"/>
              </a:rPr>
              <a:t>Zdroje informací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SzPct val="75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Pravidelný reporting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SzPct val="75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Ad hoc informace - nově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49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3300"/>
                </a:solidFill>
                <a:latin typeface="Arial Narrow"/>
              </a:rPr>
              <a:t>(téma dalšího příspěvku)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E3601-091A-4138-B9AE-995D171BABC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f7c"/>
                </a:solidFill>
                <a:latin typeface="Arial Narrow"/>
              </a:rPr>
              <a:t>Děkujume za pozornost</a:t>
            </a: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71640" y="1413000"/>
            <a:ext cx="77040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c"/>
                </a:solidFill>
                <a:latin typeface="Arial Narrow"/>
              </a:rPr>
              <a:t>Děkuji za pozornost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c"/>
                </a:solidFill>
                <a:latin typeface="Arial Narrow"/>
              </a:rPr>
              <a:t>Alena Šebestová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f7c"/>
                </a:solidFill>
                <a:latin typeface="Arial Narrow"/>
              </a:rPr>
              <a:t>právník odboru regulace</a:t>
            </a:r>
            <a:endParaRPr b="0" lang="en-US" sz="20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f7c"/>
                </a:solidFill>
                <a:latin typeface="Arial Narrow"/>
              </a:rPr>
              <a:t>sekce regulace a mezinárodní spolupráce</a:t>
            </a:r>
            <a:r>
              <a:rPr b="0" lang="cs-CZ" sz="2800" spc="-1" strike="noStrike">
                <a:solidFill>
                  <a:srgbClr val="003f7c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5f9bc8"/>
                </a:solidFill>
                <a:uFillTx/>
                <a:latin typeface="Arial Narrow"/>
                <a:hlinkClick r:id="rId1"/>
              </a:rPr>
              <a:t>alena.sebestova@cnb.cz</a:t>
            </a:r>
            <a:r>
              <a:rPr b="0" lang="cs-CZ" sz="2800" spc="-1" strike="noStrike">
                <a:solidFill>
                  <a:srgbClr val="003f7c"/>
                </a:solidFill>
                <a:latin typeface="Arial Narrow"/>
              </a:rPr>
              <a:t>  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C3430-8A9D-429F-8772-82188CC453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7T12:09:39Z</dcterms:created>
  <dc:creator>U00139</dc:creator>
  <dc:description/>
  <dc:language>en-US</dc:language>
  <cp:lastModifiedBy>Alena Šebestová</cp:lastModifiedBy>
  <dcterms:modified xsi:type="dcterms:W3CDTF">2013-04-18T12:54:00Z</dcterms:modified>
  <cp:revision>61</cp:revision>
  <dc:subject/>
  <dc:title>Český název přednášky/akce</dc:title>
</cp:coreProperties>
</file>