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18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6352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28440" y="746280"/>
            <a:ext cx="4964040" cy="37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7326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09720" y="4716360"/>
            <a:ext cx="5000400" cy="4469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943452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63520" y="943452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229C-3669-42AE-A384-31B17A279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2880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09720" y="4716360"/>
            <a:ext cx="500040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63880" y="943452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758B-A1A1-47CE-B0B5-8D642D755059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2880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09720" y="4716360"/>
            <a:ext cx="500040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63880" y="943452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AB9A-1940-41C0-92F3-7D5F2B883733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880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09720" y="4716360"/>
            <a:ext cx="500040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63880" y="943452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0A61-4EFF-49CC-A2FA-625ADBFDDF2B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2880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9720" y="4716360"/>
            <a:ext cx="500040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63880" y="943452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1D4B-7D07-4EA5-BCAE-4D2C3B62F79E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2880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09720" y="4716360"/>
            <a:ext cx="500040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63880" y="943452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400A-D091-450C-9C87-6ACB58AEBB86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2880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09720" y="4716360"/>
            <a:ext cx="500040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63880" y="943452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1CA2-7481-4CE2-84D2-4CA454E6C5D1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880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9720" y="4716360"/>
            <a:ext cx="500040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63880" y="943452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BA03-5A92-469A-A832-4B89C69549B9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2880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9720" y="4716360"/>
            <a:ext cx="500040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63880" y="943452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715D-2020-4705-87A7-6A93267ED902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2880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09720" y="4716360"/>
            <a:ext cx="500040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63880" y="943452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4EF6-34CD-4491-A902-0BD72251DE5B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2880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9720" y="4716360"/>
            <a:ext cx="500040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63880" y="943452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A572-9068-4B15-818F-C904680069FB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AE7B-F588-4771-9CB1-FE1ECCB53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22460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2C7F-811F-45DD-AA10-90459D4B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2AE0-C918-4984-91EC-8E62DC3D2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99E8-B545-4A4C-9983-B2A1F30D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42720" y="304560"/>
            <a:ext cx="7962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945E-54EC-4A81-BF7D-4907636F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1620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22460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1620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6152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8916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6152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78916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BB1F-CBFE-42D3-A07D-347676DE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8E52-C89F-42F3-BDCC-9C33C695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ADCF-3A09-4187-A0F4-910A003D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04560"/>
            <a:ext cx="7962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43EE-E73A-4CB7-A32E-93CA134E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88B0-F3FA-46AF-892C-6CDB9C48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5C6C-3B38-4CF3-8720-3F86703A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3FD0-E2F8-457C-BE45-479EBDD0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1" marL="190440" indent="266760">
              <a:spcBef>
                <a:spcPts val="550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2" marL="380880" indent="533520">
              <a:spcBef>
                <a:spcPts val="550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3" marL="1601640" indent="-228600">
              <a:spcBef>
                <a:spcPts val="550"/>
              </a:spcBef>
              <a:buClr>
                <a:srgbClr val="0732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732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7326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BDD6-E0C5-4106-8596-641F364D920E}" type="slidenum">
              <a:rPr b="0" lang="en-US" sz="1400" spc="-1" strike="noStrike">
                <a:solidFill>
                  <a:srgbClr val="0732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7326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1" marL="190440" indent="266760">
              <a:spcBef>
                <a:spcPts val="550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2" marL="380880" indent="533520">
              <a:spcBef>
                <a:spcPts val="550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3" marL="1601640" indent="-228600">
              <a:spcBef>
                <a:spcPts val="550"/>
              </a:spcBef>
              <a:buClr>
                <a:srgbClr val="0732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732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7326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09480" y="1655280"/>
            <a:ext cx="7925040" cy="8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redaj Non-UCITS fondov v SR –</a:t>
            </a:r>
            <a:endParaRPr b="0" lang="en-US" sz="2800" spc="-1" strike="noStrike">
              <a:solidFill>
                <a:srgbClr val="07326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raktické a technické otázky</a:t>
            </a:r>
            <a:endParaRPr b="0" lang="en-US" sz="28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609480" y="4800600"/>
            <a:ext cx="331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Martin Smre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Arial"/>
              </a:rPr>
              <a:t>Tatra Asset Managemen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Arial"/>
              </a:rPr>
              <a:t>19. apríl 201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0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ŠPFPI – flexibilná schránka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BBB8-D079-4681-AF77-A4A41F320172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324000" y="1700280"/>
            <a:ext cx="82296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7326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380880" indent="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ext Box 33"/>
          <p:cNvSpPr/>
          <p:nvPr/>
        </p:nvSpPr>
        <p:spPr>
          <a:xfrm>
            <a:off x="1219320" y="2209680"/>
            <a:ext cx="67816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profesionálny investor alebo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investícia aspoň 50 000 eu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individualizované stratégi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žiadne obmedzenia investičnej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stratég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možnosť žiadať o povolenie aj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po vytvoren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osobitný režim zverejňovan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6012000" y="1700280"/>
            <a:ext cx="201600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600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 algn="ctr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Ďakujem za pozornosť </a:t>
            </a:r>
            <a:br>
              <a:rPr sz="3000"/>
            </a:br>
            <a:br>
              <a:rPr sz="3000"/>
            </a:b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1905120" y="434340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66"/>
                </a:solidFill>
                <a:latin typeface="Arial"/>
              </a:rPr>
              <a:t>Martin Smrek</a:t>
            </a:r>
            <a:br>
              <a:rPr sz="2400"/>
            </a:b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Tatra Asset Management</a:t>
            </a:r>
            <a:br>
              <a:rPr sz="2400"/>
            </a:b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e-mail: martin_smrek@tam.s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0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Špeciálne podielové fondy v SR 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90F1-250A-45E4-87F5-4FC46CA50DF2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24000" y="1700280"/>
            <a:ext cx="82296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7326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380880" indent="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Text Box 33"/>
          <p:cNvSpPr/>
          <p:nvPr/>
        </p:nvSpPr>
        <p:spPr>
          <a:xfrm>
            <a:off x="1219320" y="2209680"/>
            <a:ext cx="67816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Rounded Rectangle 5"/>
          <p:cNvSpPr/>
          <p:nvPr/>
        </p:nvSpPr>
        <p:spPr>
          <a:xfrm>
            <a:off x="971640" y="2205000"/>
            <a:ext cx="2808360" cy="1728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Rounded Rectangle 6"/>
          <p:cNvSpPr/>
          <p:nvPr/>
        </p:nvSpPr>
        <p:spPr>
          <a:xfrm>
            <a:off x="1187280" y="2276640"/>
            <a:ext cx="2305080" cy="361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3366"/>
                </a:solidFill>
                <a:latin typeface="Arial"/>
              </a:rPr>
              <a:t>Rizikový ŠPF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Rounded Rectangle 7"/>
          <p:cNvSpPr/>
          <p:nvPr/>
        </p:nvSpPr>
        <p:spPr>
          <a:xfrm>
            <a:off x="1187280" y="2781360"/>
            <a:ext cx="2305080" cy="361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3366"/>
                </a:solidFill>
                <a:latin typeface="Arial"/>
              </a:rPr>
              <a:t>Diverzifikovaný ŠPF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Rounded Rectangle 8"/>
          <p:cNvSpPr/>
          <p:nvPr/>
        </p:nvSpPr>
        <p:spPr>
          <a:xfrm>
            <a:off x="1187280" y="3357720"/>
            <a:ext cx="2305080" cy="361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3366"/>
                </a:solidFill>
                <a:latin typeface="Arial"/>
              </a:rPr>
              <a:t>ŠPF nehnuteľností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Content Placeholder 2"/>
          <p:cNvSpPr/>
          <p:nvPr/>
        </p:nvSpPr>
        <p:spPr>
          <a:xfrm>
            <a:off x="1403280" y="1628640"/>
            <a:ext cx="2016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i="1" lang="sk-SK" sz="2000" spc="-1" strike="noStrike">
                <a:solidFill>
                  <a:srgbClr val="002060"/>
                </a:solidFill>
                <a:latin typeface="Arial"/>
              </a:rPr>
              <a:t>Do 1.7.201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Flowchart: Punched Tape 13"/>
          <p:cNvSpPr/>
          <p:nvPr/>
        </p:nvSpPr>
        <p:spPr>
          <a:xfrm>
            <a:off x="179280" y="2276640"/>
            <a:ext cx="720720" cy="792000"/>
          </a:xfrm>
          <a:prstGeom prst="flowChartPunchedTape">
            <a:avLst/>
          </a:prstGeom>
          <a:solidFill>
            <a:srgbClr val="a6a6a6"/>
          </a:solidFill>
          <a:ln w="9360">
            <a:solidFill>
              <a:srgbClr val="fbfb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1933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Flowchart: Punched Tape 14"/>
          <p:cNvSpPr/>
          <p:nvPr/>
        </p:nvSpPr>
        <p:spPr>
          <a:xfrm>
            <a:off x="250920" y="3284640"/>
            <a:ext cx="649080" cy="649080"/>
          </a:xfrm>
          <a:prstGeom prst="flowChartPunchedTape">
            <a:avLst/>
          </a:prstGeom>
          <a:solidFill>
            <a:srgbClr val="a6a6a6"/>
          </a:solidFill>
          <a:ln w="9360">
            <a:solidFill>
              <a:srgbClr val="fbfb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1933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4067280" y="2205000"/>
            <a:ext cx="47638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0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Špeciálne podielové fondy v SR 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9DA6-523D-4448-B628-FB8F8D7F400A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24000" y="1700280"/>
            <a:ext cx="82296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7326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380880" indent="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Text Box 33"/>
          <p:cNvSpPr/>
          <p:nvPr/>
        </p:nvSpPr>
        <p:spPr>
          <a:xfrm>
            <a:off x="1219320" y="2209680"/>
            <a:ext cx="67816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1187280" y="1628640"/>
            <a:ext cx="2016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2060"/>
                </a:solidFill>
                <a:latin typeface="Arial"/>
              </a:rPr>
              <a:t>Od 1.7.201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Rounded Rectangle 16"/>
          <p:cNvSpPr/>
          <p:nvPr/>
        </p:nvSpPr>
        <p:spPr>
          <a:xfrm>
            <a:off x="539640" y="2205000"/>
            <a:ext cx="3095640" cy="194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Rounded Rectangle 17"/>
          <p:cNvSpPr/>
          <p:nvPr/>
        </p:nvSpPr>
        <p:spPr>
          <a:xfrm>
            <a:off x="684360" y="2637000"/>
            <a:ext cx="2808000" cy="361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3366"/>
                </a:solidFill>
                <a:latin typeface="Arial"/>
              </a:rPr>
              <a:t>ŠPF cenných papierov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TextBox 19"/>
          <p:cNvSpPr/>
          <p:nvPr/>
        </p:nvSpPr>
        <p:spPr>
          <a:xfrm>
            <a:off x="1258920" y="227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3366"/>
                </a:solidFill>
                <a:latin typeface="Arial"/>
              </a:rPr>
              <a:t>Verejné ŠPF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ounded Rectangle 20"/>
          <p:cNvSpPr/>
          <p:nvPr/>
        </p:nvSpPr>
        <p:spPr>
          <a:xfrm>
            <a:off x="684360" y="3068640"/>
            <a:ext cx="2808000" cy="361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3366"/>
                </a:solidFill>
                <a:latin typeface="Arial"/>
              </a:rPr>
              <a:t>ŠPF alternatívnych investícií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ounded Rectangle 21"/>
          <p:cNvSpPr/>
          <p:nvPr/>
        </p:nvSpPr>
        <p:spPr>
          <a:xfrm>
            <a:off x="684360" y="3500280"/>
            <a:ext cx="2808000" cy="362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3366"/>
                </a:solidFill>
                <a:latin typeface="Arial"/>
              </a:rPr>
              <a:t>ŠPF nehnuteľností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Rounded Rectangle 22"/>
          <p:cNvSpPr/>
          <p:nvPr/>
        </p:nvSpPr>
        <p:spPr>
          <a:xfrm>
            <a:off x="539640" y="4508640"/>
            <a:ext cx="3095640" cy="1081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Rounded Rectangle 23"/>
          <p:cNvSpPr/>
          <p:nvPr/>
        </p:nvSpPr>
        <p:spPr>
          <a:xfrm>
            <a:off x="684360" y="4724280"/>
            <a:ext cx="2808000" cy="649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3366"/>
                </a:solidFill>
                <a:latin typeface="Arial"/>
              </a:rPr>
              <a:t>ŠPF profesionálnych investorov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3995640" y="2205000"/>
            <a:ext cx="404676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0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Špeciálne podielové fondy v SR 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3663-B1D6-45C5-B4F6-BA7C6810F5FB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24000" y="1700280"/>
            <a:ext cx="82296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7326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380880" indent="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4572000" y="3716280"/>
            <a:ext cx="4032360" cy="2449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403236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0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Špeciálne podielové fondy v SR 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A3F1-1962-474C-9C42-36AB01FDA470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324000" y="1700280"/>
            <a:ext cx="82296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7326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380880" indent="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1298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0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Verejné špeciálne podielové fondy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7E44-6097-4486-86A7-64A753ED4D86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24000" y="1700280"/>
            <a:ext cx="82296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7326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380880" indent="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33"/>
          <p:cNvSpPr/>
          <p:nvPr/>
        </p:nvSpPr>
        <p:spPr>
          <a:xfrm>
            <a:off x="1219320" y="2209680"/>
            <a:ext cx="67816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vytvorenie na dobu neurčit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voľnejšie lim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možnosť vytvoriť riešenie investujúce do nových tried aktí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predĺženie lehoty na výplatu prostriedko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0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Verejné špeciálne podielové fondy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027D-146E-421F-A449-16BF4339FA2B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24000" y="1700280"/>
            <a:ext cx="82296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7326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380880" indent="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33"/>
          <p:cNvSpPr/>
          <p:nvPr/>
        </p:nvSpPr>
        <p:spPr>
          <a:xfrm>
            <a:off x="1219320" y="2209680"/>
            <a:ext cx="67816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66"/>
                </a:solidFill>
                <a:latin typeface="Arial"/>
              </a:rPr>
              <a:t>ŠPF cenných papiero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„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depozitné fondy“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vysoká likvidit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nízke riziko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stabilný výn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5435640" y="1628640"/>
            <a:ext cx="2305080" cy="48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0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Verejné špeciálne podielové fondy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D5EC-D23C-4902-B5F3-C5696469BE91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24000" y="1700280"/>
            <a:ext cx="82296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7326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380880" indent="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Text Box 33"/>
          <p:cNvSpPr/>
          <p:nvPr/>
        </p:nvSpPr>
        <p:spPr>
          <a:xfrm>
            <a:off x="1219320" y="1844640"/>
            <a:ext cx="67816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66"/>
                </a:solidFill>
                <a:latin typeface="Arial"/>
              </a:rPr>
              <a:t>ŠPF alternatívnych investíci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komodity, reality, private equity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pre investorov, ktorí chcú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diverzifikovať portfól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k-SK" sz="2400" spc="-1" strike="noStrike">
                <a:solidFill>
                  <a:srgbClr val="003366"/>
                </a:solidFill>
                <a:latin typeface="Arial"/>
              </a:rPr>
              <a:t>Komod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výnosový potenciá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nízka korelácia voči tradičným druhom aktí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protiinflačná ochran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6084720" y="1916280"/>
            <a:ext cx="2664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0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Verejné špeciálne podielové fondy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2AB8-750C-4012-8F12-FFA88AD3D43C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324000" y="1700280"/>
            <a:ext cx="82296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7326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380880" indent="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Text Box 33"/>
          <p:cNvSpPr/>
          <p:nvPr/>
        </p:nvSpPr>
        <p:spPr>
          <a:xfrm>
            <a:off x="1219320" y="2209680"/>
            <a:ext cx="67816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66"/>
                </a:solidFill>
                <a:latin typeface="Arial"/>
              </a:rPr>
              <a:t>ŠPF nehnuteľnost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„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hmatateľnosť investície“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výnosový potenciá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diverzifikačný prv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protiinflačná ochran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pravidelná výplata výnoso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5724360" y="1628640"/>
            <a:ext cx="23241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6:22:27Z</dcterms:created>
  <dc:creator>Martin Smrek</dc:creator>
  <dc:description/>
  <dc:language>en-US</dc:language>
  <cp:lastModifiedBy>Jana Michalíková - AKAT</cp:lastModifiedBy>
  <dcterms:modified xsi:type="dcterms:W3CDTF">2013-04-17T19:26:29Z</dcterms:modified>
  <cp:revision>244</cp:revision>
  <dc:subject/>
  <dc:title>Slide 1</dc:title>
</cp:coreProperties>
</file>