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E89-D438-434A-9A23-692DED00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11C-AE79-4720-865E-2853DDB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B5D-DFEB-446F-B7D4-D79A5DD7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F3A-BD46-4919-9B96-B698DE7E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3886-A3CA-4C87-9C60-B5635B79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A733-BC03-4D1E-876F-185F49F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BEFC-DD69-4D76-AA7D-CF2E0501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622-A43D-44A0-9BE9-128989E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31A3-BF84-4559-8E37-6C567F3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88FE-41F6-4D00-AFE3-1FFDE4B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571-5E69-4ABF-A632-62587FB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363-8B3B-48EF-BB3C-1F6F2B5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7C2-5BA2-4B14-85C2-F54D5F0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3F3F-0EB6-4295-BEF3-BF12AE74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0EF6-19B6-4CE6-9E03-BA08D91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719E-7CA0-41B6-B496-D3E53179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026F-20BE-4F9B-85CE-E1381A3C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EFD-1C15-4B0E-A4EC-22186D4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894-962A-4433-B2E3-0D9F41A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0F5-F517-4F6D-8FA9-F134CD8E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1F5-5733-479D-90AE-0BE9FA43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16A-F7FA-4795-9A44-9D7368C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25C-8755-4E52-A657-87B52447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158-0A3E-421D-A8C5-5A475E2E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032-CD62-46EC-96C2-063FC03B86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1D9D-7D5C-4D7E-B210-A924ABB2FC92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Transformace stávajících povol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gr. Marie Zavoralová</a:t>
            </a:r>
            <a:br>
              <a:rPr sz="30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 Steps in Asset Managemen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ha 19. dubna 2013, hotel Sherat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Do 1 roku ode dne, který MF oznámilo ve Sb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atí, že pro depozitáře standardního fondu se použije část uvedená v přechodných ustanov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kud ale IF bude mít výslovně ve statutu uvedeno, že depozitář postupuje dle obecné části zákona o depozitáři, pak se použije tato část a přechodná ustanovení se nepouži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této době běží lhůta na přizpůsobení se nové právní úpravě v části o depozitář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Arial"/>
              </a:rPr>
              <a:t>Od 1 roku ode dne, který MF oznámilo ve Sb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áška ČNB k povinnostem depozitáře standardního fondu se zruš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prava depozitáře standardního fondu se řídí výhradně částí zákona o depozitáři, nikoliv přechodnými ustanovení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666699"/>
                </a:solidFill>
                <a:uFillTx/>
                <a:latin typeface="Arial"/>
              </a:rPr>
              <a:t>kapitalovy.trh@m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Výhrada prezent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Obsah zobrazený v této prezentaci, jakož i ústní projev, odráží </a:t>
            </a:r>
            <a:r>
              <a:rPr b="0" i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výlučně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 individuální názory, hodnocení a přístup autora k dané problematice, jež se nemusí shodovat s názory či hodnoceními Ministerstva financí ani nepředstavují jeho oficiální pozi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řestože autor připravil prezentaci s veškerou náležitou péčí, činí tak bez nároku na úplnost a přesnost obsažených informací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bude přelicencování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tinuita udělených souhlasů zajiště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ansformace stávajících povolení IS a IF, který není obhospodařován na základě obhospodařovatelské smlouvy proběhne automaticky dle faktické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Investiční společ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tF) -&gt; IS (St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pF) -&gt; IS (Sp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S (SpKvI) -&gt; IS (FKvI) + oprávnění přesáhnout rozhodný li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Investiční fo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F (SpF) -&gt; SIF (SpF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IF (SpKvI) -&gt; SIF (FKvI) + oprávnění přesáhnout rozhodný li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ČNB vydá na žádost osvědčení o rozsahu povo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0. července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kud IS (FKvI) nebo SIF(FKv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Rozho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ý lim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ůže požádat o změnu povolení (národní reži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nětí povolení (je veden na seznamu entit, které plní některé oznamovací povinnosti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ISIF nestanoví lhůty do kdy je tak třeba uči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Nejpozději 30. září 201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dení seznamů podle ZIS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volení k vytvoření podílového fondu – zaniká (dle ZISIF se k tomuto povolení nedáv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volení IF, který má uzavřenou smlouvu o obhospodařování – zaniká (dle ZISIF se k tomuto povolení nedáv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2. července 20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IF s uzavřenou smlouvou o obhospodař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Bude automaticky zapsán do seznamu nesamosprávných fondů - tímto je zajištěna kontinuita jeho činno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V OR musí být zapsaná IS, která jej obhospodařuje, jako statutární orgá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Možno zapsat PO (tedy IS) jako statutární orgán bude až od účinnosti NOZ (tedy od 1.1.2014) – čili efektivně je lhůta na zapsání statutárního orgánu od 1.1.2014 do 22.7.2014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inak bude IF zruš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22. července 20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S má povinnost uvést své poměry a poměry IF, které obhospodařuje, do souladu se ZISI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IF má povinnost uvést své poměry do souladu se ZISIF (tzn. i úprava depozitářské smlouvy v souladu se ZIS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t a KI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oby uvedené v § 15 odst. 1 se zapíší do seznamu ČN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Den, který MF oznámí ve Sb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o té doby se použijí pro depozitáře standardního fondu přechodná ustanovení, nikoliv část zákona o depozitář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áže se na uveřejnění UCITS V v Úředním věstníku E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ejvětší rozdí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CP nemůže být do této doby depozitářem standardního fond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dlišná úprava odpovědnosti za ztrátu investičních nástroj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áška ČNB k povinnostem depozitář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4:07:17Z</dcterms:created>
  <dc:creator>14169</dc:creator>
  <dc:description/>
  <dc:language>en-US</dc:language>
  <cp:lastModifiedBy>Jana Michalíková - AKAT</cp:lastModifiedBy>
  <dcterms:modified xsi:type="dcterms:W3CDTF">2013-04-17T19:19:48Z</dcterms:modified>
  <cp:revision>16</cp:revision>
  <dc:subject/>
  <dc:title>Analýza přechodných ustanovení (ZISIF)</dc:title>
</cp:coreProperties>
</file>