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F46A-D2E9-4428-BC3E-AFD914B7B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E5F1-302E-4379-9866-0D907FE83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769C-C3A0-4CAA-B95C-66AC8C7AF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Footlight MT Ligh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78EF-DF27-45B7-9880-ED082455C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252E-FBBD-4C3F-968B-A7D4A4CA9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529E-3B6D-44FC-A507-FD18B0C86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326E-FCB0-40B1-9C1D-FBBB66C1F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are many areas to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0281C-7668-4472-A0AC-F141A761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6A6DD-3530-486E-AB8A-0FA9C664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5CC2D-63EC-42A9-8059-8E355FC5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BEA25-7494-49FF-8F9C-F2D284A2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6DBC-A8D5-4F6E-8652-D9516F8A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7833-4511-453F-B3E1-80CEC8DA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60FB-C8B0-4789-93AC-F03088EB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25F1-E65A-4082-8B8D-44D5D86C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B646-A4C3-48CD-BE57-E7229155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91F4-A2F4-47E7-BE25-B0B09AC9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4F51-BEAC-4E30-9E58-AE353723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0211F-150C-4F80-BEC4-BF7657A1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FF47-F3EE-46A9-A6C6-B608E135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1F9A-69BF-4B22-AE16-27CB4881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0524-2E05-4C19-9301-6376FA9E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9262-B05F-4F3F-9F29-D01B4D22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68FF-A539-4AAE-B200-4D81809C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FE66A-223A-4E40-A58E-74FEBBCB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F30C-81C2-434F-9EA7-B1F9AF06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CACB3-00BE-4D5A-957D-10F042F1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5E821-1E16-40BD-9A2C-16F37E26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68BCB-DFC0-45F4-AEEB-89D514B2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590E2-8222-40D6-9433-6C5475A8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43621-4325-4CD4-A7E4-FD0FB59A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FE03-04F5-4AF1-8DC9-80E18636D130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Footlight MT Light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Footlight MT Light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1027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1028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53" name="Freeform 1029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54" name="Freeform 1030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55" name="Freeform 1031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  <p:sp>
            <p:nvSpPr>
              <p:cNvPr id="56" name="Freeform 1032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Footlight MT Light"/>
                </a:endParaRPr>
              </a:p>
            </p:txBody>
          </p:sp>
        </p:grpSp>
        <p:sp>
          <p:nvSpPr>
            <p:cNvPr id="57" name="Freeform 1033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Footlight MT Light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Footlight MT Light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EEE4-A992-4BFF-BC2F-8AC29827B375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kapitalovy.trh@mfcr.cz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133360"/>
            <a:ext cx="84582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4400" spc="-1" strike="noStrike">
                <a:solidFill>
                  <a:srgbClr val="d7d200"/>
                </a:solidFill>
                <a:latin typeface="Garamond"/>
              </a:rPr>
              <a:t>NABÍZENÍ ZAHRANIČNÍCH INVESTIČNÍCH FONDŮ ZE „TŘETÍCH“ ZEMÍ V ČR</a:t>
            </a:r>
            <a:br>
              <a:rPr sz="4400"/>
            </a:br>
            <a:br>
              <a:rPr sz="4400"/>
            </a:br>
            <a:br>
              <a:rPr sz="4000"/>
            </a:br>
            <a:r>
              <a:rPr b="1" lang="pl-PL" sz="4000" spc="-1" strike="noStrike">
                <a:solidFill>
                  <a:srgbClr val="ffffff"/>
                </a:solidFill>
                <a:latin typeface="Garamond"/>
              </a:rPr>
              <a:t>Mgr. Bc. Aleš Králík, LL.M.</a:t>
            </a:r>
            <a:br>
              <a:rPr sz="4000"/>
            </a:br>
            <a:r>
              <a:rPr b="1" i="1" lang="pl-PL" sz="2400" spc="-1" strike="noStrike">
                <a:solidFill>
                  <a:srgbClr val="ffffff"/>
                </a:solidFill>
                <a:latin typeface="Garamond"/>
              </a:rPr>
              <a:t>Praha 19. dubna 2013, hotel Sheraton</a:t>
            </a:r>
            <a:br>
              <a:rPr sz="2400"/>
            </a:br>
            <a:r>
              <a:rPr b="1" i="1" lang="pl-PL" sz="2400" spc="-1" strike="noStrike">
                <a:solidFill>
                  <a:srgbClr val="ffffff"/>
                </a:solidFill>
                <a:latin typeface="Garamond"/>
              </a:rPr>
              <a:t>Next Steps in Asset Management, AKAT ČR/SAS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914400" y="4191120"/>
            <a:ext cx="78487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Disclaim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e5e5ff"/>
                </a:solidFill>
                <a:latin typeface="Garamond"/>
              </a:rPr>
              <a:t>Obsah zobrazený v této prezentaci, jakož i ústní projev, odráží výlučně individuální názory, hodnocení a přístup autora k dané problematice, jež se nemusí shodovat s názory či hodnoceními Ministerstva financí ani nepředstavují jeho oficiální pozic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e5e5ff"/>
                </a:solidFill>
                <a:latin typeface="Garamond"/>
              </a:rPr>
              <a:t>Přestože autor připravil prezentaci s veškerou náležitou péčí, činí tak bez nároku na úplnost a přesnost obsažených informací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457200" y="1295280"/>
            <a:ext cx="813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41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Úvod do problematik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609480" y="1484280"/>
            <a:ext cx="78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44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o je to „třetí“ země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eřejné nabízení vs. private placement vs. iniciativa investo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ahraniční fond kvalifikovaných investorů vs. zahraniční speciální fo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ozhodnutí ČNB o srovnatelnosti na žád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eznam zahraničních investičních fondů, které lze v ČR veřejně nabízet (vedený ČNB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41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e5e5ff"/>
                </a:solidFill>
                <a:latin typeface="Garamond"/>
              </a:rPr>
              <a:t>Nabízení s „pasem“</a:t>
            </a:r>
            <a:br>
              <a:rPr sz="3600"/>
            </a:br>
            <a:r>
              <a:rPr b="1" lang="pl-PL" sz="2800" spc="-1" strike="noStrike">
                <a:solidFill>
                  <a:srgbClr val="e5e5ff"/>
                </a:solidFill>
                <a:latin typeface="Garamond"/>
              </a:rPr>
              <a:t>§ 320, 321, 322, 325 a 326 ZISIF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609480" y="1557360"/>
            <a:ext cx="78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44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abízení s „pasem“ vs. nabízení bez „pasu“ (tzv. národní reži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as“ se uplatní až od data stanoveného E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uální režim (s „pasem“ i bez „pasu“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pecifikum: nařízení o EuVECA/EuSEF (§ 298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41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e5e5ff"/>
                </a:solidFill>
                <a:latin typeface="Garamond"/>
              </a:rPr>
              <a:t>Nabízení bez „pasu“</a:t>
            </a:r>
            <a:br>
              <a:rPr sz="3600"/>
            </a:br>
            <a:r>
              <a:rPr b="1" lang="pl-PL" sz="2800" spc="-1" strike="noStrike">
                <a:solidFill>
                  <a:srgbClr val="e5e5ff"/>
                </a:solidFill>
                <a:latin typeface="Garamond"/>
              </a:rPr>
              <a:t>§ 318, 319 a 324 ZISIF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609480" y="1557360"/>
            <a:ext cx="78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44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U AIFM (z ČR vs. z EU) vs. non-EU AIM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lack list“ FATF OECD – aktuálně 17 zemí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http://www.fatf-gafi.org/topics/high-riskandnon-cooperativejurisdictions/documents/fatfpublicstatement22february2013.htm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MoUs – aktuálně v jedn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http://www.cnb.cz/cs/dohled_financni_trh/vykon_dohledu/dohody_o_spolupraci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aňové smlouvy – aktuálně 80 zem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http://www.mfcr.cz/cps/rde/xchg/mfcr/xsl/prehled_smluv.htm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41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e5e5ff"/>
                </a:solidFill>
                <a:latin typeface="Garamond"/>
              </a:rPr>
              <a:t>Nabízení mimo AIFMD</a:t>
            </a:r>
            <a:br>
              <a:rPr sz="3600"/>
            </a:br>
            <a:r>
              <a:rPr b="1" lang="pl-PL" sz="2800" spc="-1" strike="noStrike">
                <a:solidFill>
                  <a:srgbClr val="e5e5ff"/>
                </a:solidFill>
                <a:latin typeface="Garamond"/>
              </a:rPr>
              <a:t>§ 296, § 297 odst. 2 a § 323 ZISIF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609480" y="1557360"/>
            <a:ext cx="784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Footlight MT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44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eřejně lze nabízet, pokud je obhospodařovatelem česká „podlimitní“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Mimo AIFMD a tuto možnost není možné v ČR veřejně nabízet zahraniční investiční fondy ze „třetích“ zem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ivate placement možný je, investorem se však může stát jen kvalifikovaný inves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65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kapitalovy.trh@mfcr.cz</a:t>
            </a:r>
            <a:r>
              <a:rPr b="1" lang="en-US" sz="4400" spc="-1" strike="noStrike">
                <a:solidFill>
                  <a:srgbClr val="e5e5ff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11280" y="170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Footlight MT Light"/>
              </a:rPr>
              <a:t>Děkuj</a:t>
            </a:r>
            <a:r>
              <a:rPr b="1" lang="cs-CZ" sz="4400" spc="-1" strike="noStrike">
                <a:solidFill>
                  <a:srgbClr val="e5e5ff"/>
                </a:solidFill>
                <a:latin typeface="Times New Roman"/>
              </a:rPr>
              <a:t>i</a:t>
            </a:r>
            <a:r>
              <a:rPr b="1" lang="cs-CZ" sz="4400" spc="-1" strike="noStrike">
                <a:solidFill>
                  <a:srgbClr val="e5e5ff"/>
                </a:solidFill>
                <a:latin typeface="Footlight MT Light"/>
              </a:rPr>
              <a:t> za pozornost</a:t>
            </a:r>
            <a:br>
              <a:rPr sz="4400"/>
            </a:br>
            <a:br>
              <a:rPr sz="4400"/>
            </a:br>
            <a:r>
              <a:rPr b="1" lang="cs-CZ" sz="4400" spc="-1" strike="noStrike">
                <a:solidFill>
                  <a:srgbClr val="e5e5ff"/>
                </a:solidFill>
                <a:latin typeface="Footlight MT Light"/>
              </a:rPr>
              <a:t>Dotazy</a:t>
            </a:r>
            <a:endParaRPr b="0" lang="en-US" sz="4400" spc="-1" strike="noStrike">
              <a:solidFill>
                <a:srgbClr val="003399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06:21:23Z</dcterms:created>
  <dc:creator>J. Šovar</dc:creator>
  <dc:description/>
  <dc:language>en-US</dc:language>
  <cp:lastModifiedBy>Jana Michalíková - AKAT</cp:lastModifiedBy>
  <dcterms:modified xsi:type="dcterms:W3CDTF">2013-04-17T19:17:55Z</dcterms:modified>
  <cp:revision>224</cp:revision>
  <dc:subject/>
  <dc:title>AIFMD</dc:title>
</cp:coreProperties>
</file>