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B85-B388-438C-AC47-1309047A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6BA-C30A-4DCB-9512-92DAEAAC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45A-4279-4DD5-AFE4-FB81AA84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AA7-8F2A-499F-A143-13879084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3F35-800B-4949-A3EF-6B753462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C4E9-349C-4354-9C7F-F1DB4AC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811E-8204-4AC4-8618-CCCF784A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4887-C079-4E12-AA6A-3A1CACE0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F204-EF8B-42EF-9E73-87D24ECD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6B27-F082-441E-9C1C-1CB80D50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DE6C-FC4C-42D8-92A2-70F64548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4EE-587A-486A-AAD6-7E2274F2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B7F-EC14-4697-B697-2EAFC28D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485F-780D-40C7-8A5B-635BA6C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7193-935C-4EDD-9563-F3338B7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7620-383D-4844-8291-997660F1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B7A9-3ADF-4A66-8A19-06D74BCB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94C-9BEF-43C7-8CB6-29DBC6A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1B3-5552-42C3-B698-CEBEFB4B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D5F-1703-498C-9AEE-C1E0AE34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757-C821-41D4-8EF2-0243FE95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B3D-2208-44B5-A094-22D5C54F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F56-8DBB-4443-946B-B355FD7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DB3-68CE-42EF-8511-CDD40AB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5C2-1746-46BC-BCAE-FEDAD1890D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68B3-3585-44C8-8127-C117A08159C5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eva.svetlosakova@nbs.sk" TargetMode="External"/><Relationship Id="rId2" Type="http://schemas.openxmlformats.org/officeDocument/2006/relationships/hyperlink" Target="mailto:monika.imreczeova@nbs.sk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400" spc="-1" strike="noStrike">
                <a:solidFill>
                  <a:srgbClr val="dddddd"/>
                </a:solidFill>
                <a:latin typeface="Tahoma"/>
              </a:rPr>
              <a:t>AIFMD</a:t>
            </a:r>
            <a:br>
              <a:rPr sz="5400"/>
            </a:br>
            <a:br>
              <a:rPr sz="54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Dohľad NBS po implementácii AIFMD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013360"/>
            <a:ext cx="8705880" cy="1728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  <a:ea typeface="Tahoma"/>
              </a:rPr>
              <a:t>Konferencia Next Steps In Asset Management, 19. apríla 201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  <a:ea typeface="Tahoma"/>
              </a:rPr>
              <a:t>Ing. Eva Svetlošáková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94a45"/>
                </a:solidFill>
                <a:latin typeface="Tahoma"/>
                <a:ea typeface="Tahoma"/>
              </a:rPr>
              <a:t>Ing. Monika Imreczeová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odbor dohľadu nad trhom cenných papierov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poisťovníctvom a dôchodkovým sporení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ohliadané subjekty k 31.12.2012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1844640"/>
          <a:ext cx="7632720" cy="4560840"/>
        </p:xfrm>
        <a:graphic>
          <a:graphicData uri="http://schemas.openxmlformats.org/drawingml/2006/table">
            <a:tbl>
              <a:tblPr/>
              <a:tblGrid>
                <a:gridCol w="6266160"/>
                <a:gridCol w="136656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hliadaný subjek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881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rávcovs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tandardný podielový f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peciálny podielový fond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alternatívnych investíci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cenných papier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nehnuteľnost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rofesionálnych investor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hlasovateľ verejnej ponuky majetkových hodnô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39"/>
          <p:cNvGraphicFramePr/>
          <p:nvPr/>
        </p:nvGraphicFramePr>
        <p:xfrm>
          <a:off x="196920" y="2205000"/>
          <a:ext cx="874872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205000"/>
                    <a:ext cx="8748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diel správcovských spoločností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na NAV špeciálnych podielových fondov k 31.12.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Špeciálne podielové fondy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k 31.12.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539640" y="2205000"/>
          <a:ext cx="83743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83743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ea typeface="Tahoma"/>
                <a:hlinkClick r:id="rId1"/>
              </a:rPr>
              <a:t>eva.svetlosakova@nbs.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ea typeface="Tahoma"/>
                <a:hlinkClick r:id="rId2"/>
              </a:rPr>
              <a:t>monika.imreczeova@nbs.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4076280"/>
            <a:ext cx="8708760" cy="1800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e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bsa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voľovacia činnosť, resp. registrá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ezhraničné pôsobenie správc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istribúcia A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AIFMD (smernica 2011/61/EU)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ôsob implementácie v SR: rozsiahla novela zákona  č. 203/2011 Z. z. o kolektívnom investova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Tuzemský AIF: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špeciálne podielové fondy podľa doterajšieho ZKI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ubjekty KI s právnou subjektivitou ako obchodná spoločnosť a družstvo so sídlom na území SR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Zahraničný AIF: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ahraničný subjekt KI (PF, ZIS, iný), ktorý nespĺňa smernicu 2009/65/E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Tuzemský správca AIF: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ciová spoločnosť (správcovská spoločnosť) s povolením NBS na spravovanie AIF a zahraničných AIF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Register správcov AIF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(správca aj samosprávny AIF, ak hodnota spravovaných aktív je menej ako 100 mil. /500 mil. eur);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výnimka sa nevzťahuje na spravovanie špeciálnych P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080" indent="-25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ahoma"/>
              </a:rPr>
              <a:t>návrh elektonicky, zápis NBS do 10 dní od prijatia úplného návrh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ezhraničné pôsobenie správcu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ovská spoločnosť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 povolením plánuje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spravovať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európske AIF (povolenie alebo sídlo v štáte EU) na území iného členského štátu - oznámenie (členský štát, program činnosti, ak cez pobočku aj jej organizačnú štruktúru, adresu a osoby zodpovedné za jej riadenie) NBS, ktorá spolu potvrdením o udelení povolenia do 1, resp. 2 mesiacov odovzdá príslušnému orgánu (CA) hostiteľského štátu a informuje správcovskú spoloč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európske AIF, nedistribuované na území SR/štátu EU: dodržiava ZKI a uzavretá zmluva medzi NBS a CA nečlenského štá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a AIF so sídlom v členskom štáte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s povolením AIFMD chce vytvárať a spravovať AIF v SR – prijatím informácie od CA domovského členského štátu o odovzdaní oznámenia NBS (dodržiavať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istribúcia AIF z EU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ovská spoločnosť s povolením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zámer distribuovať ňou spravovaný AIF alebo európsky AI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a území SR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– do pracovných 20 dní od doručenia oznámenia NBS  (program činnosti, štatút /zakladajúce dokumenty, depozitár, popis AIF, EAIF, iné);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eplatí pre verejné špeciálne fond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(osobitné povoleni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území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ného členského štátu – oznámenie a informácie NBS, ktorá do 20 pracovných odovzdá oznámenie s potvrdením o povolení CA členského štátu a informuje správcovskú spoloč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so sídlom v členskom štáte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 povolením AIFMD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 zámer distribuovať ním spravovaný AIF alebo európsky AIF na území SR -  prijatím informácie CA domovského štátu o zaslaní oznámenia N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ovská spoločnosť s povolením alebo správca so sídlom v členskom štáte s povolením AIFMD - distribuovať na území SR ním spravované zahraničné AIF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aj verejnou ponukou neprofesionálnym investorom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len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a základe povolenia N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Distribúcia AIF z tretích krajín (národný režim) 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ovská spoločnosť s povolením a správca s povolením AIFMD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distribuovať na území SR spravovaný neeurópsky AIF - do pracovných 20 dní od doručenia oznámenia NBS (podmienky: ZKI pri správe, resp. primerane, MoU s CA tretej krajiny, zabezpečiť výkon činnosti depozitára, informácie a doklady v oznámení podľa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a z tretích krajín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distribuovať ňou spravovaný zahraničný AIF na území SR -  do pracovných 20 dní od doručenia oznámenia NBS (podmienky: informácie investorom a NBS podľa ZKI, MoU s CA z tretích krajín, tretie krajiny nie je na zozname nespolupracujúcich krajín, informácie a doklady v oznámení podľa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notný režim – po určení dátumu v osobitnom predpise 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ubjekty na zosúladenie 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právcovské spoločnosti, podielové fondy k 31.3.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sset Management Slovenskej sporiteľne, správ. spol., a.s.: (8 štandardných PF, 2 verejné špeciálne PF), 3 PF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AD Invest, správ.spol.: (10 štandardných PF), 2 verejné špeciálne P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VÁ PENZIJNÁ SPRÁVCOVSKÁ SPOLOČNOSŤ POŠTOVEJ BANKY, správ. spol., a.s. : (5 štandardných PF), 2 verejné špeciálne PF, 1 PF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atra Asset Management, správ. spol., a.s. : (9 štandardných PF), 3 verejné špeciálne PF, 2 PF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ÚB Asset Management, správ. spol., a.s. (8 štandardných PF), 1 verejný špeciálny P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(Alico Funds Central Europe správ. spol., a.s.: 6 štandardných P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Verejná ponuka majetkových hodnôt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3 prospekty investíc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Hedge fondy, privat equity, venture capital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: (v súčasnosti neregulované, privátna ponuka):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Implementácia AIFMD/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účinnosť novely ZKI 22.7.2013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08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vinnosť zosúladiť sa so ZKI a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ožiadať o povolenie /zápis do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registra do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22. júla 20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e uzavreté AIF zostávajú zachované práva vyplývajúce z prospektovej smer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nštitút verejnej ponuky majetkových hodnôt zanik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o 22.7.2014 požiadať o povolenie správcu AIF/o zápis do registra alebo ukončiť činnosť a vyplatiť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hlasovateľ nemôže po 22.7.2013 verejne ponúkať MH, zmeniť podmienky VPM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IFM nemusia mať povolenie, a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avujú uzavreté AIF vytvorené pred 22. júlom 2013 a po tomto dátume nevykonávajú nové investície, nemusia mať povol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avujú uzavreté AIF, ktorých upisovacie obdobie sa skončilo pred 22. júlom 2013 a nie sú vytvorené na dlhšie ako 3 ro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Výmena informácií s ESMA, ESRB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BS informuje ES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 každom udelení povoleni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spravovanie AIF a zahraničných AIF (povolenie), raz za štvrťrok o udelených, vrátených alebo odobratých povoleni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né údaje o správcoch AIF, o sankciách v súvislosti s AIF a zmluvnými správcam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raz za štvrťrok údaje o tuzemských a zahraničných správcoch podľa AIFMD, ktoré spravujú alebo distribuujú AIF alebo EAIF, o zahraničných správcoch AIFMD a neeurópskych správcoch, ktorí distribuujú neeurópske A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MoU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 tretími krajinami (prostredníctvom ESM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BS informuje ESMA, ES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tenciálne systémové dôsledky na stabilitu a fungovanie finančných trhov (aj príslušným CA), súhrnné informácie o činnosti správcovských spoločností alebo zahraničných správcov AIF (delegované nariadenie č. 231/2013/EU, ktoré dopĺňa AIFM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Jana Michalíková - AKAT</cp:lastModifiedBy>
  <dcterms:modified xsi:type="dcterms:W3CDTF">2013-04-17T19:24:39Z</dcterms:modified>
  <cp:revision>69</cp:revision>
  <dc:subject/>
  <dc:title>Slide 1</dc:title>
</cp:coreProperties>
</file>