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3774600" y="-36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901800" y="766440"/>
            <a:ext cx="491472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0" y="943884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3774600" y="943884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70C8-76FD-4848-BD1A-D31DCAD0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434C-BE45-4BA7-9AD2-42CB8A3F3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4AEA-D1EC-44EA-A8ED-22B554EF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03240" y="76680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351F-D1D6-41F4-8DBC-A0BECBBF7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03240" y="76680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81B5-CEA4-4060-A593-6670C3A4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9B895-4B03-4B8D-850E-ABDE7813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AE82-5F61-459D-B4D4-CE595E04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1138-E873-48A0-9801-4FD59725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A1F5-FD7D-40B1-BE88-D543FECF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124C-3880-43C2-98AB-77C24A6E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8C8E-B0D8-4C90-AFCD-BB4D63DD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9AA1-D5BE-4050-9F22-11BEC1C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8A8B-537C-488E-83C5-C430B0C1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4388-1CAB-45C4-A531-5CDC704C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8B48-278C-4F69-B97E-C63A4E26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B87B-BAC9-496D-99B0-429F4D4A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706E-DCBD-43C4-9687-5A2EAEBF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9590-DEBB-4356-9961-3D9FC555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F4E9-1051-48B0-A99F-A92D9670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B762-C882-4713-9DC5-7B133F20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1B4B-3D41-4659-BE30-CFA1DBC0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784E-84FD-47B1-BDC0-73881138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331C-1F5B-41C9-856D-CFF0CF2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B4D6-2D36-45D4-B1EE-3D618A75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CA53-2216-4C8B-9750-D0129EE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036A-22C7-4D24-9E43-1043AE35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8CD0-9896-4204-88B1-9944FBF8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16BA-142F-4717-A78D-EC047009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817560"/>
            <a:ext cx="9144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DDAE-3222-4305-B4AB-BFAFCBDBE88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4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4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4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</p:grpSp>
        <p:sp>
          <p:nvSpPr>
            <p:cNvPr id="4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9933"/>
                </a:solidFill>
                <a:latin typeface="Tahom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9933"/>
                </a:solidFill>
                <a:latin typeface="Tahoma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9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9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9933"/>
                  </a:solidFill>
                  <a:latin typeface="Tahoma"/>
                </a:endParaRPr>
              </a:p>
            </p:txBody>
          </p:sp>
        </p:grpSp>
        <p:sp>
          <p:nvSpPr>
            <p:cNvPr id="9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9933"/>
                </a:solidFill>
                <a:latin typeface="Tahoma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9933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C040-FCB4-4A1B-BAF4-6E9965FDAA7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571680" y="201924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407664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50920" y="1557360"/>
            <a:ext cx="864216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noAutofit/>
          </a:bodyPr>
          <a:p>
            <a:pPr marL="1600200" indent="-22860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9280" y="3860640"/>
            <a:ext cx="87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8120" y="390240"/>
            <a:ext cx="77742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ZALOŽENÍ a VZNIK FONDU KVALIFIKOVANÝCH INVESTORŮ</a:t>
            </a:r>
            <a:br>
              <a:rPr sz="4000"/>
            </a:br>
            <a:r>
              <a:rPr b="1" lang="cs-CZ" sz="2400" spc="-1" strike="noStrike">
                <a:solidFill>
                  <a:srgbClr val="ff9933"/>
                </a:solidFill>
                <a:latin typeface="Arial Unicode MS"/>
              </a:rPr>
              <a:t>(Case study ZISIF ve světle AIFMD)</a:t>
            </a:r>
            <a:br>
              <a:rPr sz="2800"/>
            </a:br>
            <a:br>
              <a:rPr sz="4000"/>
            </a:br>
            <a:r>
              <a:rPr b="1" lang="pl-PL" sz="4000" spc="-1" strike="noStrike">
                <a:solidFill>
                  <a:srgbClr val="ff9933"/>
                </a:solidFill>
                <a:latin typeface="Arial"/>
              </a:rPr>
              <a:t>JUDr. Michaela Bujňáková</a:t>
            </a:r>
            <a:br>
              <a:rPr sz="4000"/>
            </a:br>
            <a:r>
              <a:rPr b="0" i="1" lang="en-US" sz="2400" spc="-1" strike="noStrike">
                <a:solidFill>
                  <a:srgbClr val="ff9933"/>
                </a:solidFill>
                <a:latin typeface="Garamond"/>
              </a:rPr>
              <a:t>Praha 19.</a:t>
            </a:r>
            <a:r>
              <a:rPr b="0" i="1" lang="cs-CZ" sz="2400" spc="-1" strike="noStrike">
                <a:solidFill>
                  <a:srgbClr val="ff9933"/>
                </a:solidFill>
                <a:latin typeface="Garamond"/>
              </a:rPr>
              <a:t>4</a:t>
            </a:r>
            <a:r>
              <a:rPr b="0" i="1" lang="en-US" sz="2400" spc="-1" strike="noStrike">
                <a:solidFill>
                  <a:srgbClr val="ff9933"/>
                </a:solidFill>
                <a:latin typeface="Garamond"/>
              </a:rPr>
              <a:t> 2013, hotel Sheraton</a:t>
            </a:r>
            <a:br>
              <a:rPr sz="2400"/>
            </a:br>
            <a:r>
              <a:rPr b="0" i="1" lang="en-US" sz="2400" spc="-1" strike="noStrike">
                <a:solidFill>
                  <a:srgbClr val="ff9933"/>
                </a:solidFill>
                <a:latin typeface="Garamond"/>
              </a:rPr>
              <a:t>Next Steps in Asset Management, AKAT ČR/SAS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9933"/>
                </a:solidFill>
                <a:latin typeface="Footlight MT Light"/>
              </a:rPr>
              <a:t>Výhrada prezent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	</a:t>
            </a:r>
            <a:r>
              <a:rPr b="0" i="1" lang="cs-CZ" sz="2400" spc="-1" strike="noStrike">
                <a:solidFill>
                  <a:srgbClr val="e5e5ff"/>
                </a:solidFill>
                <a:latin typeface="Arial Unicode MS"/>
              </a:rPr>
              <a:t>Obsah zobrazený v této prezentaci, jakož i ústní projev, odráží výlučně individuální názory, hodnocení a přístup autorky k dané problematice, jež se nemusí shodovat s názory či hodnoceními Ministerstva financí ani nepředstavují jeho oficiální pozic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e5e5ff"/>
                </a:solidFill>
                <a:latin typeface="Arial Unicode MS"/>
              </a:rPr>
              <a:t>	</a:t>
            </a:r>
            <a:r>
              <a:rPr b="0" i="1" lang="cs-CZ" sz="2400" spc="-1" strike="noStrike">
                <a:solidFill>
                  <a:srgbClr val="e5e5ff"/>
                </a:solidFill>
                <a:latin typeface="Arial Unicode MS"/>
              </a:rPr>
              <a:t>Přestože autorka připravil prezentaci s veškerou náležitou péčí, činí tak bez nároku na úplnost a přesnost obsažených informací.</a:t>
            </a:r>
            <a:r>
              <a:rPr b="0" i="1" lang="cs-CZ" sz="3200" spc="-1" strike="noStrike">
                <a:solidFill>
                  <a:srgbClr val="e5e5ff"/>
                </a:solidFill>
                <a:latin typeface="Footlight MT Ligh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457200" y="1295280"/>
            <a:ext cx="813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ZALOŽENÍ a VZNIK FONDU KVALIFIKOVANÝCH INVESTORŮ</a:t>
            </a:r>
            <a:br>
              <a:rPr sz="3600"/>
            </a:b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(„FKVI“) I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odelový přípa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: osoba hodlá založit FKVI s následujícími vlastnostm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anditní společnost na investiční lis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ond kvalifikovaných investorů, který je samosprávným investičním fond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ZALOŽENÍ a VZNIK FONDU KVALIFIKOVANÝCH INVESTORŮ</a:t>
            </a:r>
            <a:br>
              <a:rPr sz="3600"/>
            </a:b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(„FKVI“) II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aložení FKVI: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enská smlouva (ZO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nik FVKI (den vzniku oprávnění k obhospodařování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nem nabytí právní moci rozhodnutí ČNB o udělení povolení k činnosti FVKI (je-li osoba zapsána v 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nem zápisu do OR(není-li osoba zapsána do 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KOMANDITNÍ SPOLEČNOST NA INVESTIČNÍ LISTY </a:t>
            </a:r>
            <a:br>
              <a:rPr sz="3600"/>
            </a:b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(„KSIL“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§ 170 – 182 ZISI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!) zvláštní právní forma, jedná se pouze o odchylku od komanditní společnosti dle Z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užije se pouze pro investiční fo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SIL podle ZISIF až od 1.1.201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vestiční list (vtělení podílu), převoditelnost není omezena nebo podmíně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ěkteré odchylky od ZOK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práva splacených vklad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kladová povinn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hodování společník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loučení komplementář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manditní společnost pouze s 1 komplementář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9933"/>
                </a:solidFill>
                <a:latin typeface="Arial"/>
              </a:rPr>
              <a:t>SAMOSPRÁVNÝ INVESTIČNÍ FOND („SIF“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volení ČNB k činnosti SIF dle ZISI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hůta: 3 měsíce (resp. 3+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právní poplatek: 50 000 Kč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k rozhodnutí obsahuj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) oprávnění přesáhnout rozhodný lim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) „typ“ investičního fon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) oprávnění provádět svou vlastní administrac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oučasně rozhodne o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doucích osobách a kvalifikované úča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ápis a výmaz se seznam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9933"/>
                </a:solidFill>
                <a:latin typeface="Arial"/>
              </a:rPr>
              <a:t>ZRUŠENÍ A ZÁNIK FKV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rušení FKVI: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ecné důvody podle NOZ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nětí povolení – FKVI se zrušuje s likvidací ke dni odnětí povolení;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to neplat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má-li se stát nesamosprávným fond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lze změnit předmět podnik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ánik FVK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nem výmazu z 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9933"/>
                </a:solidFill>
                <a:latin typeface="Arial"/>
              </a:rPr>
              <a:t>Děkuji za pozorno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Arial Unicode MS"/>
              </a:rPr>
              <a:t>kapitalovy.trh@mfcr.c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5:22:43Z</dcterms:created>
  <dc:creator>Jana</dc:creator>
  <dc:description/>
  <dc:language>en-US</dc:language>
  <cp:lastModifiedBy>Jana Michalíková - AKAT</cp:lastModifiedBy>
  <dcterms:modified xsi:type="dcterms:W3CDTF">2013-04-17T19:21:56Z</dcterms:modified>
  <cp:revision>231</cp:revision>
  <dc:subject/>
  <dc:title>PowerPoint Presentation</dc:title>
</cp:coreProperties>
</file>