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186B-8FE2-4DBD-8E38-AC96A10C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8705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560" y="5714280"/>
            <a:ext cx="8705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7951-93B0-48EA-B37A-67D73A05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560" y="5714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1680" y="5714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536B-25D3-4C17-82AD-D11AA8B5E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3920" y="5300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7640" y="5300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560" y="5714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3920" y="5714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7640" y="5714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199C-3F5E-4BA6-A8B5-38A190469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BD83-17ED-4F75-B1E1-11ED82A4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560" y="5300280"/>
            <a:ext cx="8705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942F-089B-4AAA-B201-BCD3416E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8705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7189-B35A-49C5-917E-23A05F11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B305-EDAB-4C38-B4FD-7DDAE260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75E0-996A-4A7B-9208-82A110BA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50560" y="4292640"/>
            <a:ext cx="8708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7F0D-D2DB-4788-AA43-0F20A6CD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50560" y="5714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4806-0A01-48F5-B6E3-9A450618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560" y="5300280"/>
            <a:ext cx="8705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AF62-6107-43E4-9476-1228ACD7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1680" y="5714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591C-321D-4FBA-B563-0DD1B735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0560" y="5714280"/>
            <a:ext cx="8705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6DEB-EB68-49B4-92DE-C76B6C20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8705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0560" y="5714280"/>
            <a:ext cx="8705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E3FC-13B4-405B-B835-CAA85C31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0560" y="5714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1680" y="5714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50D2-C4E9-4018-A6E5-0C602366C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3920" y="5300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37640" y="5300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50560" y="5714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3920" y="5714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37640" y="5714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71CB-B055-4EB7-93E2-D3FC5518A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8705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BD8F-648B-4CE3-812A-CC2D966C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5B95-2E23-485A-915D-65D99730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7610-38FC-487E-A3B5-E83D3E80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560" y="4292640"/>
            <a:ext cx="8708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4304-474B-4365-A033-F7C941C9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560" y="5714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C57A-A976-4AB1-AFCB-888052F2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1680" y="5714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B591-E4B6-4123-817A-DB5CFB6E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560" y="5714280"/>
            <a:ext cx="8705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A7EC-48EE-4501-B243-8411236A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0038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00360" y="6578640"/>
            <a:ext cx="14130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68360" y="6570720"/>
            <a:ext cx="568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4720" y="6578640"/>
            <a:ext cx="8636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C1C2-64E9-47E3-AA12-8FE0402E7F7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79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092720" y="6237360"/>
            <a:ext cx="18730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k-SK" sz="1200" spc="-1" strike="noStrike">
                <a:solidFill>
                  <a:srgbClr val="494a45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494a45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50920" y="6244920"/>
            <a:ext cx="61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94a45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94a45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4033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028000" y="6453360"/>
            <a:ext cx="9367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94a45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5B08-39A7-4038-99DE-E10FEF3BBD76}" type="slidenum">
              <a:rPr b="1" lang="en-US" sz="1200" spc="-1" strike="noStrike">
                <a:solidFill>
                  <a:srgbClr val="494a4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94a45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881"/>
                </a:solidFill>
                <a:latin typeface="Tahoma"/>
              </a:rPr>
              <a:t>KIID – aká bude prax nového dokumentu?</a:t>
            </a:r>
            <a:endParaRPr b="0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076720" y="5300280"/>
            <a:ext cx="3880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4a45"/>
                </a:solidFill>
                <a:latin typeface="Tahoma"/>
              </a:rPr>
              <a:t>Ing. Tomáš Ambra</a:t>
            </a:r>
            <a:endParaRPr b="1" lang="en-US" sz="1600" spc="-1" strike="noStrike">
              <a:solidFill>
                <a:srgbClr val="494a45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4a45"/>
                </a:solidFill>
                <a:latin typeface="Tahoma"/>
              </a:rPr>
              <a:t>Odbor regulácie a finančných analýz</a:t>
            </a:r>
            <a:endParaRPr b="1" lang="en-US" sz="1600" spc="-1" strike="noStrike">
              <a:solidFill>
                <a:srgbClr val="494a45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4a45"/>
                </a:solidFill>
                <a:latin typeface="Tahoma"/>
              </a:rPr>
              <a:t>Národná banka Slovenska</a:t>
            </a:r>
            <a:endParaRPr b="1" lang="en-US" sz="1600" spc="-1" strike="noStrike">
              <a:solidFill>
                <a:srgbClr val="494a4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3212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Aká bude prax KIID ?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Otvorené otázk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dú investori KIID používať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de pre investorov KIID zrozumiteľný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de KIID znova len formálne predkladaný investorom s ďalšou dokumentáciou fondu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ý bude mať význam KIID pre správcov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ý bude postup regulátor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50560" y="5300280"/>
            <a:ext cx="8705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4a45"/>
                </a:solidFill>
                <a:latin typeface="Tahoma"/>
              </a:rPr>
              <a:t>Ing. Tomáš Ambra</a:t>
            </a:r>
            <a:endParaRPr b="1" lang="en-US" sz="1600" spc="-1" strike="noStrike">
              <a:solidFill>
                <a:srgbClr val="494a45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4a45"/>
                </a:solidFill>
                <a:latin typeface="Tahoma"/>
              </a:rPr>
              <a:t>Odbor regulácie a finančných analýz</a:t>
            </a:r>
            <a:endParaRPr b="1" lang="en-US" sz="1600" spc="-1" strike="noStrike">
              <a:solidFill>
                <a:srgbClr val="494a45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4a45"/>
                </a:solidFill>
                <a:latin typeface="Tahoma"/>
              </a:rPr>
              <a:t>Národná banka Slovenska</a:t>
            </a:r>
            <a:endParaRPr b="1" lang="en-US" sz="16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250560" y="422100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881"/>
                </a:solidFill>
                <a:latin typeface="Tahoma"/>
              </a:rPr>
              <a:t>Ďakujem za pozornosť</a:t>
            </a:r>
            <a:endParaRPr b="0" lang="en-US" sz="3200" spc="-1" strike="noStrike">
              <a:solidFill>
                <a:srgbClr val="003881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81"/>
                </a:solidFill>
                <a:latin typeface="Tahoma"/>
              </a:rPr>
              <a:t>Dokument kľúčových informácií pre investorov - KIID 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ový (predkontraktuálny) informačný dokument pre investorov do podielových fond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ahradí zjednodušený predajný prospekt (ZP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Jeho zavedenie vyplýva z implementácie smernice UCITS I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a Slovensku sa bude používať nielen pre slovenské UCITS fondy, ale aj pre retailové </a:t>
            </a:r>
            <a:br>
              <a:rPr sz="2800"/>
            </a:b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on-UCITS fon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Termín zavedenia: do 30. júna 20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Zjednodušený predajný prospekt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e považovaný z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eúspec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tož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ol formálny,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ol nezrozumiteľný pre bežných investorov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ol príliš zložitý a veľmi obsiahly,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eumožňoval porovnávať rôzne fondy,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v každom členskom štáte podliehal iným pravidlá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81"/>
                </a:solidFill>
                <a:latin typeface="Tahoma"/>
              </a:rPr>
              <a:t>KIID – Harmonizovaný dokument pre fondy v EÚ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IID harmonizu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át a podob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užívanie netechnického jazy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a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odoló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ôsob výpočtu ukazovateľa na prezentáciu rizík (SRRI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ôsob výpočtu ukazovateľa na prezentáciu nákladovosti fondu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ôsob prezentácie minulej výkonnosti fondu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ĺžku dokumen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81"/>
                </a:solidFill>
                <a:latin typeface="Tahoma"/>
              </a:rPr>
              <a:t>Zodpovednosť správcovskej spoločnosti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ávcovské spoločnosti sú zodpovedné za obsah KI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KIID nezakladá zodpovednosť správcovskej spoločnosti alebo inej osoby za spôsobenie škody,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o neplatí, ak je KIID zavádzajúci, nepresný alebo nezlučiteľný s prospektom fondu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Prístup investorov ku KIID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ávcovská spoločnosť je povinná poskytnúť KIID pred vstupom do zmluvného vzťah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kým spôsobom sa má KIID investorovi poskytnúť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oskytuje sa KIID investorom pred každým (opakovaným) investovaním do fondu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81"/>
                </a:solidFill>
                <a:latin typeface="Tahoma"/>
              </a:rPr>
              <a:t>Poskytovanie KIID rôznymi distribučnými kanálmi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. Priama distribúci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a poskytnutie KIID investorovi zodpovedá správcovská spoločnos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. Externé distribučné kaná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ávcovská spoločnosť zodpovedá za včasné poskytnutie KIID distribúto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a poskytnutie KIID investorovi zodpovedá distribú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Formát a podoba KIID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3057480" cy="43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307836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Prechod na KIID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chodné obdobie na zavedenie KI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30. júna 20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tí p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šetky slovenské fondy vytvorené pred 1. júlom 20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Zahraničné fondy, ak to ich vlastná legislatíva umožňuj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Špeciálne prípady (zlúčenia, master-feeder štruktúr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šetky nové slovenské fondy vytvorené od 1. júla 2011 musia mať KII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11:29:03Z</dcterms:created>
  <dc:creator>User</dc:creator>
  <dc:description/>
  <dc:language>en-US</dc:language>
  <cp:lastModifiedBy>User</cp:lastModifiedBy>
  <dcterms:modified xsi:type="dcterms:W3CDTF">2011-10-26T15:31:44Z</dcterms:modified>
  <cp:revision>19</cp:revision>
  <dc:subject/>
  <dc:title>Slide 1</dc:title>
</cp:coreProperties>
</file>