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504-0465-4494-90FA-6897714E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B1A-9195-46D9-9256-A6101DA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6B5-8274-403D-97A2-68A59CCA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935-D68C-4884-8542-1D23A202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DB5-2B52-4863-92C0-08083F4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47F-9ED2-4569-A823-BF2D3B75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144-C15F-41BD-86F6-349334D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1FB-7A7F-440B-B5BC-3FAD76D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211-5FFE-4713-9000-AAE82D6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5A4-4754-4A9A-B265-0C5C1C6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672-11AB-40CF-944D-B15A720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BDF-10B2-430C-A139-AD99381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D3E-E860-44B8-9CC4-C3C8B35C8C2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oblematika distribúcie a predaja podielových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ondov – plusy a mínusy súčasn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Real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é fon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ečo je to tak? ...ke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Čo vplýva na predajnosť fondo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Vývoj čistých predajov tuzemských PF v jednotlivých kategóri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Vplyv volatility na finančných trhoch na predajnosť P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Úroková politika bá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2:03:22Z</dcterms:created>
  <dc:creator>Dimová, Martina</dc:creator>
  <dc:description/>
  <dc:language>en-US</dc:language>
  <cp:lastModifiedBy>SASS - Michaela Bordováčová</cp:lastModifiedBy>
  <dcterms:modified xsi:type="dcterms:W3CDTF">2011-11-09T08:49:21Z</dcterms:modified>
  <cp:revision>1</cp:revision>
  <dc:subject/>
  <dc:title>Problematika distribúcie a predaja podielových fondov – plusy a mínusy súčasného stavu</dc:title>
</cp:coreProperties>
</file>