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53B-2A59-431F-9DDC-B1BCC2FC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B50E-792B-4E14-A5C5-98BAF6DF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66F-EFCC-4430-B57B-CAA73F7F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573-72C2-4585-B270-142D514D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D95A-8A7D-4DD8-AF30-68E8BD6B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623E-F8FB-4429-B40C-E7D877E5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6D97-2C6D-4E91-97D5-2604F7AE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811E-B997-4FA4-97D0-BAEF1D27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33D9-6B6E-4CFD-BE50-E4C1D90F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6846-D063-42D8-A325-C6DFA8DB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AC15-FDC3-40FC-80FB-678E3D78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90EC-1830-44E9-9FDD-EDFC01BF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AC72-0ACE-4545-8F74-B4E697B6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F519-6ABE-4D67-ABDD-510C8AC8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3627-5C4B-45F0-AE8B-797E24F3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4DD7-B19F-4D12-A5ED-CA5243EE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359C-514D-40BB-BE96-4A69A681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9AE-C00F-4946-AB98-ED18DCBD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C47-B7BC-41B3-ADC3-27C7E3C2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3CA-F2CC-4F26-A45A-D942DA49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886-01FF-461D-B665-1E67837E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36A-E4F8-40C1-A050-99EFC2D0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2F3-E598-450E-8A88-98BED62C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8CF-3BB2-43E8-959F-CECDCA5D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E4CA-2A3F-406E-A1E5-046ECC5072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94a45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0D87-B069-4B4C-82C4-75A53D6B198E}" type="slidenum">
              <a:rPr b="1" lang="en-US" sz="1200" spc="-1" strike="noStrike">
                <a:solidFill>
                  <a:srgbClr val="494a4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4a45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roman.fusek@nbs.sk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Nové produktové možnosti po rekodifikácii zákona o kolektívnom investovaní</a:t>
            </a: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76720" y="5300280"/>
            <a:ext cx="3880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494a45"/>
                </a:solidFill>
                <a:latin typeface="Tahoma"/>
              </a:rPr>
              <a:t>Roman Fusek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494a45"/>
                </a:solidFill>
                <a:latin typeface="Tahoma"/>
              </a:rPr>
              <a:t>Odbor regulácie a finančných analýz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494a45"/>
                </a:solidFill>
                <a:latin typeface="Tahoma"/>
              </a:rPr>
              <a:t>Národná banka Slovensk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33360" y="5267160"/>
            <a:ext cx="24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HĽAD REGULÁT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...priestor v non-UCITS fondoch</a:t>
            </a:r>
            <a:br>
              <a:rPr sz="3200"/>
            </a:br>
            <a:r>
              <a:rPr b="1" lang="sk-SK" sz="2400" spc="-1" strike="noStrike">
                <a:solidFill>
                  <a:srgbClr val="003881"/>
                </a:solidFill>
                <a:latin typeface="Tahoma"/>
              </a:rPr>
              <a:t>verejné špeciálne fondy alternatívnych investícii</a:t>
            </a:r>
            <a:endParaRPr b="1" lang="en-US" sz="24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Regulačné zmen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nvestovanie do nelistovaných spoločností, do obchodných podiel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nvestovanie do drahých kovov a komodí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Marketingová príležitosť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ové druhy investičného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ivate equ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Konkurencia verejnej ponuke majetkových hodnô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530-0BC1-48D2-BEC4-6BCDCB300F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Aké hrozby možno zmeniť na príležitosti?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IFM Smernica – non-UCITS sa otvorí zahraničným správ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PS – princípy z KIID-u sa dostanú do iných sekto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27AF-CA13-4AD5-AE1E-6FA4BBC0C0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08760" y="5654520"/>
            <a:ext cx="2536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sk-SK" sz="1400" spc="-1" strike="noStrike" u="sng">
                <a:solidFill>
                  <a:srgbClr val="7f9bc0"/>
                </a:solidFill>
                <a:uFillTx/>
                <a:latin typeface="Tahoma"/>
                <a:hlinkClick r:id="rId1"/>
              </a:rPr>
              <a:t>roman.fusek@nbs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Tel. 02/5787 33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2B5-451D-4FC7-990F-CCE5D2BD6D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UCITS IV ako povinnosť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lovenská republika bola povinná implementovať Smernicu Európskeho parlamentu a Rady 2009/65/ES z 13. júla 2009 o koordinácii zákonov, iných právnych predpisov a správnych opatrení týkajúcich sa podnikov kolektívneho investovania do prevoditeľných cenných papierov (PKIPCP) (Ú.v. EÚ L 302, 17. 11. 2009) UCITS I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ermín: 30. jún 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9BF-E0D5-4E06-B1C0-A3F99FC103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UCITS IV ako hrozba a príležito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3672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HROZ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jednodušenie cezhraničného preda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Cezhraničné zlučovanie fond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Hlavný – zberný f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anagement Company Pass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2133720"/>
            <a:ext cx="3672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ÍLEŽIT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modernizovať inštitúty kolektívneho investo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ytvoriť národné produktové mo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8CF-8A39-4E89-8B14-89BC284C1D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ieľ rekodifikácie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ytvoriť slovenským správcom priestor na konkurencieschopnosť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4005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120" y="51577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lastná finančná skup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4005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89600" y="51577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hraničné fo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A95-A5EE-4F56-B2B0-EE26F56B89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...priestor v štandardných (UCITS) podielových fondoch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trešný podielový fond a podfon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dno povolenie, jedna notifikácia, viac investičných stratég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Emisie (tranže) podielových list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den fond pre rôzne skupiny investorov a pre rôzne kraj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níženie národnej (nie európskej) administratívnej záťaž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- Zrušenie zbytočných oznamovacích povinností, skrátenie lehôt na rozhodnu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E54-3F24-4952-8793-E14A0229C1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...priestor v UCITS fondoch</a:t>
            </a:r>
            <a:br>
              <a:rPr sz="3200"/>
            </a:br>
            <a:r>
              <a:rPr b="1" lang="sk-SK" sz="2000" spc="-1" strike="noStrike">
                <a:solidFill>
                  <a:srgbClr val="003881"/>
                </a:solidFill>
                <a:latin typeface="Tahoma"/>
              </a:rPr>
              <a:t>fondy peňažného trhu</a:t>
            </a:r>
            <a:endParaRPr b="1" lang="en-US" sz="20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ozšírujúci výklad usmernenia ESMA (CESR/ 10-049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Umožňuje nadobúdať dlhové papiere so zostatkovou životnosťou viac ako 397 dní, ak sú zabezpečené voči úrokovému rizik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naha o uvoľnenie limitov – diskusia na ES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jmä uvoľnenie požiadaviek na kreditný rating emit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668-4FFD-4270-8100-79CE584172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...priestor v non-UCITS fondoch</a:t>
            </a:r>
            <a:br>
              <a:rPr sz="3200"/>
            </a:br>
            <a:r>
              <a:rPr b="1" lang="sk-SK" sz="2400" spc="-1" strike="noStrike">
                <a:solidFill>
                  <a:srgbClr val="003881"/>
                </a:solidFill>
                <a:latin typeface="Tahoma"/>
              </a:rPr>
              <a:t>uzavreté podielové fondy</a:t>
            </a:r>
            <a:endParaRPr b="1" lang="en-US" sz="24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gulačné zmen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ostatná evidencia cenných papie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žnosť obchodovať aj mimo burzy (v MT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arketingová príležitosť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lhodobé sporiace produkty (napr. 4. dôchodkový pili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! Daňová politika štá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3DF-35C1-4E1F-A2B1-996094DDAC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...priestor v non-UCITS fondoch</a:t>
            </a:r>
            <a:br>
              <a:rPr sz="3200"/>
            </a:br>
            <a:r>
              <a:rPr b="1" lang="sk-SK" sz="2400" spc="-1" strike="noStrike">
                <a:solidFill>
                  <a:srgbClr val="003881"/>
                </a:solidFill>
                <a:latin typeface="Tahoma"/>
              </a:rPr>
              <a:t>špeciálny fond profesionálnych investorov</a:t>
            </a:r>
            <a:endParaRPr b="1" lang="en-US" sz="24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gulačné zmen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ytvorenie tohto inštitú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átna ponuka pre profesionál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žnosť vytvorenia bez povolenia N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ah štatútu na dohode s klient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arketingová príležitosť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vátne bankovníctvo, alternatíva riadeniu individuálneho portfól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106-0801-4438-9286-F6B8B6AE2F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...priestor v non-UCITS fondoch</a:t>
            </a:r>
            <a:br>
              <a:rPr sz="3200"/>
            </a:br>
            <a:r>
              <a:rPr b="1" lang="sk-SK" sz="2400" spc="-1" strike="noStrike">
                <a:solidFill>
                  <a:srgbClr val="003881"/>
                </a:solidFill>
                <a:latin typeface="Tahoma"/>
              </a:rPr>
              <a:t>verejné špeciálne fondy cenných papierov</a:t>
            </a:r>
            <a:endParaRPr b="1" lang="en-US" sz="24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Regulačná zme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voľnenie limitov oproti UCITS fo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Marketingová príležitosť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Lepšia možnosť nastavenia stratégii pre slovenských klient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pr. „kvázipeňažný fond“ s významnou expozíciou do vnútra finančnej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7F8-4200-4BF1-B56B-621DA9F6F2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User</cp:lastModifiedBy>
  <dcterms:modified xsi:type="dcterms:W3CDTF">2011-10-26T09:32:47Z</dcterms:modified>
  <cp:revision>19</cp:revision>
  <dc:subject/>
  <dc:title>Slide 1</dc:title>
</cp:coreProperties>
</file>