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3.wmf" ContentType="image/x-wmf"/>
  <Override PartName="/ppt/media/image6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12600" y="743040"/>
            <a:ext cx="49482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5BF-61B4-4EE8-B1ED-CA7BB62834A6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ástupný symbol čísla snímky 3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6219-92E3-4F34-AF0D-C989738996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F943-7F61-44FD-8D54-F0CA4FB99976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E90CEF4-6E4B-4A71-94D1-B47A485463B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7E3-25FB-43DF-9A96-FAA06A62AEDD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B8E4EF8-30F7-41BF-A150-EEC5F8A4F01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</a:t>
            </a:r>
            <a:br>
              <a:rPr sz="3200"/>
            </a:b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lhová kríza suverénnych štátov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3680" y="386064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5.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B9441912-47E9-4F5D-8185-2B967A01DBB1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6E99752-60DD-4ACC-94E4-20E4A1732BC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entrálne banky – silne expanzívna menová politi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6720" y="1486080"/>
            <a:ext cx="36720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istoricky veľmi nízke hlavné úrokové sadzby vo svete (FED, ECB, BOE, BO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labý hospodársky rast vo svete nedovoľuje centrálnym bankám radikálnu zmenu nastavenia hlavných úroko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oces ukončovania silne expanzívnej menovej politiky FEDu je nateraz v nedohľad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rick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ý FED zavádza nové opatrenie na podporu ekonomiky, tzv. „twist“- predaj krátkych dlhopisov a nákup dlhších splatností v rámci svojho portfó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sadzby zatiaľ nemení, aj keď v hre je opäť aj možné zníženie hlavnej sadzb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chce dodávať likviditu do medzibankového sektora v dlhších splatnostiach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0">
              <a:spcBef>
                <a:spcPts val="400"/>
              </a:spcBef>
              <a:buNone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480" indent="0">
              <a:spcBef>
                <a:spcPts val="400"/>
              </a:spcBef>
              <a:buNone/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537080" cy="2952720"/>
          </a:xfrm>
          <a:prstGeom prst="rect">
            <a:avLst/>
          </a:prstGeom>
          <a:ln w="0">
            <a:noFill/>
          </a:ln>
        </p:spPr>
      </p:pic>
      <p:sp>
        <p:nvSpPr>
          <p:cNvPr id="175" name="Obdĺžnik 7"/>
          <p:cNvSpPr/>
          <p:nvPr/>
        </p:nvSpPr>
        <p:spPr>
          <a:xfrm>
            <a:off x="542520" y="4437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6DB59E3E-EFB6-4DD7-B49F-95B726C8BA5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F9C9145-9439-45A7-9780-50814C09B8A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368280"/>
            <a:ext cx="84358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stupný nárast peňažnej zásoby – USA, Eurozó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39607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ynamika rastu peňažnej zásoby M3 v Eurozóne sa zvyš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 období takmer nulového rastu začiatkom roku 2010 opäť vidíme vyššie medziročné zme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tále však hlboko pod dlhodobým priemerom (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BloombergSam\Desktop\m3 EUR.gif"/>
          <p:cNvPicPr/>
          <p:nvPr/>
        </p:nvPicPr>
        <p:blipFill>
          <a:blip r:embed="rId1"/>
          <a:stretch/>
        </p:blipFill>
        <p:spPr>
          <a:xfrm>
            <a:off x="395280" y="1268280"/>
            <a:ext cx="4392720" cy="252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BloombergSam\Desktop\m2 USD.gif"/>
          <p:cNvPicPr/>
          <p:nvPr/>
        </p:nvPicPr>
        <p:blipFill>
          <a:blip r:embed="rId2"/>
          <a:stretch/>
        </p:blipFill>
        <p:spPr>
          <a:xfrm>
            <a:off x="395280" y="3573360"/>
            <a:ext cx="4392720" cy="25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4788000" y="3789360"/>
            <a:ext cx="38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edziročný nárast stavu peňažnej zásoby M2 v USA opäť na vysokých úrovni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vyšujú sa obavy z „pasce likvidity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odatočné opatrenia expanzívnej menovej politiky nemusia vytvoriť želané stimuly pre ekonomi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dĺžnik 7"/>
          <p:cNvSpPr/>
          <p:nvPr/>
        </p:nvSpPr>
        <p:spPr>
          <a:xfrm>
            <a:off x="3711240" y="6093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9DA1BB22-FEB9-4C29-9E88-EBBDED50A8B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4F75CF5-512F-41F6-9EDA-27BCAB8211F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364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Menová politika CB drží medzibankové úroky nízk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124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akmer nulové úrokové sadzby FEDu  a veľmi nízke medzibankové sadz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mena menovej politiky FEDu nie je na programe a teda ani USD medzibankové sadzby by nemali výraznejšie zmeniť svoju úrove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ĺžnik 7"/>
          <p:cNvSpPr/>
          <p:nvPr/>
        </p:nvSpPr>
        <p:spPr>
          <a:xfrm>
            <a:off x="338580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818160" cy="237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816360" cy="2374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4572000" y="3573360"/>
            <a:ext cx="4124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zvýšila tento rok dvakrát hlavnú úrokovú sadzbu a medzibankové úrokové sadzby na to tiež reagovali miernym ra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lavná sadzba rovnako ako medzibankové sadzby by mali ostať nateraz stabilne níz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bude v prípade problémov s likviditou medzibankového trhu vystupovať ako tzv. „veriteľ poslednej inštanci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F01DC95C-E4C0-4EED-959A-9A1D20C340F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9746D97-5E7A-4EF8-A795-9C53A09FCAD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404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nímanie kreditnej prirážky na USD trhu – zatiaľ bez známok problém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921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voj TED spreadu na USD medzibankovom trhu 2001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:\USERS\BloombergSam\Desktop\ted us.gif"/>
          <p:cNvPicPr/>
          <p:nvPr/>
        </p:nvPicPr>
        <p:blipFill>
          <a:blip r:embed="rId1"/>
          <a:stretch/>
        </p:blipFill>
        <p:spPr>
          <a:xfrm>
            <a:off x="684360" y="1512720"/>
            <a:ext cx="6408720" cy="4508640"/>
          </a:xfrm>
          <a:prstGeom prst="rect">
            <a:avLst/>
          </a:prstGeom>
          <a:ln w="0">
            <a:noFill/>
          </a:ln>
        </p:spPr>
      </p:pic>
      <p:sp>
        <p:nvSpPr>
          <p:cNvPr id="194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Rovná spojovacia šípka 7"/>
          <p:cNvCxnSpPr/>
          <p:nvPr/>
        </p:nvCxnSpPr>
        <p:spPr>
          <a:xfrm>
            <a:off x="4140360" y="5013000"/>
            <a:ext cx="79272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5729B61D-96BC-4731-9EA2-0E5AACB36A3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6E1ECDF-ADA4-4F1B-AF39-B83F700A514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3120" y="404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nímanie kreditnej prirážky na EUR trhu – rastúce obav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C:\USERS\BloombergSam\Desktop\ted2.gif"/>
          <p:cNvPicPr/>
          <p:nvPr/>
        </p:nvPicPr>
        <p:blipFill>
          <a:blip r:embed="rId1"/>
          <a:stretch/>
        </p:blipFill>
        <p:spPr>
          <a:xfrm>
            <a:off x="611280" y="1557360"/>
            <a:ext cx="6480000" cy="4486320"/>
          </a:xfrm>
          <a:prstGeom prst="rect">
            <a:avLst/>
          </a:prstGeom>
          <a:ln w="0">
            <a:noFill/>
          </a:ln>
        </p:spPr>
      </p:pic>
      <p:sp>
        <p:nvSpPr>
          <p:cNvPr id="199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11280" y="1268280"/>
            <a:ext cx="792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voj TED spreadu na EUR medzibankovom trhu 2001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Rovná spojovacia šípka 10"/>
          <p:cNvCxnSpPr/>
          <p:nvPr/>
        </p:nvCxnSpPr>
        <p:spPr>
          <a:xfrm flipV="1">
            <a:off x="4140360" y="4507920"/>
            <a:ext cx="792720" cy="4338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CB8318E5-636B-499E-8991-9C86FF41AB3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E088786-047B-4103-AF2F-0E7CEC8382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3120" y="368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oblémy finančného sekto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991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11960" indent="-11196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voj EURIBOR – OIS spread 3M (2010-201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blémy bánk s likviditou a znižujúcim sa kapitálovým vybavení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USERS\BloombergSam\Desktop\TED EUR.gif"/>
          <p:cNvPicPr/>
          <p:nvPr/>
        </p:nvPicPr>
        <p:blipFill>
          <a:blip r:embed="rId1"/>
          <a:stretch/>
        </p:blipFill>
        <p:spPr>
          <a:xfrm>
            <a:off x="611280" y="1844640"/>
            <a:ext cx="6848280" cy="4176720"/>
          </a:xfrm>
          <a:prstGeom prst="rect">
            <a:avLst/>
          </a:prstGeom>
          <a:ln w="0">
            <a:noFill/>
          </a:ln>
        </p:spPr>
      </p:pic>
      <p:sp>
        <p:nvSpPr>
          <p:cNvPr id="206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516A3547-A3D6-4F29-9AB1-FCD5CE099ED1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5E6C947-D7CC-4B12-9298-86CBEC7AF97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UR peňažný tr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35640" y="1412640"/>
            <a:ext cx="324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Úrokové sadzby peňažného trhu – EURIBOR zaznamenali stabilný vývoj počas posledného kvartálu, napriek tomu od začiatku roka sú vyššie o približne 50 b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buNone/>
              <a:tabLst>
                <a:tab algn="l" pos="0"/>
                <a:tab algn="l" pos="7986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brat rétoriky ECB a zastavenie procesu zvyšovania úrokových sadzieb z dôvodu nastúpenej dlhovej krízy vplývali na medzibankový tr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buNone/>
              <a:tabLst>
                <a:tab algn="l" pos="0"/>
                <a:tab algn="l" pos="7986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oblémy bánk najviac exponovaných na trhoch, ktoré majú najväčšie problémy dlhového financovania sa prejavujú na znižovaní likvidity a plynulého chodu trhu s medzibankovými pôžička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buNone/>
              <a:tabLst>
                <a:tab algn="l" pos="0"/>
                <a:tab algn="l" pos="7986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rivka peňažného trhu je aj naďalej veľmi strmá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spcBef>
                <a:spcPts val="349"/>
              </a:spcBef>
              <a:buNone/>
              <a:tabLst>
                <a:tab algn="l" pos="0"/>
                <a:tab algn="l" pos="7986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566640" y="1484280"/>
            <a:ext cx="4869000" cy="3168720"/>
          </a:xfrm>
          <a:prstGeom prst="rect">
            <a:avLst/>
          </a:prstGeom>
          <a:ln w="0">
            <a:noFill/>
          </a:ln>
        </p:spPr>
      </p:pic>
      <p:sp>
        <p:nvSpPr>
          <p:cNvPr id="211" name="Obdĺžnik 7"/>
          <p:cNvSpPr/>
          <p:nvPr/>
        </p:nvSpPr>
        <p:spPr>
          <a:xfrm>
            <a:off x="519120" y="4653000"/>
            <a:ext cx="131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www.euribor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ývoj a perspektívy dlhopisového trh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5F7E9AD2-0D21-4283-AA86-3AA82524394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BA4167F-3C74-4A4E-9940-B7D740811B8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0CA3C822-D674-4F03-AC61-0FBC059923B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95A3F09-C5AD-4777-92D2-FBA0B829FFC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ezpečné dlhopisové trhy sa tešili záujm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38600" indent="-13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merické a nemecké výnosy 10-ročných štátnych dlhopisov na absolútnych historických minimách – prejav rizikovej averzie a neistoty na finančných trho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8600" indent="-13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bavy z recesie globálnej ekonomiky a dopady dlhovej krízy vytvárali dopyt po bezrizikových aktívach - útek ku kva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8600" indent="-13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priek nízkemu výnosu a zhoršeniu ratingu USA pretrvával silný dopyt aj po 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tretch/>
        </p:blipFill>
        <p:spPr>
          <a:xfrm>
            <a:off x="636480" y="2495520"/>
            <a:ext cx="6527880" cy="3525840"/>
          </a:xfrm>
          <a:prstGeom prst="rect">
            <a:avLst/>
          </a:prstGeom>
          <a:ln w="0">
            <a:noFill/>
          </a:ln>
        </p:spPr>
      </p:pic>
      <p:sp>
        <p:nvSpPr>
          <p:cNvPr id="218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9D7310EA-B39B-4758-BFDA-37D395F7ABD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251A09F-56D8-4D91-A731-A5B46237127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3120" y="368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výšená riziková averzia ovplyvňuje dlhopisové tr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6774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mpozitný index rizikovej averzie odzrkadľuje vývoj postupne rastúcej averzie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ilné krátkodobé výkyvy sú ovplyvnené najmä negatívnymi správami z trhu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C:\USERS\BloombergSam\Desktop\wrai.gif"/>
          <p:cNvPicPr/>
          <p:nvPr/>
        </p:nvPicPr>
        <p:blipFill>
          <a:blip r:embed="rId1"/>
          <a:stretch/>
        </p:blipFill>
        <p:spPr>
          <a:xfrm>
            <a:off x="539640" y="2008080"/>
            <a:ext cx="6696360" cy="4013280"/>
          </a:xfrm>
          <a:prstGeom prst="rect">
            <a:avLst/>
          </a:prstGeom>
          <a:ln w="0">
            <a:noFill/>
          </a:ln>
        </p:spPr>
      </p:pic>
      <p:sp>
        <p:nvSpPr>
          <p:cNvPr id="223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11280" y="1989000"/>
            <a:ext cx="7921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Vývoj Westpac risk aversion indexu 2010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Rovná spojovacia šípka 8"/>
          <p:cNvCxnSpPr/>
          <p:nvPr/>
        </p:nvCxnSpPr>
        <p:spPr>
          <a:xfrm flipV="1">
            <a:off x="610920" y="4149360"/>
            <a:ext cx="6265080" cy="1224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6" name="Ovál 12"/>
          <p:cNvSpPr/>
          <p:nvPr/>
        </p:nvSpPr>
        <p:spPr>
          <a:xfrm>
            <a:off x="3564000" y="3357720"/>
            <a:ext cx="216000" cy="13665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ál 13"/>
          <p:cNvSpPr/>
          <p:nvPr/>
        </p:nvSpPr>
        <p:spPr>
          <a:xfrm>
            <a:off x="5948280" y="2997360"/>
            <a:ext cx="208080" cy="1295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ál 14"/>
          <p:cNvSpPr/>
          <p:nvPr/>
        </p:nvSpPr>
        <p:spPr>
          <a:xfrm>
            <a:off x="4427640" y="3284640"/>
            <a:ext cx="360360" cy="1296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57DA70D5-602B-49AA-BBEE-61687EAFEAA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B4C1150-BEF0-4970-9C75-10B44ADA021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bsah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Dlhová kríza suverénnych štá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Vývoj a perspektívy peňažnéh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Vývoj a perspektívy dlhopisovéh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7C3F62F5-1E7C-4CF8-BBB1-34CD8F00829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8E56EAF-CF66-4FE2-A8DA-046E19C5F1F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rovnanie dlhopisového trhu USA, NEM, 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63640" y="1267920"/>
            <a:ext cx="331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mecké a americké výnosy sú historicky veľmi nízke – silný dopyt po týchto dlhopiso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y slovenských štátnych dlhopisov sa obchodujú s významnou kreditnou prirážkou voči benchmarku Eurozóny – Nemeckým bun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reditná prirážka medzi domácimi a nemeckými dlhopismi sa významne rozšírila ako prejav rizikovej averzie investorov na trh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rátkodobé oslabenie záujmu investorov o dodatočný výnos a obavy o vývoj fiškálneho deficitu európskych krajín môžu znamenať volatilný vývoj kreditnej priráž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 pre vývoj domácich dlhopisov je neistota ohľadom budúceho politického vývoja (predčasné voľby) a dopad na fiškálnu politiku kraj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:\USERS\BloombergSam\Desktop\iyc.gif"/>
          <p:cNvPicPr/>
          <p:nvPr/>
        </p:nvPicPr>
        <p:blipFill>
          <a:blip r:embed="rId1"/>
          <a:stretch/>
        </p:blipFill>
        <p:spPr>
          <a:xfrm>
            <a:off x="468360" y="1341360"/>
            <a:ext cx="4951440" cy="3483000"/>
          </a:xfrm>
          <a:prstGeom prst="rect">
            <a:avLst/>
          </a:prstGeom>
          <a:ln w="0">
            <a:noFill/>
          </a:ln>
        </p:spPr>
      </p:pic>
      <p:sp>
        <p:nvSpPr>
          <p:cNvPr id="233" name="Obdĺžnik 7"/>
          <p:cNvSpPr/>
          <p:nvPr/>
        </p:nvSpPr>
        <p:spPr>
          <a:xfrm>
            <a:off x="542520" y="4797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3D4F5087-B0DB-47F8-A03B-146A0787F4F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4744568-7832-4C89-9E0D-01F9149933F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3120" y="368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astúce ceny protekcie voči riziku defaultu krajín – W.E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eny CDS 5-ročných kontraktov krajín západnej Európy postupne rastú spolu so zvyšujúcou sa nervozitou investorov - dlhová krí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BloombergSam\Desktop\we.gif"/>
          <p:cNvPicPr/>
          <p:nvPr/>
        </p:nvPicPr>
        <p:blipFill>
          <a:blip r:embed="rId1"/>
          <a:stretch/>
        </p:blipFill>
        <p:spPr>
          <a:xfrm>
            <a:off x="611280" y="1844640"/>
            <a:ext cx="6913440" cy="4145040"/>
          </a:xfrm>
          <a:prstGeom prst="rect">
            <a:avLst/>
          </a:prstGeom>
          <a:ln w="0">
            <a:noFill/>
          </a:ln>
        </p:spPr>
      </p:pic>
      <p:sp>
        <p:nvSpPr>
          <p:cNvPr id="238" name="Obdĺžnik 7"/>
          <p:cNvSpPr/>
          <p:nvPr/>
        </p:nvSpPr>
        <p:spPr>
          <a:xfrm>
            <a:off x="3711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EBD43F8A-8866-416B-B3B2-F2C0A7D272E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03031FB-ACAD-43F0-85F4-202810175B9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árast cien CDS aj v regióne C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USERS\BloombergSam\Desktop\cee.gif"/>
          <p:cNvPicPr/>
          <p:nvPr/>
        </p:nvPicPr>
        <p:blipFill>
          <a:blip r:embed="rId1"/>
          <a:stretch/>
        </p:blipFill>
        <p:spPr>
          <a:xfrm>
            <a:off x="611280" y="1833480"/>
            <a:ext cx="6985080" cy="4187880"/>
          </a:xfrm>
          <a:prstGeom prst="rect">
            <a:avLst/>
          </a:prstGeom>
          <a:ln w="0">
            <a:noFill/>
          </a:ln>
        </p:spPr>
      </p:pic>
      <p:sp>
        <p:nvSpPr>
          <p:cNvPr id="242" name="Obdĺžnik 7"/>
          <p:cNvSpPr/>
          <p:nvPr/>
        </p:nvSpPr>
        <p:spPr>
          <a:xfrm>
            <a:off x="3711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39640" y="1268280"/>
            <a:ext cx="799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raniteľnosť ekonomík CEE v nadväznosti na očakávané spomalenie rastu západnej Európy (exportné trhy) vytvára tlak aj na ceny CDS kontraktov týchto krají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57CFDD9B-9C5D-43B9-BDA6-0208CE7ECC8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39F9B31-35B9-42A3-9CBA-F51DF753727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orporátne dlhopisy (IG, HY) tiež pod tlak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63640" y="1412640"/>
            <a:ext cx="352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konomické zotavovanie na vyspelých trhoch je slabé, nerovnomerné a nestabil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ankový sektor ostáva aj naďalej reštriktívny v úverovaní sub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 recesie sa zvýšilo a teda požadovaná prémia za podstúpené investičné riziko sa tiež zvyš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rporátne dlhopisy momentálne trpia na nedôveru a obavy investo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iaceré segmenty a subsegmenty korporátnych emitentov (IG/HY) zaznamenali rozšírenie kreditných prirážo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Finančný sektor bol jeden z najviac postihnut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však za predpokladu, že ekonomiky vyspelých krajín neupadnú do recesie, korporátne dlhopisy sú atraktívne ocen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61960" y="1484280"/>
            <a:ext cx="4802040" cy="3110040"/>
          </a:xfrm>
          <a:prstGeom prst="rect">
            <a:avLst/>
          </a:prstGeom>
          <a:ln w="0">
            <a:noFill/>
          </a:ln>
        </p:spPr>
      </p:pic>
      <p:sp>
        <p:nvSpPr>
          <p:cNvPr id="248" name="Obdĺžnik 7"/>
          <p:cNvSpPr/>
          <p:nvPr/>
        </p:nvSpPr>
        <p:spPr>
          <a:xfrm>
            <a:off x="542520" y="458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84E94E85-5403-4C70-8A6F-6E4B9AC2D63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E24D69A-1007-45C3-99DC-FAEF88287E3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57280" y="1484280"/>
            <a:ext cx="480672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Obdĺžnik 7"/>
          <p:cNvSpPr/>
          <p:nvPr/>
        </p:nvSpPr>
        <p:spPr>
          <a:xfrm>
            <a:off x="471240" y="436572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2840" y="368280"/>
            <a:ext cx="8146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pisy emerging markets aj naďalej atraktív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5364000" y="1413000"/>
            <a:ext cx="352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ospodársky rast rozvíjajúcich sa krajín sa nachádza na podstatne vyššej úrovni ako rast vyspelých krají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však dynamika rastu spomaľuje aj na týchto trho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yšší hospodársky rast a nižšia miera zadĺženia ekonomík emerging regiónu zvyšujú úverovú schopnosť týchto emiten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 rozdiel od vyspelých trhov, EM môžu bojovať s pravdepodobným ekonomickým spomalením prostredníctvom znižovania úrokov a čiastočne aj expanzívnou fiškálnou politik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: prepojenosť na vyspelé trhy (slabšie exporty, riziková averzia-nižšie investície, oslabovanie mi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89FF7D19-BD42-45DD-B98F-D89D4FAB099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0C999DF-A84D-41C0-B3A1-136F4355C6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B0CF682F-5BD7-4A11-ADE7-EE673EA1278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25966FA-A9A8-40DE-AB88-D90AAC59AB1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912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95280" y="119700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labý, nerovnomerný a nestabilný hospodársky rast vyspelých kraj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ýšená neistota a riziková averzia inves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blémy s likviditou a podkapitalizovaním finančného s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ilný dopyt po bezpečných a bezrizikových aktív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úca požadovaná prémia za podstúpené riz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treba zodpovednej fiškálnej politiky vlády mnohých vyspelých kraj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asný a dlhodobo udržateľný mechanizmus riešenia súčasných problémov v Eurozó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6DEE0A89-F82C-4A84-B2C2-686D48039DD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1791EA8-6B3D-4BC7-8078-B327AD534BE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9120" y="23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vá kríza suverénnych štát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äty 2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B521363B-C335-4C1C-BCB7-26E6A924D28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7ECA945-EFEF-4C21-9EE3-A5F27C9A9C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D0A091BA-D539-4457-AA75-3E16F59DA77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FE38C86-2760-4919-9B60-D8229253DAE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íčiny vzniku dlhovej krízy štát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lhodobo vysoké tempá rastu vládneho dlhu vo vyspelých krajinách – zadlžovanie sa vlá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istoricky nízke úrokové sadzby v rokoch 2002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 eurozóny bol politickým rozhodnutím, nie ekonomickým – vplyv na posudzovanie kandidátov na vstup do menovej únie (porušenie kritérií O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blémy hypotekárneho trhu a pokles trhu nehnuteľností v USA z rokov 2007-2008 sa prejavil v spomalení úverového procesu finančného s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ospodárska kríza z roku 2009 – zásahy a stimuly jednotlivých vlád na podporu ekonomického ra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lema a neefektívnosť politických rozhodnutí v oblasti fiškálnej pol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äty 3"/>
          <p:cNvSpPr/>
          <p:nvPr/>
        </p:nvSpPr>
        <p:spPr>
          <a:xfrm>
            <a:off x="468360" y="630864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F61075E4-3E43-4118-9F66-E84B556CEB6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10D7C6E-5A81-4700-A622-6D0B16FB8C7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vá kríza suverénnych štátov Eurozóny – časová analýza výnos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783560" cy="3862440"/>
          </a:xfrm>
          <a:prstGeom prst="rect">
            <a:avLst/>
          </a:prstGeom>
          <a:ln w="0">
            <a:noFill/>
          </a:ln>
        </p:spPr>
      </p:pic>
      <p:sp>
        <p:nvSpPr>
          <p:cNvPr id="148" name="Obdĺžnik 7"/>
          <p:cNvSpPr/>
          <p:nvPr/>
        </p:nvSpPr>
        <p:spPr>
          <a:xfrm>
            <a:off x="61416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ál 6"/>
          <p:cNvSpPr/>
          <p:nvPr/>
        </p:nvSpPr>
        <p:spPr>
          <a:xfrm>
            <a:off x="4500720" y="4365720"/>
            <a:ext cx="2374920" cy="57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Rovná spojovacia šípka 8"/>
          <p:cNvCxnSpPr/>
          <p:nvPr/>
        </p:nvCxnSpPr>
        <p:spPr>
          <a:xfrm>
            <a:off x="2195280" y="3068280"/>
            <a:ext cx="2592720" cy="13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Rovná spojovacia šípka 9"/>
          <p:cNvCxnSpPr/>
          <p:nvPr/>
        </p:nvCxnSpPr>
        <p:spPr>
          <a:xfrm flipV="1">
            <a:off x="6875280" y="2276280"/>
            <a:ext cx="1369080" cy="22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Rovná spojovacia šípka 16"/>
          <p:cNvCxnSpPr/>
          <p:nvPr/>
        </p:nvCxnSpPr>
        <p:spPr>
          <a:xfrm>
            <a:off x="1116000" y="4437000"/>
            <a:ext cx="3528000" cy="4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Rovná spojovacia šípka 19"/>
          <p:cNvCxnSpPr/>
          <p:nvPr/>
        </p:nvCxnSpPr>
        <p:spPr>
          <a:xfrm>
            <a:off x="6732720" y="4869000"/>
            <a:ext cx="1224720" cy="28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360" y="2133720"/>
            <a:ext cx="6191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14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ývoj dlhopisových výnosov vybraných krajín EMÚ, 5Y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39640" y="126828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Konvergencia dlhopisových výnosov v rámci krajín vstupujúcich do Eurozóny v rokoch 1995-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bdobie nereálnej predstavy o homogénnosti kreditnej kvality členských krajín EMÚ (roky 1998-200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rečo by kreditná kvalita Nemecka mala byť porovnateľná so Španielskom, Talianskom, či Gréckom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71D853CF-079F-439C-B749-474C41464E4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F706F52-5149-433F-9C60-963BA1458AA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9796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 silnom raste prichádza vynútené  uťahovanie opaskov – pokles H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79640" y="1413000"/>
            <a:ext cx="302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ilný hospodársky rast menej rozvinutých a menej efektívnych ekonomík EMÚ v rokoch 2000-2007 bol hnaný lacnými úverovými zdroj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ízke úrokové sadzby a deformované kreditné prirážk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pomalenie dynamiky rastu globálnej ekonomiky v rokoch 2008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jviac postihnuté sú najslabšie články EMÚ (Grécko, Írsk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ynútené šetrenie a vládne úspory vedú k silnému poklesu H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 zároveň tento hospodársky pokles vedie k ďalším problémom pri konsolidácii verejných financií (nižšie daňové príjm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501984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Obdĺžnik 7"/>
          <p:cNvSpPr/>
          <p:nvPr/>
        </p:nvSpPr>
        <p:spPr>
          <a:xfrm>
            <a:off x="542520" y="4869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03CEB65B-68AB-48E6-9D37-71F6133B049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FAE0D09-9707-4B24-8608-A45CF024665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vá kríza suverénnych štátov EM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Rast vládneho dlhu najsilnejší práve u problémových krajín EMÚ (Grécko, Írsko, Portugalsk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 reakcii na zhoršenie hospodárskeho vývoja v rokoch 2008-2009 rastie celkové aj realtívne zadĺženie krajín v EM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6912000" cy="3903840"/>
          </a:xfrm>
          <a:prstGeom prst="rect">
            <a:avLst/>
          </a:prstGeom>
          <a:ln w="0">
            <a:noFill/>
          </a:ln>
        </p:spPr>
      </p:pic>
      <p:sp>
        <p:nvSpPr>
          <p:cNvPr id="165" name="Obdĺžnik 7"/>
          <p:cNvSpPr/>
          <p:nvPr/>
        </p:nvSpPr>
        <p:spPr>
          <a:xfrm>
            <a:off x="39816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D19DE430-5BA3-4851-9625-FA70595240B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2F29BE4-1815-4D89-9CBC-1F549E32756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9796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čakávaný vývoj a východiská riešenia dlhovej kríz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rhoví účastníci potrebujú vidieť jasný a dlhodobo udržateľný mechanizmus na riešenie súčasných problém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ýšenie odpisu gréckeho dlhu (haircut z 21% na 50-60%) v zmysle prebiehajúcich rokova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kračovanie nastúpeného trendu fiškálnej konsolidácie a procesu odlžovania vlád (Portugalsko, Írsko, Talian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sciplinovaný a obozretný systém poskytovania záchranného mechanizmu (problém morálneho hazar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treba jednotného a centralizovaného riadenia vládnych výdavkov (fiškálna ú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ekapitalizácia bánk najviac postihnutých dlhovou krízou – systémové banky pre fungovanie ekonom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ývoj a perspektívy peňažného trh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B4F9CBF9-0060-4C75-A727-5E45FEB3980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8A2ECC0-FD88-467F-A23D-6B19A110B6B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413675</cp:lastModifiedBy>
  <cp:lastPrinted>2009-09-01T07:59:28Z</cp:lastPrinted>
  <dcterms:modified xsi:type="dcterms:W3CDTF">2011-10-26T07:41:50Z</dcterms:modified>
  <cp:revision>162</cp:revision>
  <dc:subject/>
  <dc:title>Titel der Präsentation</dc:title>
</cp:coreProperties>
</file>