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68BE-245C-42A6-9726-A95D9121E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4BC0-1D39-4F91-8571-8C4767F7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00F1-4D19-44F6-AC76-EDBA51FA4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E83A-804F-4078-AD78-7E4E933C3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101C-9DFA-4BB8-A742-636F74FC9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0C9F-833A-4CB3-B97C-D53385A9B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8DC-8A72-4057-A287-7F60CD03B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5EF-C8EA-400F-8D8A-27FAA25EF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8419-95CF-436A-B753-E7A135DA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08DB-47A1-46B1-861E-B0553D11D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DB30-85C9-4B65-87EF-8CABA4134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33D5-EEB3-4F75-A75F-BED1936AA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8C9A-6839-4669-A2F6-5C2166AB8E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3"/>
          <p:cNvPicPr/>
          <p:nvPr/>
        </p:nvPicPr>
        <p:blipFill>
          <a:blip r:embed="rId3"/>
          <a:srcRect l="4323" t="91773" r="64171" b="0"/>
          <a:stretch/>
        </p:blipFill>
        <p:spPr>
          <a:xfrm>
            <a:off x="322200" y="6308640"/>
            <a:ext cx="288144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Obrázok 10" descr="VUB_asset man.bmp"/>
          <p:cNvPicPr/>
          <p:nvPr/>
        </p:nvPicPr>
        <p:blipFill>
          <a:blip r:embed="rId4"/>
          <a:stretch/>
        </p:blipFill>
        <p:spPr>
          <a:xfrm>
            <a:off x="6875640" y="6335640"/>
            <a:ext cx="20127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5" descr="VUB_asset man.bmp"/>
          <p:cNvPicPr/>
          <p:nvPr/>
        </p:nvPicPr>
        <p:blipFill>
          <a:blip r:embed="rId3"/>
          <a:stretch/>
        </p:blipFill>
        <p:spPr>
          <a:xfrm>
            <a:off x="324000" y="6021360"/>
            <a:ext cx="3017520" cy="501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owitz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owitz_frontie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142920" y="4909320"/>
            <a:ext cx="86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roslav Kardoš, Tomáš C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ÚB Ass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185760" y="6245280"/>
            <a:ext cx="26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142920" y="2143080"/>
            <a:ext cx="86533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ok</a:t>
            </a:r>
            <a:r>
              <a:rPr b="1" lang="sk-SK" sz="3600" spc="-1" strike="noStrike">
                <a:solidFill>
                  <a:srgbClr val="000000"/>
                </a:solidFill>
                <a:latin typeface="Calibri"/>
              </a:rPr>
              <a:t>ácia aktív pri riadení portfólia podielových fon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Odborná konferencia: Kolektívne investovanie na Slovensku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570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lack-Littermanov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A85F-716F-4F9D-826B-5E26E181FF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lack-Littermanov model alokácie aktív (B-L), ktorého autormi sú F. Black a R. Litterman zo spoločnosti Goldman Sachs (1990), je jedným zo sofistikovanejších prístupov ku konštrukcii optimalizovaného portfólia, využiteľný predovšetkým n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konanie problému s vysoko koncentrovanými a na vstupy citlivými portfóli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-L model vychádza z Bayesovho princípu, spočívajúceho vo využití metódy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mbinovania subjektívnych odhadov investora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zhľadom na očakávané výnosy jedného alebo viacerých aktív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 vektorom trhovej rovnováh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Snahou je vytvoriť nový kombinovaný odhad týchto výnoso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del sa taktiež vyhýba výrazným výkyvom vo váhach, ktorý je zrejmý pri tradičnom M-V koncepte – dokonca aj pri malých zmenách v očakávaných výnosoch. B-L produkuje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tabilnejšie a diverzikovanejšie výsledné portfóli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hady (vlastné, tretích strán) je možné implementovať do modelu formou absolútnych a relatívnych vyjadrení, pričom skupiny aktív je možné kombinovať (Idzorek, 2004). Každému odhadu je možné priradiť úroveň dôvery (0 -100%), odhady nemusia byť konzistent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jednodušená schéma procesu B-L optimaliz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6E1-71F7-4CB2-9270-4531C8E84E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3927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Proces tvorby portfó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94B-0BA2-4ACF-8187-837FC537A4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terminácia jednotlivých aktív tvoriacich trh a ich trhovej kapitalizá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kulácia kovariančnej matice pre predmetné aktí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itie reverznej optimalizácie pri výpočte implikovaných rovnovážnych výnosov pre aktí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pecifikácia odhadov v rámci aktív sledovaného trh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počet revidovaných/posteriórnych výnosov zahŕňajúcich odhady a rovnovážne implikované výno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kulácia výsledných váh M-V optimizé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Proces tvorby portfó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689-431E-4BA7-88AA-0985F4DA74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403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Vz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16DA-6C53-4C48-9450-EBD1020056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143920" cy="46958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Idzorek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89EB-AAFC-450A-B5D6-767C1F2D6B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D:\Car\Destkop\cartoon_buy_sell.jpg"/>
          <p:cNvPicPr/>
          <p:nvPr/>
        </p:nvPicPr>
        <p:blipFill>
          <a:blip r:embed="rId1"/>
          <a:stretch/>
        </p:blipFill>
        <p:spPr>
          <a:xfrm>
            <a:off x="2071800" y="1071720"/>
            <a:ext cx="47149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Triedy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E0F-69FF-4115-8E3B-EA9AEA52A9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rh-benchmark-stratég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19880" cy="3024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7164360" y="486900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Bloomberg,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Obmedzenia váh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1D9-DA41-4289-A366-38BADAF5AE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prístupy: MPT a B-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4 portfóliá: MPT s/bez obmedzení, B-L s/bez obmed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624720" cy="3606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759636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Časové r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FE69-E8DB-467D-8D3E-24EF54AF75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é rady: týždenné historické dáta z rokov 2000 – 2009 pre 10 ak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vestičný horizont: rok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24720" cy="3898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7812000" y="59500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BBG,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B-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558-98DA-48E4-89D5-0B68DE5B38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hady budúcej výkonnosti vybraných tried aktív na rok 201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u každému odhadu bolo možné priradiť úroveň dôvery podľa Idzoreka (200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404200" cy="1296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7596360" y="4221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C63-BDD4-4913-82B4-E452EF7926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428840"/>
            <a:ext cx="85359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Ú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oces alokácie aktí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Black-Littermanov pr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aktická aplik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Porovnanie parametr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1E21-6943-4E49-A72F-240D112571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64520" cy="36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7524720" y="5084640"/>
            <a:ext cx="11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Váhy v portfóliá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8404-F65F-4FAC-8F01-DBEAAB7967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32360" cy="20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032360" cy="204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032360" cy="2043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032360" cy="2044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Váhy v portfóliá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966-FD74-4958-AAB6-AB5F150C74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120000" cy="310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5756400" cy="1789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3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Investičný horizont (rok 201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FB9-3B1E-4C0F-8C53-F61F5DDDBE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07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613320" cy="1511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7812000" y="59500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5"/>
          <p:cNvSpPr/>
          <p:nvPr/>
        </p:nvSpPr>
        <p:spPr>
          <a:xfrm>
            <a:off x="142920" y="4909320"/>
            <a:ext cx="86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roslav Kardoš, Tomáš C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ÚB Ass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185760" y="6245280"/>
            <a:ext cx="26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42920" y="214308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Calibri"/>
              </a:rPr>
              <a:t>Ďakujeme za pozornos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570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Úv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160-3D86-43D1-AD09-87CB9B4849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1428840"/>
            <a:ext cx="85359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eustále diskutované témy v oblasti riadenia portfólií finančných aktív za posledné desaťroč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ýznamné  charakteristiky portfólia a ich kvantifik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tvorba optimálneho portfó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bmedzenia používania historických výnosov na predikciu budú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CIEĽ: Predstavenie a analýza vybraných prístupov k tvorbe optimálneho portfólia vo forme praktickej aplikácie na finančných trh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Zjednodušený proces alokácie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FE45-45EC-4D69-AAA1-ECDFE8E689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Car\Destkop\book-buy-sell-sell-sm.jpg"/>
          <p:cNvPicPr/>
          <p:nvPr/>
        </p:nvPicPr>
        <p:blipFill>
          <a:blip r:embed="rId1"/>
          <a:stretch/>
        </p:blipFill>
        <p:spPr>
          <a:xfrm>
            <a:off x="1714680" y="928800"/>
            <a:ext cx="55720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Zjednodušený proces alokácie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691-1C37-4F3D-8029-A98EEEEC78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85920" y="1143000"/>
            <a:ext cx="2714760" cy="15717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nalýza tried aktív a trh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had súčasných a predikcie budúcich hodnôt ekonomických a iných spoločenských faktor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ýstup: riziko, očakávané výnosy, korelácie aktí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29080" y="1143000"/>
            <a:ext cx="2500200" cy="15717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Špecifikácia investičného plánu inv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čaká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otre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Iim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znalosť trhu, postoj k riziku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714680" y="3071880"/>
            <a:ext cx="4929120" cy="10713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Optimalizácia portfó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implementácia investičnej taktiky na reálne portfó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yužitie rôznych prístupov a modelov pri optimalizovaní p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571840" y="4572000"/>
            <a:ext cx="3571920" cy="12142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pätná väz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nitoring a aktualizácia potrieb investora ako aj podmienok na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eranie a vyhodnotenie výkonnosti portfó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1"/>
          <p:cNvCxnSpPr/>
          <p:nvPr/>
        </p:nvCxnSpPr>
        <p:spPr>
          <a:xfrm flipH="1">
            <a:off x="4284360" y="4145040"/>
            <a:ext cx="2160" cy="429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hape 13"/>
          <p:cNvCxnSpPr>
            <a:endCxn id="98" idx="3"/>
          </p:cNvCxnSpPr>
          <p:nvPr/>
        </p:nvCxnSpPr>
        <p:spPr>
          <a:xfrm flipV="1" rot="16200000">
            <a:off x="5572080" y="3285720"/>
            <a:ext cx="3358080" cy="643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hape 49"/>
          <p:cNvCxnSpPr/>
          <p:nvPr/>
        </p:nvCxnSpPr>
        <p:spPr>
          <a:xfrm flipV="1" rot="16200000">
            <a:off x="-143280" y="2571120"/>
            <a:ext cx="3358080" cy="2072520"/>
          </a:xfrm>
          <a:prstGeom prst="bentConnector3">
            <a:avLst>
              <a:gd name="adj1" fmla="val 43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" name="Straight Connector 19"/>
          <p:cNvSpPr/>
          <p:nvPr/>
        </p:nvSpPr>
        <p:spPr>
          <a:xfrm flipH="1">
            <a:off x="6143760" y="5286240"/>
            <a:ext cx="142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hape 49"/>
          <p:cNvCxnSpPr>
            <a:endCxn id="97" idx="2"/>
          </p:cNvCxnSpPr>
          <p:nvPr/>
        </p:nvCxnSpPr>
        <p:spPr>
          <a:xfrm rot="10800000">
            <a:off x="2642400" y="2714040"/>
            <a:ext cx="3001320" cy="143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6" name="Straight Connector 34"/>
          <p:cNvSpPr/>
          <p:nvPr/>
        </p:nvSpPr>
        <p:spPr>
          <a:xfrm>
            <a:off x="5643720" y="2714760"/>
            <a:ext cx="0" cy="142920"/>
          </a:xfrm>
          <a:prstGeom prst="line">
            <a:avLst/>
          </a:prstGeom>
          <a:ln w="9360">
            <a:solidFill>
              <a:srgbClr val="0070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36"/>
          <p:cNvCxnSpPr/>
          <p:nvPr/>
        </p:nvCxnSpPr>
        <p:spPr>
          <a:xfrm flipH="1">
            <a:off x="4285440" y="2857320"/>
            <a:ext cx="2520" cy="214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endCxn id="97" idx="1"/>
          </p:cNvCxnSpPr>
          <p:nvPr/>
        </p:nvCxnSpPr>
        <p:spPr>
          <a:xfrm>
            <a:off x="499680" y="1928880"/>
            <a:ext cx="7866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6"/>
          <p:cNvCxnSpPr/>
          <p:nvPr/>
        </p:nvCxnSpPr>
        <p:spPr>
          <a:xfrm>
            <a:off x="500040" y="3714840"/>
            <a:ext cx="1215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8"/>
          <p:cNvCxnSpPr/>
          <p:nvPr/>
        </p:nvCxnSpPr>
        <p:spPr>
          <a:xfrm flipH="1" flipV="1">
            <a:off x="6643080" y="3714480"/>
            <a:ext cx="929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Flowchart: Alternate Process 54"/>
          <p:cNvSpPr/>
          <p:nvPr/>
        </p:nvSpPr>
        <p:spPr>
          <a:xfrm>
            <a:off x="7643880" y="1500120"/>
            <a:ext cx="1357200" cy="642960"/>
          </a:xfrm>
          <a:prstGeom prst="flowChartAlternateProcess">
            <a:avLst/>
          </a:prstGeom>
          <a:solidFill>
            <a:srgbClr val="00703c"/>
          </a:solidFill>
          <a:ln w="25560">
            <a:solidFill>
              <a:srgbClr val="005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Straté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Alternate Process 55"/>
          <p:cNvSpPr/>
          <p:nvPr/>
        </p:nvSpPr>
        <p:spPr>
          <a:xfrm>
            <a:off x="7643880" y="3143160"/>
            <a:ext cx="1357200" cy="642960"/>
          </a:xfrm>
          <a:prstGeom prst="flowChartAlternateProcess">
            <a:avLst/>
          </a:prstGeom>
          <a:solidFill>
            <a:srgbClr val="00703c"/>
          </a:solidFill>
          <a:ln w="25560">
            <a:solidFill>
              <a:srgbClr val="005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Tak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E72-DCF0-4EEA-A9D5-220DD901D1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0920" y="1428840"/>
            <a:ext cx="8607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Harry Markowitz (1952) – Modern Portfoli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990 Nobelova cena za ekonóm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lasický Mean Variance prístup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je založený na tom, že hodnota investičnej príležitosti sa dá zmysluplne odmerať a vyhodnotiť pomocou výnosov (mean return) a ich rozptylom (variance). Využíva koncept diverzifikácie, kde súbor inštrumentov v portfóliu má vďaka diverzifikácii nižší rozptyl (riziko) ako samotné inštr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Základné Predpo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šetci investori sú averzní k riz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Očakávané výnosy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, ich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rozptyly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kovarianci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šetkých aktív sú zn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Investori sa len na základe 3 kľúčových parametrov vedia rozhodnúť pre optimálne PF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bstrahujeme od transakčných nákladov a d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Markowitz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214200"/>
            <a:ext cx="1309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C397-9A62-4F4C-8DEF-8AAF59C8FC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1428840"/>
            <a:ext cx="8607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rivka minimálneho rozptylu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Minimum variance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Efektívna krivka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Efficient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efekt korelácie, diverzifik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rivka alokácie kapitálu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Capital Allocation Line = CAL)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edzi rf a rizikovým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ptimálne portfó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dotyčnica z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aximálne Sharpe Ratio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ajlepší pomer medzi rizik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očakávaným výno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en/e/e1/Markowitz_fronti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4200" y="3286080"/>
            <a:ext cx="4782960" cy="263376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6"/>
          <p:cNvSpPr/>
          <p:nvPr/>
        </p:nvSpPr>
        <p:spPr>
          <a:xfrm>
            <a:off x="6162840" y="3708360"/>
            <a:ext cx="1482480" cy="1638360"/>
          </a:xfrm>
          <a:custGeom>
            <a:avLst/>
            <a:gdLst/>
            <a:ahLst/>
            <a:rect l="l" t="t" r="r" b="b"/>
            <a:pathLst>
              <a:path w="1483297" h="1638300">
                <a:moveTo>
                  <a:pt x="1483297" y="0"/>
                </a:moveTo>
                <a:cubicBezTo>
                  <a:pt x="1445197" y="4233"/>
                  <a:pt x="1406810" y="6398"/>
                  <a:pt x="1368997" y="12700"/>
                </a:cubicBezTo>
                <a:cubicBezTo>
                  <a:pt x="1355792" y="14901"/>
                  <a:pt x="1343884" y="22153"/>
                  <a:pt x="1330897" y="25400"/>
                </a:cubicBezTo>
                <a:cubicBezTo>
                  <a:pt x="1276414" y="39021"/>
                  <a:pt x="1247811" y="39477"/>
                  <a:pt x="1191197" y="50800"/>
                </a:cubicBezTo>
                <a:cubicBezTo>
                  <a:pt x="1125027" y="64034"/>
                  <a:pt x="1158784" y="60061"/>
                  <a:pt x="1102297" y="76200"/>
                </a:cubicBezTo>
                <a:cubicBezTo>
                  <a:pt x="1085514" y="80995"/>
                  <a:pt x="1068430" y="84667"/>
                  <a:pt x="1051497" y="88900"/>
                </a:cubicBezTo>
                <a:cubicBezTo>
                  <a:pt x="1026097" y="105833"/>
                  <a:pt x="1004257" y="130047"/>
                  <a:pt x="975297" y="139700"/>
                </a:cubicBezTo>
                <a:cubicBezTo>
                  <a:pt x="962597" y="143933"/>
                  <a:pt x="949171" y="146413"/>
                  <a:pt x="937197" y="152400"/>
                </a:cubicBezTo>
                <a:cubicBezTo>
                  <a:pt x="923545" y="159226"/>
                  <a:pt x="912749" y="170974"/>
                  <a:pt x="899097" y="177800"/>
                </a:cubicBezTo>
                <a:cubicBezTo>
                  <a:pt x="887123" y="183787"/>
                  <a:pt x="872971" y="184513"/>
                  <a:pt x="860997" y="190500"/>
                </a:cubicBezTo>
                <a:cubicBezTo>
                  <a:pt x="847345" y="197326"/>
                  <a:pt x="836549" y="209074"/>
                  <a:pt x="822897" y="215900"/>
                </a:cubicBezTo>
                <a:cubicBezTo>
                  <a:pt x="810923" y="221887"/>
                  <a:pt x="797712" y="225078"/>
                  <a:pt x="784797" y="228600"/>
                </a:cubicBezTo>
                <a:cubicBezTo>
                  <a:pt x="751118" y="237785"/>
                  <a:pt x="716315" y="242961"/>
                  <a:pt x="683197" y="254000"/>
                </a:cubicBezTo>
                <a:cubicBezTo>
                  <a:pt x="502113" y="314361"/>
                  <a:pt x="690552" y="253713"/>
                  <a:pt x="556197" y="292100"/>
                </a:cubicBezTo>
                <a:cubicBezTo>
                  <a:pt x="449168" y="322680"/>
                  <a:pt x="591316" y="282492"/>
                  <a:pt x="479997" y="330200"/>
                </a:cubicBezTo>
                <a:cubicBezTo>
                  <a:pt x="463954" y="337076"/>
                  <a:pt x="446130" y="338667"/>
                  <a:pt x="429197" y="342900"/>
                </a:cubicBezTo>
                <a:cubicBezTo>
                  <a:pt x="320008" y="415693"/>
                  <a:pt x="458157" y="328420"/>
                  <a:pt x="352997" y="381000"/>
                </a:cubicBezTo>
                <a:cubicBezTo>
                  <a:pt x="339345" y="387826"/>
                  <a:pt x="328549" y="399574"/>
                  <a:pt x="314897" y="406400"/>
                </a:cubicBezTo>
                <a:cubicBezTo>
                  <a:pt x="302923" y="412387"/>
                  <a:pt x="288771" y="413113"/>
                  <a:pt x="276797" y="419100"/>
                </a:cubicBezTo>
                <a:cubicBezTo>
                  <a:pt x="178320" y="468339"/>
                  <a:pt x="296362" y="425278"/>
                  <a:pt x="200597" y="457200"/>
                </a:cubicBezTo>
                <a:cubicBezTo>
                  <a:pt x="168783" y="481060"/>
                  <a:pt x="136462" y="501560"/>
                  <a:pt x="111697" y="533400"/>
                </a:cubicBezTo>
                <a:cubicBezTo>
                  <a:pt x="92955" y="557497"/>
                  <a:pt x="77830" y="584200"/>
                  <a:pt x="60897" y="609600"/>
                </a:cubicBezTo>
                <a:cubicBezTo>
                  <a:pt x="52430" y="622300"/>
                  <a:pt x="40324" y="633220"/>
                  <a:pt x="35497" y="647700"/>
                </a:cubicBezTo>
                <a:cubicBezTo>
                  <a:pt x="15971" y="706278"/>
                  <a:pt x="25422" y="672673"/>
                  <a:pt x="10097" y="749300"/>
                </a:cubicBezTo>
                <a:cubicBezTo>
                  <a:pt x="14330" y="821267"/>
                  <a:pt x="0" y="896808"/>
                  <a:pt x="22797" y="965200"/>
                </a:cubicBezTo>
                <a:cubicBezTo>
                  <a:pt x="32450" y="994160"/>
                  <a:pt x="71693" y="1002348"/>
                  <a:pt x="98997" y="1016000"/>
                </a:cubicBezTo>
                <a:cubicBezTo>
                  <a:pt x="115930" y="1024467"/>
                  <a:pt x="133359" y="1032007"/>
                  <a:pt x="149797" y="1041400"/>
                </a:cubicBezTo>
                <a:cubicBezTo>
                  <a:pt x="163049" y="1048973"/>
                  <a:pt x="174245" y="1059974"/>
                  <a:pt x="187897" y="1066800"/>
                </a:cubicBezTo>
                <a:cubicBezTo>
                  <a:pt x="199871" y="1072787"/>
                  <a:pt x="214023" y="1073513"/>
                  <a:pt x="225997" y="1079500"/>
                </a:cubicBezTo>
                <a:cubicBezTo>
                  <a:pt x="317640" y="1125322"/>
                  <a:pt x="203571" y="1085770"/>
                  <a:pt x="314897" y="1130300"/>
                </a:cubicBezTo>
                <a:cubicBezTo>
                  <a:pt x="339756" y="1140244"/>
                  <a:pt x="365697" y="1147233"/>
                  <a:pt x="391097" y="1155700"/>
                </a:cubicBezTo>
                <a:lnTo>
                  <a:pt x="429197" y="1168400"/>
                </a:lnTo>
                <a:cubicBezTo>
                  <a:pt x="441897" y="1172633"/>
                  <a:pt x="456158" y="1173674"/>
                  <a:pt x="467297" y="1181100"/>
                </a:cubicBezTo>
                <a:cubicBezTo>
                  <a:pt x="492697" y="1198033"/>
                  <a:pt x="513881" y="1224496"/>
                  <a:pt x="543497" y="1231900"/>
                </a:cubicBezTo>
                <a:cubicBezTo>
                  <a:pt x="559773" y="1235969"/>
                  <a:pt x="614177" y="1248190"/>
                  <a:pt x="632397" y="1257300"/>
                </a:cubicBezTo>
                <a:cubicBezTo>
                  <a:pt x="646049" y="1264126"/>
                  <a:pt x="656845" y="1275874"/>
                  <a:pt x="670497" y="1282700"/>
                </a:cubicBezTo>
                <a:cubicBezTo>
                  <a:pt x="682471" y="1288687"/>
                  <a:pt x="696895" y="1288899"/>
                  <a:pt x="708597" y="1295400"/>
                </a:cubicBezTo>
                <a:cubicBezTo>
                  <a:pt x="839605" y="1368182"/>
                  <a:pt x="736686" y="1330163"/>
                  <a:pt x="822897" y="1358900"/>
                </a:cubicBezTo>
                <a:cubicBezTo>
                  <a:pt x="895116" y="1413064"/>
                  <a:pt x="853617" y="1390307"/>
                  <a:pt x="949897" y="1422400"/>
                </a:cubicBezTo>
                <a:lnTo>
                  <a:pt x="949897" y="1422400"/>
                </a:lnTo>
                <a:cubicBezTo>
                  <a:pt x="1059086" y="1495193"/>
                  <a:pt x="920937" y="1407920"/>
                  <a:pt x="1026097" y="1460500"/>
                </a:cubicBezTo>
                <a:cubicBezTo>
                  <a:pt x="1039749" y="1467326"/>
                  <a:pt x="1050168" y="1479887"/>
                  <a:pt x="1064197" y="1485900"/>
                </a:cubicBezTo>
                <a:cubicBezTo>
                  <a:pt x="1082449" y="1493722"/>
                  <a:pt x="1164031" y="1507684"/>
                  <a:pt x="1178497" y="1511300"/>
                </a:cubicBezTo>
                <a:cubicBezTo>
                  <a:pt x="1191484" y="1514547"/>
                  <a:pt x="1203725" y="1520322"/>
                  <a:pt x="1216597" y="1524000"/>
                </a:cubicBezTo>
                <a:cubicBezTo>
                  <a:pt x="1233380" y="1528795"/>
                  <a:pt x="1250679" y="1531684"/>
                  <a:pt x="1267397" y="1536700"/>
                </a:cubicBezTo>
                <a:cubicBezTo>
                  <a:pt x="1293042" y="1544393"/>
                  <a:pt x="1321320" y="1547248"/>
                  <a:pt x="1343597" y="1562100"/>
                </a:cubicBezTo>
                <a:cubicBezTo>
                  <a:pt x="1429760" y="1619542"/>
                  <a:pt x="1398211" y="1591314"/>
                  <a:pt x="1445197" y="1638300"/>
                </a:cubicBezTo>
              </a:path>
            </a:pathLst>
          </a:custGeom>
          <a:noFill/>
          <a:ln w="76320">
            <a:solidFill>
              <a:srgbClr val="007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6215040" y="3714840"/>
            <a:ext cx="1425600" cy="736560"/>
          </a:xfrm>
          <a:custGeom>
            <a:avLst/>
            <a:gdLst/>
            <a:ahLst/>
            <a:rect l="l" t="t" r="r" b="b"/>
            <a:pathLst>
              <a:path w="1425713" h="736600">
                <a:moveTo>
                  <a:pt x="1424293" y="0"/>
                </a:moveTo>
                <a:cubicBezTo>
                  <a:pt x="1346048" y="26082"/>
                  <a:pt x="1425713" y="2051"/>
                  <a:pt x="1297293" y="25400"/>
                </a:cubicBezTo>
                <a:cubicBezTo>
                  <a:pt x="1280120" y="28522"/>
                  <a:pt x="1263666" y="34978"/>
                  <a:pt x="1246493" y="38100"/>
                </a:cubicBezTo>
                <a:cubicBezTo>
                  <a:pt x="1217042" y="43455"/>
                  <a:pt x="1187226" y="46567"/>
                  <a:pt x="1157593" y="50800"/>
                </a:cubicBezTo>
                <a:lnTo>
                  <a:pt x="1043293" y="88900"/>
                </a:lnTo>
                <a:cubicBezTo>
                  <a:pt x="1030593" y="93133"/>
                  <a:pt x="1018180" y="98353"/>
                  <a:pt x="1005193" y="101600"/>
                </a:cubicBezTo>
                <a:cubicBezTo>
                  <a:pt x="988260" y="105833"/>
                  <a:pt x="970505" y="107587"/>
                  <a:pt x="954393" y="114300"/>
                </a:cubicBezTo>
                <a:cubicBezTo>
                  <a:pt x="919442" y="128863"/>
                  <a:pt x="889527" y="155917"/>
                  <a:pt x="852793" y="165100"/>
                </a:cubicBezTo>
                <a:cubicBezTo>
                  <a:pt x="836517" y="169169"/>
                  <a:pt x="782113" y="181390"/>
                  <a:pt x="763893" y="190500"/>
                </a:cubicBezTo>
                <a:cubicBezTo>
                  <a:pt x="750241" y="197326"/>
                  <a:pt x="739741" y="209701"/>
                  <a:pt x="725793" y="215900"/>
                </a:cubicBezTo>
                <a:cubicBezTo>
                  <a:pt x="663622" y="243532"/>
                  <a:pt x="655627" y="236950"/>
                  <a:pt x="598793" y="254000"/>
                </a:cubicBezTo>
                <a:cubicBezTo>
                  <a:pt x="573148" y="261693"/>
                  <a:pt x="544870" y="264548"/>
                  <a:pt x="522593" y="279400"/>
                </a:cubicBezTo>
                <a:cubicBezTo>
                  <a:pt x="509893" y="287867"/>
                  <a:pt x="498145" y="297974"/>
                  <a:pt x="484493" y="304800"/>
                </a:cubicBezTo>
                <a:cubicBezTo>
                  <a:pt x="472519" y="310787"/>
                  <a:pt x="458095" y="310999"/>
                  <a:pt x="446393" y="317500"/>
                </a:cubicBezTo>
                <a:cubicBezTo>
                  <a:pt x="315385" y="390282"/>
                  <a:pt x="418304" y="352263"/>
                  <a:pt x="332093" y="381000"/>
                </a:cubicBezTo>
                <a:cubicBezTo>
                  <a:pt x="315160" y="393700"/>
                  <a:pt x="300225" y="409634"/>
                  <a:pt x="281293" y="419100"/>
                </a:cubicBezTo>
                <a:cubicBezTo>
                  <a:pt x="265681" y="426906"/>
                  <a:pt x="245016" y="422118"/>
                  <a:pt x="230493" y="431800"/>
                </a:cubicBezTo>
                <a:cubicBezTo>
                  <a:pt x="217793" y="440267"/>
                  <a:pt x="215886" y="459107"/>
                  <a:pt x="205093" y="469900"/>
                </a:cubicBezTo>
                <a:cubicBezTo>
                  <a:pt x="190126" y="484867"/>
                  <a:pt x="171633" y="495862"/>
                  <a:pt x="154293" y="508000"/>
                </a:cubicBezTo>
                <a:cubicBezTo>
                  <a:pt x="129284" y="525506"/>
                  <a:pt x="78093" y="558800"/>
                  <a:pt x="78093" y="558800"/>
                </a:cubicBezTo>
                <a:cubicBezTo>
                  <a:pt x="37841" y="619177"/>
                  <a:pt x="57520" y="582420"/>
                  <a:pt x="27293" y="673100"/>
                </a:cubicBezTo>
                <a:lnTo>
                  <a:pt x="27293" y="673100"/>
                </a:lnTo>
                <a:cubicBezTo>
                  <a:pt x="0" y="727686"/>
                  <a:pt x="1893" y="704968"/>
                  <a:pt x="1893" y="736600"/>
                </a:cubicBezTo>
              </a:path>
            </a:pathLst>
          </a:custGeom>
          <a:noFill/>
          <a:ln w="76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4737240" y="3708360"/>
            <a:ext cx="2906640" cy="1514520"/>
            <a:chOff x="4737240" y="3708360"/>
            <a:chExt cx="2906640" cy="1514520"/>
          </a:xfrm>
        </p:grpSpPr>
        <p:sp>
          <p:nvSpPr>
            <p:cNvPr id="125" name="Freeform 11"/>
            <p:cNvSpPr/>
            <p:nvPr/>
          </p:nvSpPr>
          <p:spPr>
            <a:xfrm>
              <a:off x="4737240" y="3708360"/>
              <a:ext cx="2870280" cy="1514520"/>
            </a:xfrm>
            <a:custGeom>
              <a:avLst/>
              <a:gdLst/>
              <a:ahLst/>
              <a:rect l="l" t="t" r="r" b="b"/>
              <a:pathLst>
                <a:path w="2870200" h="1514105">
                  <a:moveTo>
                    <a:pt x="2870200" y="0"/>
                  </a:moveTo>
                  <a:cubicBezTo>
                    <a:pt x="2850066" y="2876"/>
                    <a:pt x="2745656" y="16115"/>
                    <a:pt x="2717800" y="25400"/>
                  </a:cubicBezTo>
                  <a:cubicBezTo>
                    <a:pt x="2699839" y="31387"/>
                    <a:pt x="2684727" y="44153"/>
                    <a:pt x="2667000" y="50800"/>
                  </a:cubicBezTo>
                  <a:cubicBezTo>
                    <a:pt x="2581071" y="83023"/>
                    <a:pt x="2649740" y="45497"/>
                    <a:pt x="2578100" y="76200"/>
                  </a:cubicBezTo>
                  <a:cubicBezTo>
                    <a:pt x="2560699" y="83658"/>
                    <a:pt x="2545261" y="95613"/>
                    <a:pt x="2527300" y="101600"/>
                  </a:cubicBezTo>
                  <a:cubicBezTo>
                    <a:pt x="2506822" y="108426"/>
                    <a:pt x="2484475" y="108097"/>
                    <a:pt x="2463800" y="114300"/>
                  </a:cubicBezTo>
                  <a:cubicBezTo>
                    <a:pt x="2441964" y="120851"/>
                    <a:pt x="2422136" y="133149"/>
                    <a:pt x="2400300" y="139700"/>
                  </a:cubicBezTo>
                  <a:cubicBezTo>
                    <a:pt x="2379625" y="145903"/>
                    <a:pt x="2357625" y="146720"/>
                    <a:pt x="2336800" y="152400"/>
                  </a:cubicBezTo>
                  <a:cubicBezTo>
                    <a:pt x="2310969" y="159445"/>
                    <a:pt x="2284547" y="165826"/>
                    <a:pt x="2260600" y="177800"/>
                  </a:cubicBezTo>
                  <a:cubicBezTo>
                    <a:pt x="2243667" y="186267"/>
                    <a:pt x="2227934" y="197760"/>
                    <a:pt x="2209800" y="203200"/>
                  </a:cubicBezTo>
                  <a:cubicBezTo>
                    <a:pt x="2185136" y="210599"/>
                    <a:pt x="2159000" y="211667"/>
                    <a:pt x="2133600" y="215900"/>
                  </a:cubicBezTo>
                  <a:cubicBezTo>
                    <a:pt x="2043059" y="261171"/>
                    <a:pt x="2122045" y="228371"/>
                    <a:pt x="1993900" y="254000"/>
                  </a:cubicBezTo>
                  <a:cubicBezTo>
                    <a:pt x="1959669" y="260846"/>
                    <a:pt x="1925418" y="268361"/>
                    <a:pt x="1892300" y="279400"/>
                  </a:cubicBezTo>
                  <a:lnTo>
                    <a:pt x="1816100" y="304800"/>
                  </a:lnTo>
                  <a:cubicBezTo>
                    <a:pt x="1803400" y="309033"/>
                    <a:pt x="1790987" y="314253"/>
                    <a:pt x="1778000" y="317500"/>
                  </a:cubicBezTo>
                  <a:cubicBezTo>
                    <a:pt x="1761067" y="321733"/>
                    <a:pt x="1743759" y="324680"/>
                    <a:pt x="1727200" y="330200"/>
                  </a:cubicBezTo>
                  <a:cubicBezTo>
                    <a:pt x="1705573" y="337409"/>
                    <a:pt x="1685327" y="348391"/>
                    <a:pt x="1663700" y="355600"/>
                  </a:cubicBezTo>
                  <a:cubicBezTo>
                    <a:pt x="1647141" y="361120"/>
                    <a:pt x="1629618" y="363284"/>
                    <a:pt x="1612900" y="368300"/>
                  </a:cubicBezTo>
                  <a:lnTo>
                    <a:pt x="1498600" y="406400"/>
                  </a:lnTo>
                  <a:lnTo>
                    <a:pt x="1460500" y="419100"/>
                  </a:lnTo>
                  <a:cubicBezTo>
                    <a:pt x="1435100" y="427567"/>
                    <a:pt x="1410710" y="440098"/>
                    <a:pt x="1384300" y="444500"/>
                  </a:cubicBezTo>
                  <a:cubicBezTo>
                    <a:pt x="1358900" y="448733"/>
                    <a:pt x="1333350" y="452150"/>
                    <a:pt x="1308100" y="457200"/>
                  </a:cubicBezTo>
                  <a:cubicBezTo>
                    <a:pt x="1290984" y="460623"/>
                    <a:pt x="1274416" y="466477"/>
                    <a:pt x="1257300" y="469900"/>
                  </a:cubicBezTo>
                  <a:cubicBezTo>
                    <a:pt x="1186042" y="484152"/>
                    <a:pt x="1143044" y="486828"/>
                    <a:pt x="1066800" y="495300"/>
                  </a:cubicBezTo>
                  <a:cubicBezTo>
                    <a:pt x="1054100" y="499533"/>
                    <a:pt x="1041687" y="504753"/>
                    <a:pt x="1028700" y="508000"/>
                  </a:cubicBezTo>
                  <a:cubicBezTo>
                    <a:pt x="974217" y="521621"/>
                    <a:pt x="945614" y="522077"/>
                    <a:pt x="889000" y="533400"/>
                  </a:cubicBezTo>
                  <a:cubicBezTo>
                    <a:pt x="871884" y="536823"/>
                    <a:pt x="854918" y="541084"/>
                    <a:pt x="838200" y="546100"/>
                  </a:cubicBezTo>
                  <a:cubicBezTo>
                    <a:pt x="812555" y="553793"/>
                    <a:pt x="787975" y="565006"/>
                    <a:pt x="762000" y="571500"/>
                  </a:cubicBezTo>
                  <a:cubicBezTo>
                    <a:pt x="685225" y="590694"/>
                    <a:pt x="727759" y="578680"/>
                    <a:pt x="635000" y="609600"/>
                  </a:cubicBezTo>
                  <a:lnTo>
                    <a:pt x="596900" y="622300"/>
                  </a:lnTo>
                  <a:cubicBezTo>
                    <a:pt x="584200" y="626533"/>
                    <a:pt x="572005" y="632799"/>
                    <a:pt x="558800" y="635000"/>
                  </a:cubicBezTo>
                  <a:cubicBezTo>
                    <a:pt x="453073" y="652621"/>
                    <a:pt x="508092" y="644058"/>
                    <a:pt x="393700" y="660400"/>
                  </a:cubicBezTo>
                  <a:cubicBezTo>
                    <a:pt x="265657" y="703081"/>
                    <a:pt x="464268" y="637960"/>
                    <a:pt x="304800" y="685800"/>
                  </a:cubicBezTo>
                  <a:cubicBezTo>
                    <a:pt x="262456" y="698503"/>
                    <a:pt x="221708" y="716582"/>
                    <a:pt x="177800" y="723900"/>
                  </a:cubicBezTo>
                  <a:cubicBezTo>
                    <a:pt x="118746" y="733742"/>
                    <a:pt x="0" y="749300"/>
                    <a:pt x="0" y="749300"/>
                  </a:cubicBezTo>
                  <a:cubicBezTo>
                    <a:pt x="21167" y="753533"/>
                    <a:pt x="42675" y="756320"/>
                    <a:pt x="63500" y="762000"/>
                  </a:cubicBezTo>
                  <a:cubicBezTo>
                    <a:pt x="89331" y="769045"/>
                    <a:pt x="113290" y="782998"/>
                    <a:pt x="139700" y="787400"/>
                  </a:cubicBezTo>
                  <a:lnTo>
                    <a:pt x="215900" y="800100"/>
                  </a:lnTo>
                  <a:cubicBezTo>
                    <a:pt x="333112" y="858706"/>
                    <a:pt x="280766" y="841717"/>
                    <a:pt x="368300" y="863600"/>
                  </a:cubicBezTo>
                  <a:cubicBezTo>
                    <a:pt x="381000" y="872067"/>
                    <a:pt x="394674" y="879229"/>
                    <a:pt x="406400" y="889000"/>
                  </a:cubicBezTo>
                  <a:cubicBezTo>
                    <a:pt x="420198" y="900498"/>
                    <a:pt x="428906" y="918189"/>
                    <a:pt x="444500" y="927100"/>
                  </a:cubicBezTo>
                  <a:cubicBezTo>
                    <a:pt x="459655" y="935760"/>
                    <a:pt x="478367" y="935567"/>
                    <a:pt x="495300" y="939800"/>
                  </a:cubicBezTo>
                  <a:cubicBezTo>
                    <a:pt x="555677" y="980052"/>
                    <a:pt x="518920" y="960373"/>
                    <a:pt x="609600" y="990600"/>
                  </a:cubicBezTo>
                  <a:cubicBezTo>
                    <a:pt x="622300" y="994833"/>
                    <a:pt x="636561" y="995874"/>
                    <a:pt x="647700" y="1003300"/>
                  </a:cubicBezTo>
                  <a:cubicBezTo>
                    <a:pt x="756889" y="1076093"/>
                    <a:pt x="618740" y="988820"/>
                    <a:pt x="723900" y="1041400"/>
                  </a:cubicBezTo>
                  <a:cubicBezTo>
                    <a:pt x="737552" y="1048226"/>
                    <a:pt x="747655" y="1061584"/>
                    <a:pt x="762000" y="1066800"/>
                  </a:cubicBezTo>
                  <a:cubicBezTo>
                    <a:pt x="794807" y="1078730"/>
                    <a:pt x="830482" y="1081161"/>
                    <a:pt x="863600" y="1092200"/>
                  </a:cubicBezTo>
                  <a:lnTo>
                    <a:pt x="977900" y="1130300"/>
                  </a:lnTo>
                  <a:lnTo>
                    <a:pt x="1016000" y="1143000"/>
                  </a:lnTo>
                  <a:cubicBezTo>
                    <a:pt x="1028700" y="1147233"/>
                    <a:pt x="1041113" y="1152453"/>
                    <a:pt x="1054100" y="1155700"/>
                  </a:cubicBezTo>
                  <a:lnTo>
                    <a:pt x="1104900" y="1168400"/>
                  </a:lnTo>
                  <a:cubicBezTo>
                    <a:pt x="1168289" y="1210660"/>
                    <a:pt x="1121426" y="1186945"/>
                    <a:pt x="1219200" y="1206500"/>
                  </a:cubicBezTo>
                  <a:cubicBezTo>
                    <a:pt x="1236316" y="1209923"/>
                    <a:pt x="1253217" y="1214405"/>
                    <a:pt x="1270000" y="1219200"/>
                  </a:cubicBezTo>
                  <a:cubicBezTo>
                    <a:pt x="1282872" y="1222878"/>
                    <a:pt x="1295056" y="1228890"/>
                    <a:pt x="1308100" y="1231900"/>
                  </a:cubicBezTo>
                  <a:cubicBezTo>
                    <a:pt x="1350166" y="1241608"/>
                    <a:pt x="1393217" y="1246829"/>
                    <a:pt x="1435100" y="1257300"/>
                  </a:cubicBezTo>
                  <a:cubicBezTo>
                    <a:pt x="1483606" y="1269427"/>
                    <a:pt x="1501576" y="1271488"/>
                    <a:pt x="1549400" y="1295400"/>
                  </a:cubicBezTo>
                  <a:cubicBezTo>
                    <a:pt x="1563052" y="1302226"/>
                    <a:pt x="1573020" y="1315973"/>
                    <a:pt x="1587500" y="1320800"/>
                  </a:cubicBezTo>
                  <a:cubicBezTo>
                    <a:pt x="1611929" y="1328943"/>
                    <a:pt x="1638300" y="1329267"/>
                    <a:pt x="1663700" y="1333500"/>
                  </a:cubicBezTo>
                  <a:cubicBezTo>
                    <a:pt x="1680633" y="1341967"/>
                    <a:pt x="1696539" y="1352913"/>
                    <a:pt x="1714500" y="1358900"/>
                  </a:cubicBezTo>
                  <a:cubicBezTo>
                    <a:pt x="1734978" y="1365726"/>
                    <a:pt x="1756928" y="1366917"/>
                    <a:pt x="1778000" y="1371600"/>
                  </a:cubicBezTo>
                  <a:cubicBezTo>
                    <a:pt x="1795039" y="1375386"/>
                    <a:pt x="1811684" y="1380877"/>
                    <a:pt x="1828800" y="1384300"/>
                  </a:cubicBezTo>
                  <a:cubicBezTo>
                    <a:pt x="1854050" y="1389350"/>
                    <a:pt x="1880018" y="1390755"/>
                    <a:pt x="1905000" y="1397000"/>
                  </a:cubicBezTo>
                  <a:cubicBezTo>
                    <a:pt x="2090952" y="1443488"/>
                    <a:pt x="1863739" y="1405620"/>
                    <a:pt x="2070100" y="1435100"/>
                  </a:cubicBezTo>
                  <a:cubicBezTo>
                    <a:pt x="2232331" y="1489177"/>
                    <a:pt x="2060822" y="1436021"/>
                    <a:pt x="2489200" y="1460500"/>
                  </a:cubicBezTo>
                  <a:cubicBezTo>
                    <a:pt x="2510751" y="1461731"/>
                    <a:pt x="2531365" y="1469918"/>
                    <a:pt x="2552700" y="1473200"/>
                  </a:cubicBezTo>
                  <a:cubicBezTo>
                    <a:pt x="2586433" y="1478390"/>
                    <a:pt x="2620634" y="1480289"/>
                    <a:pt x="2654300" y="1485900"/>
                  </a:cubicBezTo>
                  <a:cubicBezTo>
                    <a:pt x="2671517" y="1488769"/>
                    <a:pt x="2688317" y="1493805"/>
                    <a:pt x="2705100" y="1498600"/>
                  </a:cubicBezTo>
                  <a:cubicBezTo>
                    <a:pt x="2717972" y="1502278"/>
                    <a:pt x="2729895" y="1509822"/>
                    <a:pt x="2743200" y="1511300"/>
                  </a:cubicBezTo>
                  <a:cubicBezTo>
                    <a:pt x="2768445" y="1514105"/>
                    <a:pt x="2794000" y="1511300"/>
                    <a:pt x="2819400" y="1511300"/>
                  </a:cubicBezTo>
                </a:path>
              </a:pathLst>
            </a:cu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13"/>
            <p:cNvSpPr/>
            <p:nvPr/>
          </p:nvSpPr>
          <p:spPr>
            <a:xfrm>
              <a:off x="7639560" y="3714480"/>
              <a:ext cx="4320" cy="1500840"/>
            </a:xfrm>
            <a:prstGeom prst="line">
              <a:avLst/>
            </a:prstGeom>
            <a:ln w="76320">
              <a:solidFill>
                <a:srgbClr val="7030a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16"/>
          <p:cNvSpPr/>
          <p:nvPr/>
        </p:nvSpPr>
        <p:spPr>
          <a:xfrm flipV="1">
            <a:off x="4786200" y="3429000"/>
            <a:ext cx="2571840" cy="1928880"/>
          </a:xfrm>
          <a:prstGeom prst="line">
            <a:avLst/>
          </a:prstGeom>
          <a:ln w="76320">
            <a:solidFill>
              <a:srgbClr val="f59e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7164360" y="58784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wikipedia, vlastné spracova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 – Využit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9091-EEF1-41AA-9FB1-EF6E0B3EC7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1428840"/>
            <a:ext cx="87501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DAŤ NOVÉ AKTÍVUM DO EXISTUJÚCEHO PORTFÓLIA ALEBO N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harpe ratio existujúceho portfólia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orelácia fínskych dlhopisov s existujúcim portfóliom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čakávané Sharpe ratio fínskych dlhopisov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0,24 * 0,45 = 0,108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 0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,12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li by sme prida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ť fínske dlhopisy do portfó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374"/>
              </a:spcBef>
              <a:buClr>
                <a:srgbClr val="ff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EFEKT DIVERZIFIK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ám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3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kcií v portfóliu, ich priemerný rozptyl j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57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2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priemerná korelácia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ký bude mať rozptyl (=riziko) celé portfól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k-SK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=576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1-0,2)/23+0,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3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1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k 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potom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k-SK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=576*0,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7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4916" t="0" r="9023" b="0"/>
          <a:stretch/>
        </p:blipFill>
        <p:spPr>
          <a:xfrm>
            <a:off x="6143760" y="4714920"/>
            <a:ext cx="2500200" cy="1023840"/>
          </a:xfrm>
          <a:prstGeom prst="rect">
            <a:avLst/>
          </a:prstGeom>
          <a:ln w="0">
            <a:noFill/>
          </a:ln>
        </p:spPr>
      </p:pic>
      <p:cxnSp>
        <p:nvCxnSpPr>
          <p:cNvPr id="133" name="Curved Connector 8"/>
          <p:cNvCxnSpPr/>
          <p:nvPr/>
        </p:nvCxnSpPr>
        <p:spPr>
          <a:xfrm flipH="1">
            <a:off x="4571280" y="5500800"/>
            <a:ext cx="857880" cy="357840"/>
          </a:xfrm>
          <a:prstGeom prst="curvedConnector5">
            <a:avLst>
              <a:gd name="adj1" fmla="val -27036"/>
              <a:gd name="adj2" fmla="val 49949"/>
              <a:gd name="adj3" fmla="val -27036"/>
            </a:avLst>
          </a:prstGeom>
          <a:ln w="38160">
            <a:solidFill>
              <a:srgbClr val="00703b"/>
            </a:solidFill>
            <a:miter/>
            <a:tailEnd len="med" type="triangle" w="med"/>
          </a:ln>
        </p:spPr>
      </p:cxnSp>
      <p:sp>
        <p:nvSpPr>
          <p:cNvPr id="134" name="TextBox 12"/>
          <p:cNvSpPr/>
          <p:nvPr/>
        </p:nvSpPr>
        <p:spPr>
          <a:xfrm>
            <a:off x="2714760" y="5715000"/>
            <a:ext cx="20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 mo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j diverzifik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á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 – Praktické Problé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2547-4647-46FF-BFB3-139EDDDDB2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50920" y="1428840"/>
            <a:ext cx="87501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rčenie vstupov do Mean-Variance modelu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očakávané výnosy, rozptyly a korelá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utnosť poznať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/2 +3n/2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arame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=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150 parame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=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01.500 parametrov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Historickými dátami (decay factor) alebo modelovaným prístupom (adjusted beta)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estabilita Krivky minimálneho rozptylu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mean variance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aximálne využiť rozdielnosti medzi jednotlivými aktív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eľké short pozí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Frekventované rebalancovanie portfó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Limity na short selling, zdokonaľovať vstupy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SASS - Michaela Bordováčová</cp:lastModifiedBy>
  <dcterms:modified xsi:type="dcterms:W3CDTF">2011-11-09T08:50:03Z</dcterms:modified>
  <cp:revision>445</cp:revision>
  <dc:subject/>
  <dc:title>Snímka 1</dc:title>
</cp:coreProperties>
</file>