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DCD-E859-4B68-B4B0-E1171AA8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C58-2C6D-4E61-8E92-86A1E4B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B4E32-6149-4797-8055-6BE9A067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473AC-9BAB-419F-A12E-1C15C05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B06E8-2898-4E83-A090-9946B1C2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51FF7-A6AB-4CCD-9AD8-DFF9B70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4D5A4-8768-41F7-9C11-9DE1FAC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08AF0-7439-4387-9975-DB90EF73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BD001-6C2D-4CE0-9BEE-C5F10FC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DEC84-650B-4D5C-A0E7-EFADB241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7A10F-539E-42DA-BC5D-9D71534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FAEC-7324-472F-92AB-C4BD2C27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5A5-CD29-4ABC-AF08-2E4F409B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89F83-F3D5-447B-94A5-DD617CC7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0A7B9-2B0D-48D6-A3B7-C728B325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BBD6F-125F-45EA-8A23-27B6C046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B0A5B-7C73-4112-86CE-4FC9871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DE288-A23F-49E7-B2E5-DDE03E5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5F48C-ECE4-4911-B8EC-16FF6FC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6230D-3023-4325-8C2E-EE79E6D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AA237-A0DC-479B-8B89-2CEC6D5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4044A-6B5E-4641-886A-95A613EC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EF999-CA02-4225-A0C6-2B89C70E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7D6-5F07-45BE-AB8F-A0FB2C74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074DB-F2A4-4550-898E-EB8578DF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1CB2-9EB7-443F-B4B7-A686CEC9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46639-A1DD-47C6-A6A1-8D50BA19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18B05-CBCD-42A7-BA00-FEF11044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1B299-07D1-43E2-AF45-2C183F4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EF178-7748-42AE-9584-7EB63E2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2686-B33C-4760-89E2-58738B8E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545BF-70A4-454F-82DB-7AF4B20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3529A-A6AC-4B8E-9BF7-63FA419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3F20-F4D7-4FE1-8420-2A5374B3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3B22-FE9F-4A91-8842-AEC58DE0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5EDA0-CF21-460C-BC77-D357D68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115F7-BA7B-48A5-A488-812991C6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7E792-07D2-4BAE-B63B-A317B17F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046CD-7EDA-4752-828C-D5CD9C10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6B882-D674-442A-9D61-49CF7BC6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25E75-1C34-431A-934D-AB3510F9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A3C2B-90AE-4C24-8F6C-EFDC08F4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33AF4-A2EE-4E62-96A2-A16FDA9A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57FD4-F64D-439C-BB5F-798BC056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97762-6F6E-485B-A349-307EBFAE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BB6B-7E6D-4E6F-9CFF-1C58B7B7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2B616-1998-4B09-AFEF-37CDCD2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589DF-2B4D-496C-8245-5140FAD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3555F-8D44-42A5-82FF-579B1C1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EA9F9-9CDB-482E-B13B-0A38BFB0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C8DEB-4C66-4AEA-8D65-46A6A3EE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6FF7-F502-431E-83FC-60A9FCD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46A1-5649-43E6-890D-7EB558D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1B56-C05A-4F48-98F8-826D6B0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E15C-DF01-4C3D-8FF7-0C1E526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C39C-276B-4779-915E-40168B1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69C-EAE0-4911-9B6F-E46A6330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68F0-D2C5-4012-AE69-5454874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3900-91D7-4FFC-AFD3-58D49D60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2DD6-681C-40E3-AAAB-5C906DC1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6F5A-94DB-4367-8418-67E7D07F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FE3-D501-496B-816A-C55B9A50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A817-3CED-45CF-B75B-981270F4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059B-F296-4EC7-829A-9223B5D0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8A90-C335-4374-8F94-FAE4029C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B340-F237-45FF-890D-BCE083FC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C227-D483-4B51-B83A-868C755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D70-CC2E-4B8C-A7BF-7F494E03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0879-A5CA-4D14-89AC-C5458B42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A6BA-1068-4DEE-8C95-AA01259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8B76-0A0F-406D-9F13-9C44646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142C-4463-40A8-906C-58C7D13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A180-8D0E-4ADE-89B8-5F6CC0BC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805E-6400-4C7F-95C0-607DF9F6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DDD5-0FF1-44BE-9921-2A7E03F6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E467-68CF-47AD-A975-65DC42F4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CF81-1F41-492E-B1FA-9DB7BBF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455B-D702-4FB2-A975-DE3760DF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184-7B56-4914-B275-F35414F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17FD-7A21-4ACC-B215-80703E5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4652-78B7-4889-A27F-B053E59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95E9-80DB-4867-BC9F-FBC8AC29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0C10-44A3-4295-83E3-54C20C6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8045-5AC0-4923-9AE4-D4215F2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3A52-E22C-4E61-A6EF-3268959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6E9E-D73B-49AC-989C-1DB1636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8EFB-4B92-4307-9E49-BFB1745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D71C-B495-4949-87F4-9CB7A0C8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2E11-017A-4365-9A7D-4FAE2F62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73B-E8E2-479F-A5B0-91587607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E71D3-8225-457F-A49D-37D988B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053F-5AA4-49CA-835B-84DF7FA1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EB43-6777-4041-B752-3AFA6CB6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4718-BF34-4A50-8FE1-649343E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8E537-1B60-465E-BAA0-67371C5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FC54-CB07-4B08-88AD-9590542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37D6-EBF1-43A6-AB40-463A31C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3083-1A30-4154-8B8A-F1F5AB7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037E-B47D-41B1-AEB1-E489C10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B409-5F96-4955-8948-B81AF50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79C-5913-40B2-BD17-F51095D4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BC7B-6D0C-44D9-B936-12B51098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6AB6-448F-416B-9A18-B5F4FCA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DEAA1-3080-4FF4-ACEA-A22434AF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8CCA-E2B7-4B8E-9DAB-D2C56CBA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8C6D-7F4E-4FF4-B1AA-DF41F5D6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3295-FA2E-4FFE-A991-BE254039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DFF41-092C-4803-8AC7-9B9BD9C6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38F90-592C-47B5-8BB0-F0EBE94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071F-D223-4C69-A319-6312E10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F364-7C8B-4DE8-9ECA-0253443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993-D83F-4923-9A62-6675D32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70162-A684-4F13-A478-72CB60ED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1A00-1E3B-433A-8B4A-759A6406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7DED9-6790-4989-B746-C01B3EE6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FD8E-F314-441A-80E9-811840B2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FD46A-4634-48D0-B9E4-36EF71E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4272D-35B2-4D40-B311-45F6D8D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91DE4-9A5B-4BF8-8B37-BCC4FD79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E215-EEF5-438F-BCD0-C2855ADC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0E42E-EFFC-4107-AAE0-23730B6E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759D-CAB1-4274-93F5-2C1BD26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171-B781-47D8-84CF-449FB58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2CE1-9622-4A4B-82EE-39BB6F71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34F6-15A7-4C10-BAAB-CC7B412D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70BD-1128-4D3A-B513-A05573F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11968-8AAF-4F92-9902-3C2B7C9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6F647-6B68-4FF0-BDD1-A31CE3E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52EAC-BE4A-4524-BAE2-695A186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11DB-D46B-4FDC-B380-15D9A220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E6307-3F9A-4A6F-9199-A091E79E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6C5F3-3D68-4C2F-B7FD-5797CA4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D1E9E-DBC0-49D8-93FF-D5FDF56C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ED1-B7FB-4144-B9BE-8C26A5C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1CC0E-BB17-49EC-9954-A1E8F1EA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E031-33D2-4BD0-83A4-5A1E8C5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7DCC-5FF6-4546-8DF8-C3026A4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682F-DA60-4CB8-B732-0E1E136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9E326-2CA7-4DA2-95C9-7EC66355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8B8A8-E3CE-4279-98E8-91D1A798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6210-B25B-440E-8FD7-D0733FF9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BC0E1-F34B-4A09-87B4-FF5DDB46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7033C-742C-4A8C-9831-E947F4B7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BC84-321F-4321-9208-D9C5EE1E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7DA4-17BF-4F17-B096-9C8680755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FD6-4447-450A-9F12-52462F492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122-425A-4A26-B761-F5B15107E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F6A-D7B0-4E59-80F1-70C3EBF2D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D588-360E-4E74-80F1-6E05A3269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CAC-3859-45F3-8C5D-7D9A6D674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C22C-806A-49D8-92E3-695EEFF9C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9F7-50DB-4D80-859E-E224C7F2A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EC30-E3E4-48E6-B54B-B84F22690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98B8-99CC-4AAD-836B-741F7E4C6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81E2-1EAB-4355-8CD5-E179F6008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0C97-DD1B-4BF7-8785-C28D300F9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9"/>
          <p:cNvSpPr/>
          <p:nvPr/>
        </p:nvSpPr>
        <p:spPr>
          <a:xfrm>
            <a:off x="533520" y="1676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000000"/>
                </a:solidFill>
                <a:latin typeface="Arial"/>
              </a:rPr>
              <a:t>Vývoj a perspektívy akciového trhu</a:t>
            </a:r>
            <a:endParaRPr b="0" lang="en-US" sz="3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55640" y="5013360"/>
            <a:ext cx="7993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lek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vne investovanie na Slovensku 2011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otel Kaskády, 4. a 5. november 2011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826920" y="3213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arek Prokopec,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úci oddelenia portfólio manažmentu, TAM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dnoduché časovani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Price vs 10M S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Motivácia vs výsled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65880" cy="4608720"/>
          </a:xfrm>
          <a:prstGeom prst="rect">
            <a:avLst/>
          </a:prstGeom>
          <a:ln w="0">
            <a:noFill/>
          </a:ln>
        </p:spPr>
      </p:pic>
      <p:sp>
        <p:nvSpPr>
          <p:cNvPr id="518" name="Obdĺžnik 3"/>
          <p:cNvSpPr/>
          <p:nvPr/>
        </p:nvSpPr>
        <p:spPr>
          <a:xfrm>
            <a:off x="684360" y="6378480"/>
            <a:ext cx="7775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Behavioral Portfolio Analysis of Individual Investors”,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</a:rPr>
              <a:t> Arvid Hoffmann, Hersh Shefrin and Joost Pennings</a:t>
            </a:r>
            <a:endParaRPr b="0" lang="en-US" sz="11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ko na akciový tr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71680" y="2071440"/>
            <a:ext cx="839304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Investovanie je viac o charaktere ako mozgu (IQ)“  Benjamin Grah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Kupujte vo výpredajo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Rozkladajte vstu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Zložité veci treba nechať na odborník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kciový trh – 5 rok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584280" y="1600200"/>
            <a:ext cx="797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ceneni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http://3.bp.blogspot.com/-tFYpH3TQ3Jk/TpbMzJ-B6RI/AAAAAAAAAlc/cyVmL0Emd3w/s640/figure294.gif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isky prekonávajú očakávania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 21/10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" descr="\\sbacfshome\homedirs\tb02157\My Documents\My Pictures\aapl1021.png"/>
          <p:cNvPicPr/>
          <p:nvPr/>
        </p:nvPicPr>
        <p:blipFill>
          <a:blip r:embed="rId1"/>
          <a:stretch/>
        </p:blipFill>
        <p:spPr>
          <a:xfrm>
            <a:off x="900000" y="1628640"/>
            <a:ext cx="7299360" cy="4176720"/>
          </a:xfrm>
          <a:prstGeom prst="rect">
            <a:avLst/>
          </a:prstGeom>
          <a:ln w="0">
            <a:noFill/>
          </a:ln>
        </p:spPr>
      </p:pic>
      <p:sp>
        <p:nvSpPr>
          <p:cNvPr id="502" name="Obdĺžnik 3"/>
          <p:cNvSpPr/>
          <p:nvPr/>
        </p:nvSpPr>
        <p:spPr>
          <a:xfrm>
            <a:off x="686880" y="6381720"/>
            <a:ext cx="2312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bespokeinvest.com</a:t>
            </a:r>
            <a:endParaRPr b="0" lang="en-US" sz="12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Tr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kci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émia nad inflác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488360" cy="4525920"/>
          </a:xfrm>
          <a:prstGeom prst="rect">
            <a:avLst/>
          </a:prstGeom>
          <a:ln w="0">
            <a:noFill/>
          </a:ln>
        </p:spPr>
      </p:pic>
      <p:sp>
        <p:nvSpPr>
          <p:cNvPr id="509" name="Obdĺžnik 4"/>
          <p:cNvSpPr/>
          <p:nvPr/>
        </p:nvSpPr>
        <p:spPr>
          <a:xfrm>
            <a:off x="755640" y="6381720"/>
            <a:ext cx="799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100" spc="-1" strike="noStrike">
                <a:solidFill>
                  <a:srgbClr val="000000"/>
                </a:solidFill>
                <a:latin typeface="Arial"/>
              </a:rPr>
              <a:t>Zdroj: „Global Investment Returns Yearbook 2010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</a:rPr>
              <a:t>, Dimson, Marsh and Staunton</a:t>
            </a:r>
            <a:endParaRPr b="0" lang="en-US" sz="11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droje výno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5614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Investície v nervóznych časo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21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45:43Z</dcterms:created>
  <dc:creator>Richard Simulcik (TB20937)</dc:creator>
  <dc:description/>
  <dc:language>en-US</dc:language>
  <cp:lastModifiedBy>USER</cp:lastModifiedBy>
  <dcterms:modified xsi:type="dcterms:W3CDTF">2011-10-27T12:50:16Z</dcterms:modified>
  <cp:revision>328</cp:revision>
  <dc:subject/>
  <dc:title>Headline prezentácie alebo sekcie pokračovanie headline</dc:title>
</cp:coreProperties>
</file>