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3144-C70C-4FB7-B70A-15FEA7F91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BCA9-A7E7-449F-A9B2-72899198B30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štatút sa zostavuje za strešný fond ako celok (všeobecná časť – spol. pre všetky podfondy; osobitná – týkajúca sa osobitostí jednotl. podfon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v názve strešného fondu musí byť „strešný“ – v názve podfondu musí byť názov strešného, bez „strešný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účtovníctvo sa nevedie za strešný fond, ani účtovná závierka – vedie sa osobitne za každý podfond, aj účtovná závier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2BFE-1EA6-40BB-B2F1-9B2BDBD51CF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5CE3-6946-44D8-840C-A143F3B9D71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 Štatút určí či sa vo fonde vydávajú viaceré tranže, aj ich o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D560-9C98-4C4A-809F-7644C88760A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ožno premeniť uzavretý na otvorený, na základe PS, požiadať najneskôr 6M, premeniť 3M pred uplynutím doby na ktorú bol vytvorený (max 10 roko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uzavr – spol musí do 6M od zač.vydáv. Podať žiadosť o prijatie PL na regul trh alebo do zoznamu mnohostranného obchodného systé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5409-6FFD-4B2C-BA09-01D94BDB22C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ožno premeniť uzavretý na otvorený, na základe PS, požiadať najneskôr 6M, premeniť 3M pred uplynutím doby na ktorú bol vytvorený (max 10 roko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uzavr – spol musí do 6M od zač.vydáv. Podať žiadosť o prijatie PL na regul trh alebo do zoznamu mnohostranného obchodného systé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FE37-5DA7-45AD-AF42-F70D4190F5D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 prečo prichádza rekodifikácia, rekodifikačný proces, pripomienkovanie cez asociáciu, vyjednávanie s N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E75D-A5FA-4305-8FCA-D766D779BF5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BF5-6826-4A74-B555-7C58A485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CEA-60C3-4461-9A87-1DBCA02B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E89-18A1-49A2-AB31-DB603968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AAB-0475-4DD7-AD06-412EEF53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D56-5A6F-4066-9C86-6BCEA921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ED4-D27C-451F-8336-8137D183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5EE-B290-4E8A-9EE9-B5365A84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CE6-969C-483C-95F4-FDE840E8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C0F-6EC1-44F5-A1DF-07235E6B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186-A6A5-45A4-AB00-96B6B809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B45-C386-4ABB-9CEB-F9109881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A59-9383-4A8D-A4DA-05ABB3C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F3B6-7D36-4899-B852-B6701BC9E8AD}" type="slidenum">
              <a:rPr b="0" lang="en-US" sz="1400" spc="-1" strike="noStrike">
                <a:solidFill>
                  <a:srgbClr val="0732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1655280"/>
            <a:ext cx="792504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Nové produktové možnosti podľa nového zákona o kolektívnom investovaní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9480" y="480060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eter Žiline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Tatra Asset Manag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04.11.201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novinky podľa nového ZKI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Strešné fondy/podfondy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Fondy peňažného trhu a krátkodobého peňažného trh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Hlavné/zberné fondy (Master-feeder štruktúry)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Emisie podielových list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Nové produkty pre slovenský trh - Non UCITS legislatíva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Uzavreté fondy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1560600"/>
            <a:ext cx="716292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trešné podiel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BEF8-28EE-40BF-999F-C0FA0F41F3C5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09480" y="3124080"/>
            <a:ext cx="8077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Aplikovateľné na štandardné UCITS aj národné non-UCITS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Hlavné výhody – úspora nákladov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  <a:ea typeface="Arial"/>
              </a:rPr>
              <a:t>pri administrácii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a dokumentácii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  <a:ea typeface="Arial"/>
              </a:rPr>
              <a:t>fond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ov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  <a:ea typeface="Arial"/>
              </a:rPr>
              <a:t>pri spustení nového produktu (zmen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  <a:ea typeface="Arial"/>
              </a:rPr>
              <a:t> štatútu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otencionálne využitie - zastrešenie fondov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odľa investičnej stratég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odľa obsluhovaného segmen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209376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dfond 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209376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dfond 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09376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dfond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63656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Strešný fond A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Fondy peňažného trhu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EE84-1930-4225-A135-98C1B0D62300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28600" y="1828800"/>
            <a:ext cx="4648320" cy="158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Nová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klasifikáci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á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peňažných fondov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krátkodobý fond peňažného trhu /</a:t>
            </a:r>
            <a:br>
              <a:rPr sz="1800"/>
            </a:br>
            <a:r>
              <a:rPr b="1" i="1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fond peňažného trh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presné kritériá a limity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, ak nesplní, nesmie sa označovať ako peňažný fo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84984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609480" y="3657600"/>
            <a:ext cx="8077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Aplikovateľné na štandardné UCITS aj národné non-UCITS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otencionálne dôsledk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Úbytok klasických fondov peňažného trhu – záni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Zmena názvov súčasných peňažných fondov a únik do mierne rizikovejších UCITS fondov – krátke dlhopisové rieše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Nástup non-UCITS fondov – menej prísne limity, iné názvy ako peňažné fond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Hlavný/Zberný fond (Master/Feeder štruktúry)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B044-6B04-4089-B362-33E5E7B29253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09480" y="3048120"/>
            <a:ext cx="762012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Aplikovateľné len na štandardné UCITS, vnútroštátne aj cezhraničn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Možné využiti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redovšetkým cezhraničné štruktú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Rozdielny daňový režim pre slovenské a zahraničné UCITS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Iné poplatkové štruktúry oproti zahraniči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175104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Zberný f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598760"/>
            <a:ext cx="2057400" cy="990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Hlavný f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1"/>
            <a:endCxn id="138" idx="6"/>
          </p:cNvCxnSpPr>
          <p:nvPr/>
        </p:nvCxnSpPr>
        <p:spPr>
          <a:xfrm rot="10800000">
            <a:off x="3656880" y="2093040"/>
            <a:ext cx="1981800" cy="1080"/>
          </a:xfrm>
          <a:prstGeom prst="curved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733920" y="1757520"/>
            <a:ext cx="19047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85% podiel H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15% likvidný majeto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Emisie podielových list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A0F3-7FA8-47B1-B6C8-3F7935DE0F74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09480" y="3124080"/>
            <a:ext cx="83059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plikovateľné na štandardné UCITS aj národné non-UCITS fondy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Odlíšenie emisií podľa nasledovných parametrov alebo ich kombináci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D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ruh investorov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(segment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Poplatkov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(vstupné, výstupné, za správu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inim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álna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invest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ovaná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sum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 a d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enominačn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á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men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pôsobu vyplatenia výnosov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(reinvestícia, dividend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Možnosti použit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Predovšetkým pre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rôzn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e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segment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y (retail, privátne bankovníctvo, inštitúcie a pod.)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Pre dividendové politiky (Reinvestícia vs. Výplat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Menšie využitie pre rôzne me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84360" y="5445000"/>
            <a:ext cx="23032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600200"/>
            <a:ext cx="716292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93760"/>
            <a:ext cx="160020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Retailová emis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63656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Akciový podielový fon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2438280"/>
            <a:ext cx="160020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Privátna emis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2093760"/>
            <a:ext cx="160020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Emisia EU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438280"/>
            <a:ext cx="160020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Emisia US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093760"/>
            <a:ext cx="198144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Reinvestičná emis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438280"/>
            <a:ext cx="198108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Dividendová emis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8E49-2693-4F72-8FBD-0B6141787171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Nové produkty pre slovenský trh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09480" y="1697040"/>
            <a:ext cx="80010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non-UCITS produk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2093760"/>
          <a:ext cx="8001000" cy="2352960"/>
        </p:xfrm>
        <a:graphic>
          <a:graphicData uri="http://schemas.openxmlformats.org/drawingml/2006/table">
            <a:tbl>
              <a:tblPr/>
              <a:tblGrid>
                <a:gridCol w="3581640"/>
                <a:gridCol w="4419360"/>
              </a:tblGrid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é špeciálne podielové fond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cenných papiero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alternatívnych investíci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nehnuteľnost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Retailové fondy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á ponuka, povolenie pred vytvorení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ákonné limity investov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verejňovanie informácií, dokumentácie a reporting dohľadu ako pri UCITS fondo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Špeciálne podielové fondy profesionálnych investoro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Profesionálne fondy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privátna  ponuka, dodatočné povoleni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štatutárne limity investov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bmedzená dokumentácia a reporting dohľadu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7" name="Rectangle 3"/>
          <p:cNvSpPr/>
          <p:nvPr/>
        </p:nvSpPr>
        <p:spPr>
          <a:xfrm>
            <a:off x="609480" y="464832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Možnosti použit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Pokračovanie Realitných fondo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Nové investičné stratégie pre retail – verejné ŠPF – náhrada štandardných peňažných fondo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Privátne a inštitucionálne fondy – pre profesionálnych investorov, namieru šité riešen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727A-B4A5-48FB-9B58-D80F369CF3F5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Uzavret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09480" y="1697040"/>
            <a:ext cx="80010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Uzavret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9480" y="2093760"/>
          <a:ext cx="8001000" cy="1411560"/>
        </p:xfrm>
        <a:graphic>
          <a:graphicData uri="http://schemas.openxmlformats.org/drawingml/2006/table">
            <a:tbl>
              <a:tblPr/>
              <a:tblGrid>
                <a:gridCol w="3581640"/>
                <a:gridCol w="4419360"/>
              </a:tblGrid>
              <a:tr h="1079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Non UCITS fond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Podmienky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bez práva na vyplateni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bchodovaný na trhu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najdlhšie na 10 roko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é špeciálne podielové fond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cenných papiero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alternatívnych investíci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nehnuteľnost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Špeciálne podielové fondy profesionálnych investoro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2" name="Rectangle 3"/>
          <p:cNvSpPr/>
          <p:nvPr/>
        </p:nvSpPr>
        <p:spPr>
          <a:xfrm>
            <a:off x="609480" y="396252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Novinky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Zadarenie do Mnostranného obchodného systému okrem Burzy C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Vedenie samostatnej evidencie P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Možnosti použit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Účelovo zamerané stratégie na veľké projekty, infraštruktúru a po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a v dokumentácii - úprava štatútu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B09B-8782-4E7B-9BBE-63897540AF34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9120" y="1752120"/>
            <a:ext cx="8153640" cy="13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lusy a mínusy novej úpravy štatútu podielového fondu: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+ horná hranica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výšky depozitárskeho a správcovského poplatk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+ flexibilný režim pri dividende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– či, v akej lehote, výške a rozsah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- obrovský a neúmerný nárast regulácie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– nové opatrenie NBS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3200400"/>
          <a:ext cx="7467480" cy="1886040"/>
        </p:xfrm>
        <a:graphic>
          <a:graphicData uri="http://schemas.openxmlformats.org/drawingml/2006/table">
            <a:tbl>
              <a:tblPr/>
              <a:tblGrid>
                <a:gridCol w="3036600"/>
                <a:gridCol w="2246400"/>
                <a:gridCol w="218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KI č. 594/2003 Z.z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KI č. 203/2011 Z.z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 paragraf (§ 39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5 odsek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381 sl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 721 písmen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KI: 1 § (§ 7), 10 ods., 713 slov, 4 304 písm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patrenie NBS: 23 §§, 74 ods., 5 596 slov, </a:t>
                      </a:r>
                      <a:br>
                        <a:rPr sz="1400"/>
                      </a:b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33 877 písm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4 paragrafov, 84 odsek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309 slov, 38 181 písm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2057400" y="5486400"/>
            <a:ext cx="4876920" cy="459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NÁRAST REGULÁCIE O 1300%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a v dokumentácii - Kľúčové informácie pre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B38E-696B-4B15-AD7D-C5D4F3F0F87A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120" y="1828800"/>
            <a:ext cx="8153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Kľúčové informácie pre investora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krátky predzmluvný dokument, </a:t>
            </a: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nahrádza ZPP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cieľ: umožniť investorom prijať informované investičné rozhodnutie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Požiadavky na KID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*stručnosť *zrozumiteľnosť *porovnateľnosť *prístup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Výsledok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Šedá uniformita, žiadna odlíšiteľnosť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Narušená kontinuita – otázka zrozumiteľnosti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hrnutie a záver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093760"/>
            <a:ext cx="5791320" cy="406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iac využívané produktové charakteristiky, najmä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non-UCITS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emisie podielových listo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strešn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yššia ponuka, vyššia variabilita, efektívnejšie spravované fondové produk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ýrazne zvýšená regulá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781680" y="2666880"/>
            <a:ext cx="1935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Produktové novinky podľa nového ZKI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Zmena v dokumentácii PF (štatút, KII)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Zhrnutie a záver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 algn="ctr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Ďakujem za pozornosť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Prajem neregulovaný príjemný deň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3434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Peter Žilinek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Tatra Asset Management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e-mail: peter_zilinek@tam.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u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840-A577-425E-885B-E9F72CE2E33F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093760"/>
            <a:ext cx="7543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Základné produktové charakteristiky na slovenskom trhu kolektívneho investovania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UCITS vs. Non-UC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Reinvestícia výnosov vs. Vyplácanie divid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Segmentové produkty – Retail vs. Privátne bankovníct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Formy a štruktúry (uzavreté fondy, štruktúry, emis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Investičná stratég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2743200"/>
          <a:ext cx="6096240" cy="3075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5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8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2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UCITS fond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Non-UCITS fond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5 realitných fond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 inštitucionálny fo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523880" y="1833480"/>
            <a:ext cx="6096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UCITS vs. Non-UC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2743200"/>
          <a:ext cx="6096240" cy="3075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5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8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7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Reinvestičných fond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ividendový fo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(realitný fond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523880" y="1833480"/>
            <a:ext cx="6096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Reinvestícia vs. Divide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2743200"/>
          <a:ext cx="6096240" cy="3014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5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8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4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Retailových fond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4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Fondov pre Privátne bankovníct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523880" y="1833480"/>
            <a:ext cx="6096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Retail vs. Privátne bankovníct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2743200"/>
          <a:ext cx="6096240" cy="3075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8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56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0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Uzavreté fond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Emisie podielových list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Štruktúrované fond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523880" y="1833480"/>
            <a:ext cx="6096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Rôzne štruktú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00200" y="2819520"/>
          <a:ext cx="6019920" cy="3106440"/>
        </p:xfrm>
        <a:graphic>
          <a:graphicData uri="http://schemas.openxmlformats.org/drawingml/2006/table">
            <a:tbl>
              <a:tblPr/>
              <a:tblGrid>
                <a:gridCol w="2644200"/>
                <a:gridCol w="3375720"/>
              </a:tblGrid>
              <a:tr h="74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8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3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Fondov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 </a:t>
                      </a: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9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lhopisových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 </a:t>
                      </a: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Akciových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1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miešaných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1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Fondov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0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Iných (zaistených)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 </a:t>
                      </a: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Špeciálnych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523880" y="1833480"/>
            <a:ext cx="6096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Investičná straté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62485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a klasifikácie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 - záver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666880"/>
            <a:ext cx="6019920" cy="193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Málo využívan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Univerzálnosť - rovnaká ponuka, nízka variabili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Legislatívne obmedze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6:22:27Z</dcterms:created>
  <dc:creator>Peter Žilinek</dc:creator>
  <dc:description/>
  <dc:language>en-US</dc:language>
  <cp:lastModifiedBy>Peter Zilinek (TB10402)</cp:lastModifiedBy>
  <dcterms:modified xsi:type="dcterms:W3CDTF">2011-11-04T07:16:25Z</dcterms:modified>
  <cp:revision>91</cp:revision>
  <dc:subject/>
  <dc:title>Slide 1</dc:title>
</cp:coreProperties>
</file>