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84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7"/>
          </p:nvPr>
        </p:nvSpPr>
        <p:spPr>
          <a:xfrm>
            <a:off x="3774600" y="-360"/>
            <a:ext cx="2868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901800" y="766440"/>
            <a:ext cx="491328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906480" y="4681080"/>
            <a:ext cx="4906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8"/>
          </p:nvPr>
        </p:nvSpPr>
        <p:spPr>
          <a:xfrm>
            <a:off x="0" y="9438840"/>
            <a:ext cx="28684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9"/>
          </p:nvPr>
        </p:nvSpPr>
        <p:spPr>
          <a:xfrm>
            <a:off x="3774600" y="9438840"/>
            <a:ext cx="2868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D0AB-3128-415D-8C8E-64C76DA54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774960" y="9439200"/>
            <a:ext cx="2868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64C6-6257-456A-80DB-784961588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1DC0D-5D18-4DCD-B4BC-4D5BF30C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E634-1118-4043-9792-2A61C703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5C5D-07E5-4467-BC39-16D84936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9527B-2E0C-437D-B611-55BBE3D4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B7841-4381-4E22-80D2-03E9363B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7648-8F3B-4D41-B55A-D558BF1E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C927C-2C36-46A4-9F8E-13E84084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915E1-4CAB-4B6E-9ECC-DFCC1873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137A9-7E35-4208-A809-7C613823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BA65E-FCB8-4CE8-A6D3-FBDC8E6D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B6FCF-2DF9-411E-BA87-274A950E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4040-B0DE-439A-A948-F24ADD59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0F11-87CD-4BD7-B131-AFBF0F04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9AA8-804F-41E7-BAE0-18ED7ABB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1C35-5B78-45B7-9CA1-C7B99FC6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AFBD-926C-4FA5-AA45-1538D363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FBFE-0341-4671-9587-D8988A54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7250-F96F-4461-8315-89B99973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CE53-08D2-4CE2-AF91-2FF5F580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47CE-5D45-4AF7-864D-50B91946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C243-1A5F-4D78-A9EE-6C0A3386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D60E-24FE-4D11-90CE-1F8570EF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EE76-8B28-4A0F-BBE3-BC8DD15B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614E-270D-4F5A-9DD4-464F0D55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0" y="817560"/>
            <a:ext cx="9144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1c1c34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5CDA-BE5C-4180-95F3-E5339CCFAB62}" type="slidenum">
              <a:rPr b="0" lang="cs-CZ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1c1c34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1c1c34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1c1c34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8B97-7578-4952-BA69-9A7F7A1BF5D9}" type="slidenum">
              <a:rPr b="0" lang="cs-CZ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187280" y="141300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66"/>
                </a:solidFill>
                <a:latin typeface="Candara"/>
              </a:rPr>
              <a:t>Nástin (možných) trendů české právní úpravy kolektivního investování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755640" y="393372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66"/>
                </a:solidFill>
                <a:latin typeface="Tahoma"/>
              </a:rPr>
              <a:t>Jan Š o v a 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66"/>
                </a:solidFill>
                <a:latin typeface="Tahoma"/>
              </a:rPr>
              <a:t>Kapitálový trh, Ministerstvo financí České republik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66"/>
                </a:solidFill>
                <a:latin typeface="Tahoma"/>
              </a:rPr>
              <a:t>Praha, 19. 5. 2011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000066"/>
                </a:solidFill>
                <a:latin typeface="Arial"/>
              </a:rPr>
              <a:t>Výhrada prezentace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Obsah zobrazený v této prezentaci, jakož i ústní projev ji dop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rovázející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, odráží výlučně individuální názory, hodnocení a přístup autora k dané problematice, jež se nemusí shodovat 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stávajícími či potenciálními 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názory, hodnoceními nebo přístupem Ministerstva financí ani nepředstavují jeho oficiální pozici.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000066"/>
                </a:solidFill>
                <a:latin typeface="Arial"/>
              </a:rPr>
              <a:t>Vybrané otázky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Přijetí podílových listů k obchodování na regulovaný trh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 „</a:t>
            </a: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Otevřený“ investiční fond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 „</a:t>
            </a: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Podfondy“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55640" y="2636640"/>
            <a:ext cx="79200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DĚKUJI ZA POZORNOST !</a:t>
            </a:r>
            <a:endParaRPr b="0" lang="en-US" sz="40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15:22:43Z</dcterms:created>
  <dc:creator/>
  <dc:description/>
  <dc:language>en-US</dc:language>
  <cp:lastModifiedBy>12885</cp:lastModifiedBy>
  <dcterms:modified xsi:type="dcterms:W3CDTF">2011-05-18T08:20:16Z</dcterms:modified>
  <cp:revision>185</cp:revision>
  <dc:subject/>
  <dc:title>PowerPoint Presentation</dc:title>
</cp:coreProperties>
</file>