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FA65-20EE-4B18-B018-087392F1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A77D-534C-44B8-9850-58D9C74D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78BF-794B-4B62-8B5F-32F4D77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072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7404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3400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5072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7404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C922-4E26-4907-84D7-E2272A99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A625-535C-4774-84C6-113F4820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1E75-1860-480A-9FA5-6EF5090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DF8B-7991-4658-BE74-2C3860B8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88EB-B573-4B17-8E1B-65BB555E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5BED-7DD4-4FE6-B1FA-72928A5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B4A2-B24C-433E-90D9-501DEF7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436-3D1C-4FA0-BB4C-500BB4D3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2E29-3E9F-46E9-BFDC-41782E5B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8AF9-5A79-4B35-9FCA-EB46E2D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2E32-8857-490D-9236-AC5A766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8C85-BE17-44EB-9301-81865DE5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105E-DF78-477A-8FEE-3489464E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0720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74040" y="403848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3400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0720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674040" y="4556160"/>
            <a:ext cx="20635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136B-4079-4001-961B-8514A241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6408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5C2D-5807-4C23-B660-BC616AF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AC2F-CCEA-4217-BE57-1ED8DCD5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72A2-470B-4208-B019-9BB7A2B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C03E-3F3F-4DFF-A322-301E6048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9F7E-6109-46FE-8C06-C0A468F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23920" y="455616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B309-3449-4220-B0D4-693D24A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4000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3920" y="4038480"/>
            <a:ext cx="31273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40000" y="4556160"/>
            <a:ext cx="640872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9B43-46BF-4669-A8DD-E4AB0D0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9640"/>
          </a:xfrm>
          <a:prstGeom prst="rect">
            <a:avLst/>
          </a:prstGeom>
          <a:solidFill>
            <a:srgbClr val="065b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338880"/>
            <a:ext cx="9140760" cy="546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617400"/>
            <a:ext cx="77929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2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5A9-963C-45A5-9C78-7B7A864FB58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37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580600" y="0"/>
            <a:ext cx="528480" cy="5270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" name="Rectangle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4"/>
          <a:srcRect l="0" t="4671" r="0" b="9766"/>
          <a:stretch/>
        </p:blipFill>
        <p:spPr>
          <a:xfrm>
            <a:off x="3240" y="6265800"/>
            <a:ext cx="9140760" cy="64764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4114800" y="6400800"/>
            <a:ext cx="863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9B8-6DD1-41D5-ADA7-23E3DA7F3C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8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76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778040"/>
          </a:xfrm>
          <a:prstGeom prst="rect">
            <a:avLst/>
          </a:prstGeom>
          <a:solidFill>
            <a:srgbClr val="055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5551" r="0" b="0"/>
          <a:stretch/>
        </p:blipFill>
        <p:spPr>
          <a:xfrm>
            <a:off x="415800" y="152280"/>
            <a:ext cx="5146920" cy="648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5106960"/>
            <a:ext cx="9144000" cy="177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82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0" y="5084280"/>
            <a:ext cx="5076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0C3-69B9-4905-BCB2-39A4EEC9A1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845320" y="52560"/>
            <a:ext cx="3263760" cy="1647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240" y="0"/>
            <a:ext cx="9140760" cy="40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0" y="4040280"/>
            <a:ext cx="9144000" cy="2970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2"/>
                </a:solidFill>
                <a:latin typeface="Times New Roman"/>
              </a:rPr>
              <a:t>Click to edit the outline text format</a:t>
            </a:r>
            <a:endParaRPr b="1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  <a:p>
            <a:pPr lvl="2" marL="914400" algn="ctr">
              <a:spcBef>
                <a:spcPts val="374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82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82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82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82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2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114800"/>
            <a:ext cx="830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82"/>
                </a:solidFill>
                <a:latin typeface="Garamond"/>
              </a:rPr>
              <a:t>Ako sa vysporiadať s novinkami rekodifikovaného slovenského zákona o kolektívnom investovaní?</a:t>
            </a:r>
            <a:endParaRPr b="0" lang="en-US" sz="22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4100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Ing. Tomáš Ambra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Národná banka Slovenska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Konferencia Next Steps in Asset Management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82"/>
                </a:solidFill>
                <a:latin typeface="Times New Roman"/>
              </a:rPr>
              <a:t>Praha, 19. mája 2011 </a:t>
            </a:r>
            <a:endParaRPr b="0" lang="en-US" sz="1800" spc="-1" strike="noStrike">
              <a:solidFill>
                <a:srgbClr val="00008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Úlohy NBS po účinnosti zákona I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Nové inštitúty v non-UCITS oblasti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Prispôsobenie výkonu dohľadu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82"/>
                </a:solidFill>
                <a:latin typeface="Times New Roman"/>
              </a:rPr>
              <a:t>Správa realitných fondov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82"/>
                </a:solidFill>
                <a:latin typeface="Times New Roman"/>
              </a:rPr>
              <a:t>Správa fondov alternatívnych investícií 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82"/>
                </a:solidFill>
                <a:latin typeface="Times New Roman"/>
              </a:rPr>
              <a:t>Správa fondov profesionálnych investorov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Úprava výkazníctva – zaviesť efektívny off-site dohľad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438280" y="5333760"/>
            <a:ext cx="640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2"/>
                </a:solidFill>
                <a:latin typeface="Times New Roman"/>
              </a:rPr>
              <a:t>Ing. Tomáš Ambra</a:t>
            </a:r>
            <a:endParaRPr b="1" lang="en-US" sz="1300" spc="-1" strike="noStrike">
              <a:solidFill>
                <a:srgbClr val="000082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2"/>
                </a:solidFill>
                <a:latin typeface="Times New Roman"/>
              </a:rPr>
              <a:t>Odbor regulácie a finančných analýz</a:t>
            </a:r>
            <a:endParaRPr b="1" lang="en-US" sz="1300" spc="-1" strike="noStrike">
              <a:solidFill>
                <a:srgbClr val="000082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2"/>
                </a:solidFill>
                <a:latin typeface="Times New Roman"/>
              </a:rPr>
              <a:t>Národná banka Slovenska</a:t>
            </a:r>
            <a:endParaRPr b="1" lang="en-US" sz="1300" spc="-1" strike="noStrike">
              <a:solidFill>
                <a:srgbClr val="000082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2"/>
                </a:solidFill>
                <a:latin typeface="Times New Roman"/>
              </a:rPr>
              <a:t>Ďakujem za pozornosť</a:t>
            </a:r>
            <a:endParaRPr b="0" lang="en-US" sz="26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320"/>
            <a:ext cx="9144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Návrh </a:t>
            </a: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KI – súčasný stav legislatívneho procesu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V súčasnosti o návrhu zákona rokuje NR SR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Návrh bol 11. mája 2011 prerokovaný v príslušných výboroch NR SR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Pozmeňovacie návrhy k splnomocňovacím a prechodným ustanoveniam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Účinnosť zákona sa predpokladá od 1. júla 2011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320"/>
            <a:ext cx="9144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Vykonávacie predpisy k ZKI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53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Proces tvorby sekundárnej legislatívy NBS sa začal už po predložení návrhu zákona do NR SR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Je zámerom NBS, aby hlavné vykonávacie predpisy boli účinné od 1. júla 2011 alebo v blízkom termíne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Vydanie niektorých ďalších bude nasledovať počas 2. polroka 2011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Zmeny vo výkazníctve sa predpokladajú od začiatku roku 2012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Všeobecná lehota na plné zosúladenie s novou právnou úpravou je do 30. júna 2012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Povinnosti ekvivalentné súčasne platnej právnej úprave je nutné dodržiavať okamžite po účinnosti zákona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Fondy peňažného trhu – výnimka zo všeobecnej lehoty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Termín na zosúladenie pre existujúce fondy – 31. decembra 2011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Novovytvorené fondy budú podliehať novým pravidlám okamžite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Organizácia, vnútorné riadiace a výkonné procesy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Organizačná štruktúra a pravidlá činnosti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Risk management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osobitné opatrenie NBS a metodická podpora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Outsourcing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I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Depozitár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Úprava zmluvného vzťahu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Depozitárska úschova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Kontrolné činnosti depozitára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Zosúladenie činnosti správcovských spoločností IV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47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Správa existujúcich fondov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Zosúladenie štatútov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osobitné opatrenie NBS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Prechod na KID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špeciálny metodický materiál – usmernenie NBS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Fondy peňažného trhu 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aplikácia guidelines CESR prostredníctvom opatrenia NBS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Nové inštitúty a produkty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682560"/>
            <a:ext cx="8659800" cy="56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Podfondy a „tranže“ podielových listov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Výpočet hodnoty podielu v rámci „tranže“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Účtovníctvo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Non-UCITS fondy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Oceňovanie nehnuteľností, realitných spoločností a majetkových podielov v obchodných spoločnostiach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Špeciálne podielové fondy profesionálnych investorov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82"/>
                </a:solidFill>
                <a:latin typeface="Times New Roman"/>
              </a:rPr>
              <a:t>Notifikácie cezhraničného predaja fondov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82"/>
                </a:solidFill>
                <a:latin typeface="Times New Roman"/>
              </a:rPr>
              <a:t>Zavedenie elektronickej notifikačnej procedúry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52280" y="76320"/>
            <a:ext cx="94485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Times New Roman"/>
              </a:rPr>
              <a:t>Úlohy NBS po účinnosti zákona I.</a:t>
            </a:r>
            <a:endParaRPr b="0" lang="en-US" sz="2600" spc="-1" strike="noStrike">
              <a:solidFill>
                <a:srgbClr val="000082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682200"/>
            <a:ext cx="8659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5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Times New Roman"/>
              </a:rPr>
              <a:t>Nové cezhraničné inštitúty</a:t>
            </a:r>
            <a:endParaRPr b="0" lang="en-US" sz="28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Management Company Passport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Cezhraničné zlúčenia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50"/>
              </a:buClr>
              <a:buSzPct val="5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„</a:t>
            </a:r>
            <a:r>
              <a:rPr b="0" lang="en-US" sz="2200" spc="-1" strike="noStrike">
                <a:solidFill>
                  <a:srgbClr val="000082"/>
                </a:solidFill>
                <a:latin typeface="Times New Roman"/>
              </a:rPr>
              <a:t>Master-feeder“ štruktúry</a:t>
            </a: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Úprava licenčných procesov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5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2"/>
                </a:solidFill>
                <a:latin typeface="Times New Roman"/>
              </a:rPr>
              <a:t>Efektívna cezhraničná spolupráca pri výkone dohľadu</a:t>
            </a: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2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16T15:45:34Z</dcterms:modified>
  <cp:revision>4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