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234-F3E6-4C3E-BCEA-3585F187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CC2-3CC0-4D37-AFB9-B52FE6D8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0A9-A11C-47E7-9F26-FA455AAA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187-8634-483D-BBDE-66A0C92E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722-DE9C-41A4-94F6-7AA4F49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9E1-2118-4153-9F3D-CEE6AA40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A23-3EA6-4F7B-8AFA-549055D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ED5-E531-4772-8B74-1A3C2337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B4D-A0F6-42F4-AF7B-88FF61B3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660-495D-434A-97F3-8A511E8F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E3A-7CFB-4D20-96C3-63D7430C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BFD-19EE-4C5D-B16D-E4F047CA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C13F-7D9A-43F7-AFEF-42A9E0CBCDB9}" type="slidenum">
              <a:rPr b="0" lang="en-US" sz="1400" spc="-1" strike="noStrike">
                <a:solidFill>
                  <a:srgbClr val="0732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9840" y="51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ffffff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Next Steps in Asset Masnagemen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160" y="2133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roduktové výzvy v podielových fondoch 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o veľkom tresku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Peter Jánošov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atra Asset Management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edúci odd. produkt manažment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1B8A-B426-4147-8A3C-72A37C25373C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Ako nám pomôžu strešné fondy?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395280" y="227664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Euro  peňažn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395280" y="263700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Private euro peňažn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395280" y="3573360"/>
            <a:ext cx="216072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Euro  dlhopisový PLUS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ounded Rectangle 10"/>
          <p:cNvSpPr/>
          <p:nvPr/>
        </p:nvSpPr>
        <p:spPr>
          <a:xfrm>
            <a:off x="395280" y="465300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Zaistený fond I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Rounded Rectangle 11"/>
          <p:cNvSpPr/>
          <p:nvPr/>
        </p:nvSpPr>
        <p:spPr>
          <a:xfrm>
            <a:off x="395280" y="501336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Zaistený fond II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>
            <a:off x="395280" y="537372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Zaistený fond III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>
            <a:off x="395280" y="573264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Zaistený fond IV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>
            <a:off x="3203640" y="227664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Conservative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Rounded Rectangle 15"/>
          <p:cNvSpPr/>
          <p:nvPr/>
        </p:nvSpPr>
        <p:spPr>
          <a:xfrm>
            <a:off x="3203640" y="2637000"/>
            <a:ext cx="2025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Harmonic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3203640" y="299736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Strategic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Rounded Rectangle 17"/>
          <p:cNvSpPr/>
          <p:nvPr/>
        </p:nvSpPr>
        <p:spPr>
          <a:xfrm>
            <a:off x="6156360" y="4365720"/>
            <a:ext cx="20239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Smart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ounded Rectangle 19"/>
          <p:cNvSpPr/>
          <p:nvPr/>
        </p:nvSpPr>
        <p:spPr>
          <a:xfrm>
            <a:off x="395280" y="6093000"/>
            <a:ext cx="216072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Spoločensky zodpovedn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ounded Rectangle 20"/>
          <p:cNvSpPr/>
          <p:nvPr/>
        </p:nvSpPr>
        <p:spPr>
          <a:xfrm>
            <a:off x="3203640" y="335772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Private V1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ounded Rectangle 21"/>
          <p:cNvSpPr/>
          <p:nvPr/>
        </p:nvSpPr>
        <p:spPr>
          <a:xfrm>
            <a:off x="3203640" y="3716280"/>
            <a:ext cx="201600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Private V2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Rounded Rectangle 22"/>
          <p:cNvSpPr/>
          <p:nvPr/>
        </p:nvSpPr>
        <p:spPr>
          <a:xfrm>
            <a:off x="3203640" y="4076640"/>
            <a:ext cx="201600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Private V3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ounded Rectangle 23"/>
          <p:cNvSpPr/>
          <p:nvPr/>
        </p:nvSpPr>
        <p:spPr>
          <a:xfrm>
            <a:off x="6156360" y="4724280"/>
            <a:ext cx="2014560" cy="362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MarketNeutral Fu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Rounded Rectangle 24"/>
          <p:cNvSpPr/>
          <p:nvPr/>
        </p:nvSpPr>
        <p:spPr>
          <a:xfrm>
            <a:off x="6156360" y="227664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Európsky akciov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ounded Rectangle 25"/>
          <p:cNvSpPr/>
          <p:nvPr/>
        </p:nvSpPr>
        <p:spPr>
          <a:xfrm>
            <a:off x="6156360" y="2637000"/>
            <a:ext cx="201600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Americký akciov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ounded Rectangle 26"/>
          <p:cNvSpPr/>
          <p:nvPr/>
        </p:nvSpPr>
        <p:spPr>
          <a:xfrm>
            <a:off x="6156360" y="2997360"/>
            <a:ext cx="2014560" cy="361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Stredoeurópsky akciov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ounded Rectangle 27"/>
          <p:cNvSpPr/>
          <p:nvPr/>
        </p:nvSpPr>
        <p:spPr>
          <a:xfrm>
            <a:off x="6156360" y="6021360"/>
            <a:ext cx="201600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2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3366"/>
                </a:solidFill>
                <a:latin typeface="Arial"/>
              </a:rPr>
              <a:t>Realitný Fond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ounded Rectangle 28"/>
          <p:cNvSpPr/>
          <p:nvPr/>
        </p:nvSpPr>
        <p:spPr>
          <a:xfrm>
            <a:off x="250920" y="2133720"/>
            <a:ext cx="2449440" cy="934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ounded Rectangle 29"/>
          <p:cNvSpPr/>
          <p:nvPr/>
        </p:nvSpPr>
        <p:spPr>
          <a:xfrm>
            <a:off x="250920" y="4508640"/>
            <a:ext cx="2449440" cy="20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ounded Rectangle 30"/>
          <p:cNvSpPr/>
          <p:nvPr/>
        </p:nvSpPr>
        <p:spPr>
          <a:xfrm>
            <a:off x="2987640" y="2133720"/>
            <a:ext cx="2448000" cy="24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ounded Rectangle 31"/>
          <p:cNvSpPr/>
          <p:nvPr/>
        </p:nvSpPr>
        <p:spPr>
          <a:xfrm>
            <a:off x="5940360" y="2133720"/>
            <a:ext cx="2448000" cy="1295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ounded Rectangle 32"/>
          <p:cNvSpPr/>
          <p:nvPr/>
        </p:nvSpPr>
        <p:spPr>
          <a:xfrm>
            <a:off x="6084720" y="4221000"/>
            <a:ext cx="215928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539640" y="4149720"/>
            <a:ext cx="201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Zaisten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324000" y="3141720"/>
            <a:ext cx="2376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Dlhopisov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68360" y="1773360"/>
            <a:ext cx="2016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Peňažn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3276720" y="1773360"/>
            <a:ext cx="2016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Fondy fondo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6156360" y="1773360"/>
            <a:ext cx="2016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Akciov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6227640" y="3860640"/>
            <a:ext cx="18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Aktívne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6084720" y="5589720"/>
            <a:ext cx="2232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2060"/>
                </a:solidFill>
                <a:latin typeface="Arial"/>
              </a:rPr>
              <a:t>Špeciálne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5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1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3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6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8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5318-B7E0-4660-9112-3158B610621B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Aký prínos majú emisie?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odstránenie duplicity PF 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jednoduhšia obsluha segment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efektívnejšia správa PF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rovnoprávnenie so zahraničnými PF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variabilná poplatková štruktúra podľa potrieb klienta 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väčšia produktová variabilita pre klienta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Majú NON-UCITS štruktúry budúcnosť?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Uzatvorené podielové fondy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evytvorené podmienky pre existenciu napr. Infraštruktúrnych fond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Verejné špeciálne podielové fondy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rušenie obmedzenia počtu podielnik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rušenie výšky minimálnej investície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zrušenie určitej doby existencie 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rozšírenie limitov 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nerozšírenie ochrany likvidity špeciálnych podielových fondov nehnuteľností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Špeciálny podielový fond profesionálnych investorov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individualizované stratégie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0F25-F96B-48C1-8527-2E3BC8C1FAEE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Čo nás teší a čo nás trápi?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+  Určenie maximálnych správcovských a depozitárskych poplatkov v štatúte podielových fondov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+  Vypustenie taxatívneho vymedzenia výplaty výnosov z podielových listov a jeho špecifikovanie v štatúte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+  Možnosť ponechania výstupného a transférového poplatku v majetku podielového fondu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+  Nahradenie Zjednodušeného predajného prospektu 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Zachovanie Predajného prospeku 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73260"/>
                </a:solidFill>
                <a:latin typeface="Arial"/>
              </a:rPr>
              <a:t>Likvidácia peňažných fondov 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5AD2-E08E-4D76-9170-EF9F0203B6F8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3284640"/>
            <a:ext cx="77724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73260"/>
                </a:solidFill>
                <a:latin typeface="Arial"/>
              </a:rPr>
              <a:t>Ďakujem za pozornosť</a:t>
            </a:r>
            <a:endParaRPr b="0" lang="en-US" sz="4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E12C-1CE8-4BE1-BC2C-06A24DA9D0A7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1:47:43Z</dcterms:created>
  <dc:creator>Peter Janosov (TB20857)</dc:creator>
  <dc:description/>
  <dc:language>en-US</dc:language>
  <cp:lastModifiedBy>Peter Janosov (TB20857)</cp:lastModifiedBy>
  <dcterms:modified xsi:type="dcterms:W3CDTF">2011-05-17T16:46:33Z</dcterms:modified>
  <cp:revision>32</cp:revision>
  <dc:subject/>
  <dc:title>Next Steps in Asset Masnagement</dc:title>
</cp:coreProperties>
</file>