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84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3774600" y="-360"/>
            <a:ext cx="286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901800" y="766440"/>
            <a:ext cx="491328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906480" y="4681080"/>
            <a:ext cx="4906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8"/>
          </p:nvPr>
        </p:nvSpPr>
        <p:spPr>
          <a:xfrm>
            <a:off x="0" y="9438840"/>
            <a:ext cx="28684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9"/>
          </p:nvPr>
        </p:nvSpPr>
        <p:spPr>
          <a:xfrm>
            <a:off x="3774600" y="9438840"/>
            <a:ext cx="2868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8C06-516F-4881-9B3E-4FB7AB097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74960" y="9439200"/>
            <a:ext cx="2868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938B-DFB3-4D22-A661-7C2108FF7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0279-44DA-4DBB-8A5D-2A255B6A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1655-C10A-498E-AEA4-98D885A8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CCC3-E4A5-43E8-BB98-DE1BADDE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4DE9-6AFF-4D98-849C-FB02F432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E54E-5656-4E71-BB67-7E05CF0B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C4ED-B357-483D-9D39-A9EDBE97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702D-F34B-488C-8D25-B6411DFF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82542-76C0-4FAE-A811-06880520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4201-7DC5-4646-8710-81F6F636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C2AC-98D5-4F82-B41F-6BFD4BB6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46B2-F03E-4239-9A53-D7344B14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2E97-6A4E-45B7-9359-07A4216E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72D2-991C-4DED-98C0-5E54883D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1D78-35B3-4EF8-9A63-8B9D98F9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9139-7322-42A8-97B2-CA51CD46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83FB-A98F-4AC8-B6EA-3D3C3D43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B4A9-2293-4889-AF59-5FB8E9C4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615C-DA45-4703-AB20-0CF5A79C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41B0-45C6-4B4A-9FB1-8C8AF996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C139-6447-4957-B78B-5B0908BE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122C-5765-4CF3-ADCE-D2A79C0D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96AE-030C-4FC1-863D-BFF9FCD9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FE90-84F1-4954-AA2B-AE7D112C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99C8-C6A0-4A7E-87BF-3712A780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8dba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0" y="817560"/>
            <a:ext cx="9144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28480" y="23922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426E-EF8E-41B5-8121-A2D4C5373ABF}" type="slidenum">
              <a:rPr b="0" lang="cs-CZ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1c1c3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6382-2163-4E80-BDB7-AD99B91C4181}" type="slidenum">
              <a:rPr b="0" lang="cs-CZ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187280" y="141300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66"/>
                </a:solidFill>
                <a:latin typeface="Candara"/>
              </a:rPr>
              <a:t>Nástin (možných) trendů české právní úpravy kolektivního investování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55640" y="393372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66"/>
                </a:solidFill>
                <a:latin typeface="Tahoma"/>
              </a:rPr>
              <a:t>Jan Š o v a 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66"/>
                </a:solidFill>
                <a:latin typeface="Tahoma"/>
              </a:rPr>
              <a:t>Kapitálový trh, Ministerstvo financí České republik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66"/>
                </a:solidFill>
                <a:latin typeface="Tahoma"/>
              </a:rPr>
              <a:t>Praha, 19. 5. 2011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000066"/>
                </a:solidFill>
                <a:latin typeface="Arial"/>
              </a:rPr>
              <a:t>Výhrada prezentac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Obsah zobrazený v této prezentaci, jakož i ústní projev ji dop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rovázející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, odráží výlučně individuální názory, hodnocení a přístup autora k dané problematice, jež se nemusí shodovat 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stávajícími či potenciálními </a:t>
            </a:r>
            <a:r>
              <a:rPr b="0" i="1" lang="cs-CZ" sz="2800" spc="-1" strike="noStrike">
                <a:solidFill>
                  <a:srgbClr val="1c1c34"/>
                </a:solidFill>
                <a:latin typeface="Arial"/>
              </a:rPr>
              <a:t>názory, hodnoceními nebo přístupem Ministerstva financí ani nepředstavují jeho oficiální pozici.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000066"/>
                </a:solidFill>
                <a:latin typeface="Arial"/>
              </a:rPr>
              <a:t>Vybrané otázky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Přijetí podílových listů k obchodování na regulovaný trh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 „</a:t>
            </a: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Otevřený“ investiční fond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 „</a:t>
            </a:r>
            <a:r>
              <a:rPr b="0" lang="cs-CZ" sz="2800" spc="-1" strike="noStrike">
                <a:solidFill>
                  <a:srgbClr val="1c1c34"/>
                </a:solidFill>
                <a:latin typeface="Arial"/>
              </a:rPr>
              <a:t>Podfondy“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55640" y="2636640"/>
            <a:ext cx="79200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DĚKUJI ZA POZORNOST !</a:t>
            </a:r>
            <a:endParaRPr b="0" lang="en-US" sz="4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5:22:43Z</dcterms:created>
  <dc:creator/>
  <dc:description/>
  <dc:language>en-US</dc:language>
  <cp:lastModifiedBy>12885</cp:lastModifiedBy>
  <dcterms:modified xsi:type="dcterms:W3CDTF">2011-05-18T08:20:16Z</dcterms:modified>
  <cp:revision>185</cp:revision>
  <dc:subject/>
  <dc:title>PowerPoint Presentation</dc:title>
</cp:coreProperties>
</file>