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18.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048683-4C0D-4F29-9FEC-E5FA81785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0C6EF6-5ABF-4FE1-8BB7-1ABFFC138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364C45-75F6-4696-9F12-52F03C48D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BEDAEA-D8AA-44E1-B370-6E4FCA0ACF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64489-C318-4313-82F9-685711C2E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F3FC3-F249-47F8-94A9-21BFF3FEF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E8135-B57A-4779-B7B1-A41B76B88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4E9C5-AE33-4E69-B94A-4F1A986E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2A954-8DA6-4BB5-9002-5BDCD15A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156CF-3E18-4533-8DBE-1A8713ED7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0AD2F-E31E-40C4-AEE2-D63420FF3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D37AEB-4979-42FA-A771-8D296846D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49BE3-11A6-4802-AEDD-F0F9601BE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C97A3-4F88-4D50-A199-A5B52D3AA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937F4-67E0-4BE0-B8E0-77DF8F80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98882-23C9-489E-97D5-EB8004C15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6A7B8-8F0D-4CD4-834C-9208897C3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F7155-0DAE-480C-8339-4628C82D8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8EC028-3F07-421E-AC5D-9DA4F03FD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1BC6F0-24A9-4476-AF5C-9524F250A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9C37C-F30F-49A6-9364-669873851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F7B33-87B5-4A21-93FC-FA054941C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8307E-4237-4793-A9BD-C0BE92D87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9AC81-5E5A-4FA2-9B55-1DF2C319F8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EB3D-F7B2-4B82-A0F7-2B5180BD98BE}" type="slidenum">
              <a:rPr b="0" lang="cs-CZ"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3F7B-F4BD-4182-A1EF-3A3F1ABCED04}" type="slidenum">
              <a:rPr b="0" lang="cs-CZ"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z/imgres?imgurl=http://media.merchantcircle.com/25917922/gavel-and-paragraph-symbol_full.jpeg&amp;imgrefurl=http://www.merchantcircle.com/business/Global.Data.Finder.LLC.512-377-9562/picture/view/1719405&amp;usg=__ssCRuoyGxPDoxhYICJpnxEebeO4=&amp;h=768&amp;w=693&amp;sz=34&amp;hl=cs&amp;start=4&amp;zoom=1&amp;tbnid=1Q-Y3Z4ETZKfRM:&amp;tbnh=142&amp;tbnw=128&amp;ei=X-LLTZuVGoqO8gO7kYShBA&amp;prev=/images%3Fq%3Dparagraph%2Bpicture%26hl%3Dcs%26sa%3DN%26tbm%3Disch&amp;itbs=1" TargetMode="External"/><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http://i.ehow.com/images/a06/bt/71/zebra-crossing-law-800X800.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apivosrozumem.cz/" TargetMode="External"/><Relationship Id="rId2" Type="http://schemas.openxmlformats.org/officeDocument/2006/relationships/hyperlink" Target="http://www.napivosrozumem.cz/" TargetMode="External"/><Relationship Id="rId3" Type="http://schemas.openxmlformats.org/officeDocument/2006/relationships/hyperlink" Target="http://www.napivosrozumem.cz/"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305920" cy="487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ej investičních produktů </a:t>
            </a:r>
            <a:br>
              <a:rPr sz="4400"/>
            </a:br>
            <a:br>
              <a:rPr sz="4400"/>
            </a:br>
            <a:r>
              <a:rPr b="0" lang="en-US" sz="4400" spc="-1" strike="noStrike">
                <a:solidFill>
                  <a:srgbClr val="000000"/>
                </a:solidFill>
                <a:latin typeface="Arial"/>
              </a:rPr>
              <a:t>a (evropská) regulace</a:t>
            </a:r>
            <a:br>
              <a:rPr sz="4400"/>
            </a:br>
            <a:endParaRPr b="0" lang="en-US" sz="4400" spc="-1" strike="noStrike">
              <a:solidFill>
                <a:srgbClr val="000000"/>
              </a:solidFill>
              <a:latin typeface="Arial"/>
            </a:endParaRPr>
          </a:p>
        </p:txBody>
      </p:sp>
      <p:pic>
        <p:nvPicPr>
          <p:cNvPr id="106" name="" descr="">
            <a:hlinkClick r:id="rId1"/>
          </p:cNvPr>
          <p:cNvPicPr/>
          <p:nvPr/>
        </p:nvPicPr>
        <p:blipFill>
          <a:blip r:embed="rId2"/>
          <a:stretch/>
        </p:blipFill>
        <p:spPr>
          <a:xfrm>
            <a:off x="6172200" y="3048120"/>
            <a:ext cx="259092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jsme v tom sami</a:t>
            </a:r>
            <a:r>
              <a:rPr b="0" lang="en-US" sz="2400" spc="-1" strike="noStrike">
                <a:solidFill>
                  <a:srgbClr val="000000"/>
                </a:solidFill>
                <a:latin typeface="Arial"/>
              </a:rPr>
              <a:t> (</a:t>
            </a:r>
            <a:r>
              <a:rPr b="0" i="1" lang="en-US" sz="2400" spc="-1" strike="noStrike">
                <a:solidFill>
                  <a:srgbClr val="000000"/>
                </a:solidFill>
                <a:latin typeface="Arial"/>
              </a:rPr>
              <a:t>Zákon č. 361/2000 Sb. o provozu na pozemních komunikacích (ve znění pozdějších předpisů)</a:t>
            </a:r>
            <a:endParaRPr b="0" lang="en-US" sz="2400" spc="-1" strike="noStrike">
              <a:solidFill>
                <a:srgbClr val="000000"/>
              </a:solidFill>
              <a:latin typeface="Arial"/>
            </a:endParaRPr>
          </a:p>
        </p:txBody>
      </p:sp>
      <p:sp>
        <p:nvSpPr>
          <p:cNvPr id="136" name="PlaceHolder 2"/>
          <p:cNvSpPr>
            <a:spLocks noGrp="1"/>
          </p:cNvSpPr>
          <p:nvPr>
            <p:ph/>
          </p:nvPr>
        </p:nvSpPr>
        <p:spPr>
          <a:xfrm>
            <a:off x="457200" y="1980720"/>
            <a:ext cx="8229600" cy="2514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dst. 1h): Řidič kromě řidiče tramvaje je povinen umožnit chodci, který je na přechodu pro chodce nebo jej </a:t>
            </a:r>
            <a:r>
              <a:rPr b="1" lang="en-US" sz="2000" spc="-1" strike="noStrike">
                <a:solidFill>
                  <a:srgbClr val="000000"/>
                </a:solidFill>
                <a:latin typeface="Arial"/>
              </a:rPr>
              <a:t>zřejmě hodlá použít</a:t>
            </a:r>
            <a:r>
              <a:rPr b="0" lang="en-US" sz="2000" spc="-1" strike="noStrike">
                <a:solidFill>
                  <a:srgbClr val="000000"/>
                </a:solidFill>
                <a:latin typeface="Arial"/>
              </a:rPr>
              <a:t>, nerušené a bezpečné přejití vozovky; proto se musí řidič takového vozidla přibližovat k přechodu pro chodce takovou rychlostí, aby mohl zastavit vozidlo před přechodem pro chodce, a pokud je to nutné, je povinen před přechodem pro chodce zastavit vozidl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dec nesmí vstupovat na přechod pro chodce nebo na vozovku </a:t>
            </a:r>
            <a:r>
              <a:rPr b="1" lang="en-US" sz="2000" spc="-1" strike="noStrike">
                <a:solidFill>
                  <a:srgbClr val="000000"/>
                </a:solidFill>
                <a:latin typeface="Arial"/>
              </a:rPr>
              <a:t>bezprostředně </a:t>
            </a:r>
            <a:r>
              <a:rPr b="0" lang="en-US" sz="2000" spc="-1" strike="noStrike">
                <a:solidFill>
                  <a:srgbClr val="000000"/>
                </a:solidFill>
                <a:latin typeface="Arial"/>
              </a:rPr>
              <a:t>před blížícím se vozidlem. Chodec musí dát přednost tramvaji.</a:t>
            </a:r>
            <a:endParaRPr b="0" lang="en-US" sz="2000" spc="-1" strike="noStrike">
              <a:solidFill>
                <a:srgbClr val="000000"/>
              </a:solidFill>
              <a:latin typeface="Arial"/>
            </a:endParaRPr>
          </a:p>
        </p:txBody>
      </p:sp>
      <p:pic>
        <p:nvPicPr>
          <p:cNvPr id="137" name="" descr="Zebra Crossing Lawthumbnail">
            <a:hlinkClick r:id="rId1"/>
          </p:cNvPr>
          <p:cNvPicPr/>
          <p:nvPr/>
        </p:nvPicPr>
        <p:blipFill>
          <a:blip r:embed="rId2"/>
          <a:stretch/>
        </p:blipFill>
        <p:spPr>
          <a:xfrm>
            <a:off x="609480" y="4572000"/>
            <a:ext cx="8077320" cy="209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jsme v tom sami – příklad z USA (aplikace zákona o zacházení s osobními daty).</a:t>
            </a:r>
            <a:endParaRPr b="0" lang="en-US" sz="3100" spc="-1" strike="noStrike">
              <a:solidFill>
                <a:srgbClr val="000000"/>
              </a:solidFill>
              <a:latin typeface="Arial"/>
            </a:endParaRPr>
          </a:p>
        </p:txBody>
      </p:sp>
      <p:sp>
        <p:nvSpPr>
          <p:cNvPr id="139" name="PlaceHolder 2"/>
          <p:cNvSpPr>
            <a:spLocks noGrp="1"/>
          </p:cNvSpPr>
          <p:nvPr>
            <p:ph/>
          </p:nvPr>
        </p:nvSpPr>
        <p:spPr>
          <a:xfrm>
            <a:off x="457200" y="2209680"/>
            <a:ext cx="457200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e collect your personal information, for example when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pen an account or deposit mone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irect us to buy securities or direct us to sell securiti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e also collect your personal information from others, such as credit bureaus, affiliates or other companies</a:t>
            </a:r>
            <a:endParaRPr b="0" lang="en-US" sz="2000" spc="-1" strike="noStrike">
              <a:solidFill>
                <a:srgbClr val="000000"/>
              </a:solidFill>
              <a:latin typeface="Arial"/>
            </a:endParaRPr>
          </a:p>
        </p:txBody>
      </p:sp>
      <p:pic>
        <p:nvPicPr>
          <p:cNvPr id="140" name="" descr=""/>
          <p:cNvPicPr/>
          <p:nvPr/>
        </p:nvPicPr>
        <p:blipFill>
          <a:blip r:embed="rId1"/>
          <a:stretch/>
        </p:blipFill>
        <p:spPr>
          <a:xfrm>
            <a:off x="5257800" y="2133720"/>
            <a:ext cx="3381480" cy="28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kde je kli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152280" y="4419720"/>
            <a:ext cx="8382240" cy="1371600"/>
          </a:xfrm>
          <a:prstGeom prst="rect">
            <a:avLst/>
          </a:prstGeom>
          <a:noFill/>
          <a:ln w="0">
            <a:noFill/>
          </a:ln>
        </p:spPr>
        <p:txBody>
          <a:bodyPr lIns="90000" rIns="90000" tIns="46800" bIns="46800" anchor="t">
            <a:normAutofit fontScale="92000"/>
          </a:bodyPr>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lik klientů si před zavedením nové legislativy oprávněně stěžovalo? O kolik více než dnes? Chtějí klienti vyplňovat dotazníky, poslouchat o rizicích, číst kolik procent činí jaká provize, být zahlceni kompletními informacemi o možnosti zajištění proti riziku? Chtějí to všechno v papírové podobě? Jsou ochotni za všechny ty papíry zaplatit?  Dokáží posoudit, kdy poskytovatel postupoval s odbornou péčí a kdy ne (i se špatnou investicí je možno nakonec vydělat a obráceně).</a:t>
            </a:r>
            <a:endParaRPr b="0" lang="en-US" sz="1800" spc="-1" strike="noStrike">
              <a:solidFill>
                <a:srgbClr val="000000"/>
              </a:solidFill>
              <a:latin typeface="Arial"/>
            </a:endParaRPr>
          </a:p>
        </p:txBody>
      </p:sp>
      <p:pic>
        <p:nvPicPr>
          <p:cNvPr id="143" name="" descr=""/>
          <p:cNvPicPr/>
          <p:nvPr/>
        </p:nvPicPr>
        <p:blipFill>
          <a:blip r:embed="rId1"/>
          <a:stretch/>
        </p:blipFill>
        <p:spPr>
          <a:xfrm>
            <a:off x="533520" y="1676520"/>
            <a:ext cx="7924680" cy="236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zdáme t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5486400" y="1980720"/>
            <a:ext cx="32004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se domníváme, že naše podnikání má smys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chceme klientům dodávat přidanou hodnot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ále si myslíme, že to umím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hceme, aby nám klienti utíkali do Mexika nebo Asi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říme v budoucnost a prosperitu</a:t>
            </a:r>
            <a:endParaRPr b="0" lang="en-US" sz="2000" spc="-1" strike="noStrike">
              <a:solidFill>
                <a:srgbClr val="000000"/>
              </a:solidFill>
              <a:latin typeface="Arial"/>
            </a:endParaRPr>
          </a:p>
        </p:txBody>
      </p:sp>
      <p:pic>
        <p:nvPicPr>
          <p:cNvPr id="146" name="" descr=""/>
          <p:cNvPicPr/>
          <p:nvPr/>
        </p:nvPicPr>
        <p:blipFill>
          <a:blip r:embed="rId1"/>
          <a:stretch/>
        </p:blipFill>
        <p:spPr>
          <a:xfrm>
            <a:off x="457200" y="1981080"/>
            <a:ext cx="4762440" cy="339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85840" y="457200"/>
            <a:ext cx="4800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 s tím (parafráze)</a:t>
            </a:r>
            <a:endParaRPr b="0" lang="en-US" sz="4000" spc="-1" strike="noStrike">
              <a:solidFill>
                <a:srgbClr val="000000"/>
              </a:solidFill>
              <a:latin typeface="Arial"/>
            </a:endParaRPr>
          </a:p>
        </p:txBody>
      </p:sp>
      <p:sp>
        <p:nvSpPr>
          <p:cNvPr id="148" name="PlaceHolder 2"/>
          <p:cNvSpPr>
            <a:spLocks noGrp="1"/>
          </p:cNvSpPr>
          <p:nvPr>
            <p:ph/>
          </p:nvPr>
        </p:nvSpPr>
        <p:spPr>
          <a:xfrm>
            <a:off x="4495680" y="1980720"/>
            <a:ext cx="419112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 pivo a na zákony s rozumem. </a:t>
            </a:r>
            <a:r>
              <a:rPr b="0" lang="cs-CZ" sz="2400" spc="-1" strike="noStrike" u="sng">
                <a:solidFill>
                  <a:srgbClr val="666699"/>
                </a:solidFill>
                <a:uFillTx/>
                <a:latin typeface="Arial"/>
                <a:hlinkClick r:id="rId1"/>
              </a:rPr>
              <a:t>www.</a:t>
            </a:r>
            <a:r>
              <a:rPr b="0" lang="cs-CZ" sz="2400" spc="-1" strike="noStrike" u="sng">
                <a:solidFill>
                  <a:srgbClr val="666699"/>
                </a:solidFill>
                <a:uFillTx/>
                <a:latin typeface="Arial"/>
                <a:hlinkClick r:id="rId2"/>
              </a:rPr>
              <a:t>napivosrozumem</a:t>
            </a:r>
            <a:r>
              <a:rPr b="0" lang="cs-CZ" sz="2400" spc="-1" strike="noStrike" u="sng">
                <a:solidFill>
                  <a:srgbClr val="666699"/>
                </a:solidFill>
                <a:uFillTx/>
                <a:latin typeface="Arial"/>
                <a:hlinkClick r:id="rId3"/>
              </a:rPr>
              <a:t>.cz</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kud nestačí, tak se selským rozumem. </a:t>
            </a:r>
            <a:endParaRPr b="0" lang="en-US" sz="3200" spc="-1" strike="noStrike">
              <a:solidFill>
                <a:srgbClr val="000000"/>
              </a:solidFill>
              <a:latin typeface="Arial"/>
            </a:endParaRPr>
          </a:p>
        </p:txBody>
      </p:sp>
      <p:pic>
        <p:nvPicPr>
          <p:cNvPr id="149" name="" descr=""/>
          <p:cNvPicPr/>
          <p:nvPr/>
        </p:nvPicPr>
        <p:blipFill>
          <a:blip r:embed="rId4"/>
          <a:stretch/>
        </p:blipFill>
        <p:spPr>
          <a:xfrm>
            <a:off x="155520" y="46080"/>
            <a:ext cx="3753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ěkuji za pozornost</a:t>
            </a:r>
            <a:endParaRPr b="0" lang="en-US" sz="4400" spc="-1" strike="noStrike">
              <a:solidFill>
                <a:srgbClr val="000000"/>
              </a:solidFill>
              <a:latin typeface="Arial"/>
            </a:endParaRPr>
          </a:p>
        </p:txBody>
      </p:sp>
      <p:pic>
        <p:nvPicPr>
          <p:cNvPr id="151" name="" descr=""/>
          <p:cNvPicPr/>
          <p:nvPr/>
        </p:nvPicPr>
        <p:blipFill>
          <a:blip r:embed="rId1"/>
          <a:stretch/>
        </p:blipFill>
        <p:spPr>
          <a:xfrm>
            <a:off x="2209680" y="1523880"/>
            <a:ext cx="4937400" cy="521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claimer</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škeré názory v této prezentaci uvedené jsou mými osobními názory a v žádném případě nevyjadřují oficiální názor mého zaměstnavatele nebo jiných jeho zaměstnanců.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oby zde obsazené jsou smyšlené, zákony vymyšlené, orgány dohledu jakož i zákonodárci se nenacházejí na území Evropy a podobnost, pokud ji někdo objeví, je čistě náhodná.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zorňuji že investiční bankovnictví a zejména investiční produkty znamenají pro klienta různou míru rizika, kterou často nedokážeme ani měřit a někdy dokonce ani odhadnou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avadní vývoj na trzích jakož vývoj oboru investičního bankovnictví poradenství a investičních služeb nezaručuje v žádném případě žádný příslib vývoje budoucíh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účastník trhu může sledovat své partikulární zájmy, takže i já když toto píšu a říkám, mohu sledovat zájmy, které se ne zcela shodují se zájmy účastníků konference nebo jejich klientů. I mé vystoupení může být proto posuzováno jako konflikt zájmů.  </a:t>
            </a:r>
            <a:endParaRPr b="0" lang="en-US" sz="1800" spc="-1" strike="noStrike">
              <a:solidFill>
                <a:srgbClr val="000000"/>
              </a:solidFill>
              <a:latin typeface="Arial"/>
            </a:endParaRPr>
          </a:p>
        </p:txBody>
      </p:sp>
      <p:pic>
        <p:nvPicPr>
          <p:cNvPr id="109" name="" descr=""/>
          <p:cNvPicPr/>
          <p:nvPr/>
        </p:nvPicPr>
        <p:blipFill>
          <a:blip r:embed="rId1"/>
          <a:stretch/>
        </p:blipFill>
        <p:spPr>
          <a:xfrm>
            <a:off x="5486400" y="3808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isclaimer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457200" y="1676520"/>
            <a:ext cx="8229600" cy="39621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pozorňuji, že nenesu odpovědnost za jakékoliv ztráty plynoucí z investic založených na jakémkoliv doporučení, prognóze nebo jiných zde obsažených informacích.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sah této prezentace by neměl být považován za výslovný nebo odvozený slib, záruku ani domněnku</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držování dále uvedených legislativních rámců neznamená, že klienti budou mít zisk nebo že ztráty ve spojení s legislativou či libovolnými strategiemi jakéhokoliv účastníka této konference budou   nebo mohou být omezené.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eškeré obchody uzavřené s libovolným účastníkem investičního trhu především investice vložené do obchodování se směnnými kurzy a do derivátů, mohou být velmi spekulativní a mohou vést jak ke zisku, tak ke ztrátě, především pokud podmínky uvedené v analýze nenastanou v takové podobě, jak bylo předpokládáno.</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svá doporučení využívám všelijakých analýz a doporučení, za jejichž obsah však nehodlám a nemohu ručit.  Mezi zdroji informací bych zmínil zejména Google a Facebook.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kud moje analýza obsahuje doporučení k prodeji nebo koupi konkrétního finančního nástroje, mělo by toto doporučení být chápáno jako můj názor na to, že daný cenný papír bude časem nabývat na hodnotě nebo naopak bude svou hodnotu ztrácet, a to s pravděpodobností až 82,5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je doporučení mohou ztratit platnost ze dne na den díky volatilitě trhu a jiným faktorům, které nejsem schopen v daném okamžiku odhadnout (zemětřesení atp).  V případě směnných kurzů jsou moje doporučení platná maximálně 2 dny někdy maximálně 2 minuty v závislosti na tom, co se děje na trhu. Doporučení týkající se akcií a futures neplatí déle než jeden až pět dní. Analýza je aktualizována vždy a pouze tehdy, pokud vývoj trhu novou analýzu ke stejnému tématu vyvolá a pokud to já stihnu.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je analýza nepokrývá nikdy veškeré finanční produkty zejména ne pokud se to týká jejich budoucího vývoje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poručení jsou založena na předpokladech, které mohou být za různých okolností správné nebo chybné a doporučení pak pozbývá platnosti. </a:t>
            </a:r>
            <a:endParaRPr b="0" lang="en-US" sz="1200" spc="-1" strike="noStrike">
              <a:solidFill>
                <a:srgbClr val="000000"/>
              </a:solidFill>
              <a:latin typeface="Arial"/>
            </a:endParaRPr>
          </a:p>
        </p:txBody>
      </p:sp>
      <p:pic>
        <p:nvPicPr>
          <p:cNvPr id="112" name="" descr=""/>
          <p:cNvPicPr/>
          <p:nvPr/>
        </p:nvPicPr>
        <p:blipFill>
          <a:blip r:embed="rId1"/>
          <a:stretch/>
        </p:blipFill>
        <p:spPr>
          <a:xfrm>
            <a:off x="6858000" y="4952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y regul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57200" y="2362320"/>
            <a:ext cx="8229600" cy="35049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 jaké míry jsou podle vás regulace politickou záležitostí?</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Nechtějí politici jen zapůsobit na lidi a dát najevo, že bankéři zavinili finanční krizi a je potřeba je proto potrestat a více hlíd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řekl bych, že jde o revanš. Ale co pozoruji, jsou prvky populism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nažíme se zde o něco, na co nemůže lidská inteligence stačit – re</a:t>
            </a:r>
            <a:r>
              <a:rPr b="0" lang="en-US" sz="2000" spc="-1" strike="noStrike">
                <a:solidFill>
                  <a:srgbClr val="000000"/>
                </a:solidFill>
                <a:latin typeface="Arial"/>
              </a:rPr>
              <a:t>gula</a:t>
            </a:r>
            <a:r>
              <a:rPr b="0" lang="cs-CZ" sz="2000" spc="-1" strike="noStrike">
                <a:solidFill>
                  <a:srgbClr val="000000"/>
                </a:solidFill>
                <a:latin typeface="Arial"/>
              </a:rPr>
              <a:t>čně uhlídat obrovská rizika, která se nedají ani zmapovat.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se ukázalo na začátku finanční kriz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roj: Rozhovor s Pavlem Kysilkou Ekonom 29.3.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 descr="[E-SURVEILLANCE+IN+INDIA+1.jpg]"/>
          <p:cNvPicPr/>
          <p:nvPr/>
        </p:nvPicPr>
        <p:blipFill>
          <a:blip r:embed="rId1"/>
          <a:stretch/>
        </p:blipFill>
        <p:spPr>
          <a:xfrm>
            <a:off x="4876920" y="533520"/>
            <a:ext cx="3657600" cy="15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ní toho moc? </a:t>
            </a:r>
            <a:endParaRPr b="0" lang="en-US" sz="4400" spc="-1" strike="noStrike">
              <a:solidFill>
                <a:srgbClr val="000000"/>
              </a:solidFill>
              <a:latin typeface="Arial"/>
            </a:endParaRPr>
          </a:p>
        </p:txBody>
      </p:sp>
      <p:sp>
        <p:nvSpPr>
          <p:cNvPr id="117" name="PlaceHolder 2"/>
          <p:cNvSpPr>
            <a:spLocks noGrp="1"/>
          </p:cNvSpPr>
          <p:nvPr>
            <p:ph/>
          </p:nvPr>
        </p:nvSpPr>
        <p:spPr>
          <a:xfrm>
            <a:off x="457200" y="1752120"/>
            <a:ext cx="6019920" cy="12193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kony a vyhlášky týkající se financí a investic mají dne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 stránek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000 slov </a:t>
            </a:r>
            <a:endParaRPr b="0" lang="en-US" sz="1800" spc="-1" strike="noStrike">
              <a:solidFill>
                <a:srgbClr val="000000"/>
              </a:solidFill>
              <a:latin typeface="Arial"/>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 na rychlé přečtení potřebujete 2 týdn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2"/>
          <a:stretch/>
        </p:blipFill>
        <p:spPr>
          <a:xfrm>
            <a:off x="6172200" y="2590920"/>
            <a:ext cx="2438280" cy="2676240"/>
          </a:xfrm>
          <a:prstGeom prst="rect">
            <a:avLst/>
          </a:prstGeom>
          <a:ln w="0">
            <a:noFill/>
          </a:ln>
        </p:spPr>
      </p:pic>
      <p:pic>
        <p:nvPicPr>
          <p:cNvPr id="119" name="" descr=""/>
          <p:cNvPicPr/>
          <p:nvPr/>
        </p:nvPicPr>
        <p:blipFill>
          <a:blip r:embed="rId3"/>
          <a:stretch/>
        </p:blipFill>
        <p:spPr>
          <a:xfrm>
            <a:off x="0" y="3286080"/>
            <a:ext cx="4762440" cy="3571920"/>
          </a:xfrm>
          <a:prstGeom prst="rect">
            <a:avLst/>
          </a:prstGeom>
          <a:ln w="0">
            <a:noFill/>
          </a:ln>
        </p:spPr>
      </p:pic>
      <p:sp>
        <p:nvSpPr>
          <p:cNvPr id="120" name=""/>
          <p:cNvSpPr/>
          <p:nvPr/>
        </p:nvSpPr>
        <p:spPr>
          <a:xfrm>
            <a:off x="1203480" y="417600"/>
            <a:ext cx="6873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6019920" y="556272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čkáme se někdy i zjednodušení (škrtání)?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na to říká praxe</a:t>
            </a:r>
            <a:endParaRPr b="0" lang="en-US" sz="4400" spc="-1" strike="noStrike">
              <a:solidFill>
                <a:srgbClr val="000000"/>
              </a:solidFill>
              <a:latin typeface="Arial"/>
            </a:endParaRPr>
          </a:p>
        </p:txBody>
      </p:sp>
      <p:sp>
        <p:nvSpPr>
          <p:cNvPr id="123" name="PlaceHolder 2"/>
          <p:cNvSpPr>
            <a:spLocks noGrp="1"/>
          </p:cNvSpPr>
          <p:nvPr>
            <p:ph/>
          </p:nvPr>
        </p:nvSpPr>
        <p:spPr>
          <a:xfrm>
            <a:off x="685800" y="1980720"/>
            <a:ext cx="464832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když si o zákonech můžeme myslet cokoliv, nehledáme skuliny, ale snažíme se jimi řídi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ítáme s tím, že budeme na trhu nejen za rok, ale za 10 nebo 100 l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ujeme dlouhodobý vztah s klientem a nechceme ho zbytečně obtěžov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adá nám nespravedlivé, když  klienta přebere firma, která se regulací nezabývá a funguje stylem „nikdo vám nemůže dát tolik, kolik já vám dokážu slíbit“.</a:t>
            </a:r>
            <a:endParaRPr b="0" lang="en-US" sz="2000" spc="-1" strike="noStrike">
              <a:solidFill>
                <a:srgbClr val="000000"/>
              </a:solidFill>
              <a:latin typeface="Arial"/>
            </a:endParaRPr>
          </a:p>
        </p:txBody>
      </p:sp>
      <p:pic>
        <p:nvPicPr>
          <p:cNvPr id="124" name="" descr=""/>
          <p:cNvPicPr/>
          <p:nvPr/>
        </p:nvPicPr>
        <p:blipFill>
          <a:blip r:embed="rId1"/>
          <a:stretch/>
        </p:blipFill>
        <p:spPr>
          <a:xfrm>
            <a:off x="5410080" y="1981080"/>
            <a:ext cx="35816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ýborná myšlenka, ale </a:t>
            </a:r>
            <a:r>
              <a:rPr b="1" lang="en-US" sz="2600" spc="-1" strike="noStrike">
                <a:solidFill>
                  <a:srgbClr val="000000"/>
                </a:solidFill>
                <a:latin typeface="Arial"/>
              </a:rPr>
              <a:t>podstatný je výklad</a:t>
            </a:r>
            <a:r>
              <a:rPr b="0" lang="en-US" sz="2600" spc="-1" strike="noStrike">
                <a:solidFill>
                  <a:srgbClr val="000000"/>
                </a:solidFill>
                <a:latin typeface="Arial"/>
              </a:rPr>
              <a:t>, aneb „mysleli jsme to dobře a dopadlo to jako vždyck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2057040"/>
            <a:ext cx="3733920" cy="3809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ždá (i malá) změna zákona představuje extrémní náklady na úpravu technologií a školení personál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avdu dokáže autor zákona říci k čemu je nový paragraf dobrý (komu prospěje) a že přínosy budou vyšší než náklad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 descr=""/>
          <p:cNvPicPr/>
          <p:nvPr/>
        </p:nvPicPr>
        <p:blipFill>
          <a:blip r:embed="rId1"/>
          <a:stretch/>
        </p:blipFill>
        <p:spPr>
          <a:xfrm>
            <a:off x="4267080" y="1752480"/>
            <a:ext cx="433404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ůkazní břemeno </a:t>
            </a:r>
            <a:endParaRPr b="0" lang="en-US" sz="4000" spc="-1" strike="noStrike">
              <a:solidFill>
                <a:srgbClr val="000000"/>
              </a:solidFill>
              <a:latin typeface="Arial"/>
            </a:endParaRPr>
          </a:p>
        </p:txBody>
      </p:sp>
      <p:sp>
        <p:nvSpPr>
          <p:cNvPr id="129" name="PlaceHolder 2"/>
          <p:cNvSpPr>
            <a:spLocks noGrp="1"/>
          </p:cNvSpPr>
          <p:nvPr>
            <p:ph/>
          </p:nvPr>
        </p:nvSpPr>
        <p:spPr>
          <a:xfrm>
            <a:off x="457200" y="2819160"/>
            <a:ext cx="4038480" cy="2057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rozdíl od daňových zákonů není důkazní břemeno výslovně na regulované osobě.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i jízdě autem máme povinnost dodržovat předepsanou rychlost, ale nemáme povinnost to dokazovat). </a:t>
            </a:r>
            <a:endParaRPr b="0" lang="en-US" sz="1800" spc="-1" strike="noStrike">
              <a:solidFill>
                <a:srgbClr val="000000"/>
              </a:solidFill>
              <a:latin typeface="Arial"/>
            </a:endParaRPr>
          </a:p>
        </p:txBody>
      </p:sp>
      <p:pic>
        <p:nvPicPr>
          <p:cNvPr id="130" name="" descr=""/>
          <p:cNvPicPr/>
          <p:nvPr/>
        </p:nvPicPr>
        <p:blipFill>
          <a:blip r:embed="rId1"/>
          <a:srcRect l="0" t="0" r="3986" b="15283"/>
          <a:stretch/>
        </p:blipFill>
        <p:spPr>
          <a:xfrm>
            <a:off x="4724280" y="186696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76360" y="685440"/>
            <a:ext cx="563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enos všech povinností na papír </a:t>
            </a:r>
            <a:br>
              <a:rPr sz="4000"/>
            </a:br>
            <a:r>
              <a:rPr b="0" lang="en-US" sz="4000" spc="-1" strike="noStrike">
                <a:solidFill>
                  <a:srgbClr val="000000"/>
                </a:solidFill>
                <a:latin typeface="Arial"/>
              </a:rPr>
              <a:t>s podpisem klienta </a:t>
            </a:r>
            <a:endParaRPr b="0" lang="en-US" sz="4000" spc="-1" strike="noStrike">
              <a:solidFill>
                <a:srgbClr val="000000"/>
              </a:solidFill>
              <a:latin typeface="Arial"/>
            </a:endParaRPr>
          </a:p>
        </p:txBody>
      </p:sp>
      <p:sp>
        <p:nvSpPr>
          <p:cNvPr id="132" name="PlaceHolder 2"/>
          <p:cNvSpPr>
            <a:spLocks noGrp="1"/>
          </p:cNvSpPr>
          <p:nvPr>
            <p:ph/>
          </p:nvPr>
        </p:nvSpPr>
        <p:spPr>
          <a:xfrm>
            <a:off x="456840" y="3276720"/>
            <a:ext cx="4724280" cy="259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poruje zákonnému požadavku na jednoduchost a srozumitelnost pro klienta s průměrnou intelektuální úrovní, obezřetností a rozpoznávací schopností v postavení zákazník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poruje zásadě nezatěžovat klienta nepodstatnými informacemi (kterým stejně nerozumí)</a:t>
            </a:r>
            <a:endParaRPr b="0" lang="en-US" sz="2000" spc="-1" strike="noStrike">
              <a:solidFill>
                <a:srgbClr val="000000"/>
              </a:solidFill>
              <a:latin typeface="Arial"/>
            </a:endParaRPr>
          </a:p>
        </p:txBody>
      </p:sp>
      <p:pic>
        <p:nvPicPr>
          <p:cNvPr id="133" name="" descr=""/>
          <p:cNvPicPr/>
          <p:nvPr/>
        </p:nvPicPr>
        <p:blipFill>
          <a:blip r:embed="rId1"/>
          <a:stretch/>
        </p:blipFill>
        <p:spPr>
          <a:xfrm>
            <a:off x="155520" y="46080"/>
            <a:ext cx="2857680" cy="2857320"/>
          </a:xfrm>
          <a:prstGeom prst="rect">
            <a:avLst/>
          </a:prstGeom>
          <a:ln w="0">
            <a:noFill/>
          </a:ln>
        </p:spPr>
      </p:pic>
      <p:pic>
        <p:nvPicPr>
          <p:cNvPr id="134" name="" descr=""/>
          <p:cNvPicPr/>
          <p:nvPr/>
        </p:nvPicPr>
        <p:blipFill>
          <a:blip r:embed="rId2"/>
          <a:stretch/>
        </p:blipFill>
        <p:spPr>
          <a:xfrm>
            <a:off x="5257800" y="3156120"/>
            <a:ext cx="3886200" cy="25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loš Klášterecký</dc:creator>
  <dc:description/>
  <dc:language>en-US</dc:language>
  <cp:lastModifiedBy>cen32601</cp:lastModifiedBy>
  <dcterms:modified xsi:type="dcterms:W3CDTF">2011-05-13T13:29:47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