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9E2-3E74-43DC-9BE2-00C8AB03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F57-5439-4382-9213-3D7CA794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086-77D0-43CE-831E-4A5882ED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6D3-5F60-4E6F-8236-367E38F4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28AA-9B77-4499-995C-D86362E2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63C-1C2F-4D11-93D3-AE9FC2D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18B-B3CC-423B-83EF-E732EFD7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2585-1970-4914-A16D-AA04D7F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E078-3F25-468E-861A-45E7D9C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9AA-F39D-4985-AB61-3850F1D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B735-C254-4414-8E44-32C7BAE7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659-8DD4-41BB-B26A-3A3E794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EAC-2282-45BC-AC19-1AFB16C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8B81-9848-4A7E-BAD3-2877A07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3CC5-B7D2-41DD-95E5-4D612431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8F0B-568E-4617-8E3F-B28D0F87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9C62-4229-44DE-ADDE-554B7282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673-080E-4AEA-BE4B-2747313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62A-9E40-4AD4-95D6-82B1CDA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2FA-7024-439F-870B-228CD1BE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140-46A5-40ED-9C34-98753421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1D3-2EAD-4EC3-9E4A-11DCD37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4F6-4D5C-4312-BB0A-9ADC45B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355-06AD-4744-8C5A-9EEA5A5D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68AD-7E68-4FD2-8FD8-1EE4CA08FB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EA5-EA3C-424D-8886-578B582D15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8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8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8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2"/>
          <p:cNvSpPr/>
          <p:nvPr/>
        </p:nvSpPr>
        <p:spPr>
          <a:xfrm>
            <a:off x="1011240" y="2492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ekodifikácia zákona o kolektívnom investova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879480" y="4437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aditeľ odboru kapitálového trhu a poisťovníc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710880" y="54500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9.máj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94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97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0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ečo rekodifikácia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BlokTextu 10"/>
          <p:cNvSpPr/>
          <p:nvPr/>
        </p:nvSpPr>
        <p:spPr>
          <a:xfrm>
            <a:off x="500040" y="1857240"/>
            <a:ext cx="80726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zákon o kolektívnom investovaní od r. 19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248/1992 Zb. kupónová privatizácia,  385/1999 Z.z.  UCITS,  594/2003 Z.z. UCITS III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..../2011 Z.z. UCITS I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y kontex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 transpozícia  UCITS IV a L2 opatrení, Omnibus I (ESMA), „predpríprava“  na  AIFM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K kontext,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ríležitosť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na modernizáciu  regulácie, efektívnejšie využitie konceptu minimálnych  štandardov, nové možnosti a produkty,  redukcia „non UCITS“ administratívnej  záťaže  a obmedz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á štruktúra UCITS a non-UCITS  sféry,  štandardné vs špeciálne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04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05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07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0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prináša UCITS I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BlokTextu 10"/>
          <p:cNvSpPr/>
          <p:nvPr/>
        </p:nvSpPr>
        <p:spPr>
          <a:xfrm>
            <a:off x="571680" y="18572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dapt to the financial markets of the 21th century ... meet new challenges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kutočný EU pas pre správcovské spoločnosti,  cezhraničná správa UCITS fond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zhraničné zlučovania (mergers)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ster - feeder štruktú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ey investment information – nahrádza zjednodušený predajný pro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MiFIDizác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“ cez L2 direktívu - organizačné požiadavky na správcovské spoločnosti (compliance, risk menež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ochrana investora, „rules of conduct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čísla snímky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929-41CA-454D-8852-81481A6E08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4240" y="325440"/>
            <a:ext cx="741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 u="sng">
                <a:solidFill>
                  <a:srgbClr val="000000"/>
                </a:solidFill>
                <a:uFillTx/>
                <a:latin typeface="Arial"/>
              </a:rPr>
              <a:t>Národné voľb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002040"/>
            <a:ext cx="9144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857160"/>
          <a:ext cx="7772400" cy="4437000"/>
        </p:xfrm>
        <a:graphic>
          <a:graphicData uri="http://schemas.openxmlformats.org/drawingml/2006/table">
            <a:tbl>
              <a:tblPr/>
              <a:tblGrid>
                <a:gridCol w="4743360"/>
                <a:gridCol w="3029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(2) - zriaďovanie pod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(3) - právna forma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podielový f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6(3) - doplnkové inv. služby pre správ. spoločnos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7(1)  - zvýšenie minimálnej požiadavky na počiatočný kapitál správ. spoločností a alternatívna garancia vlastných  zdrojov do výšky 50%,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, ZI 730 000 e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13(1) - delegovanie funkcii správ.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23(3) - aké finančné inštitúcie môžu byť depozitáro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bank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45(2) - možnosť pozastavenie vyplácania    PL pri zlúčeni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1(2) - techniky portfólio menežmentu s využitím derivá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ástupný symbol čísla snímky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881F-D4BC-4F4F-BB26-64AC29D08A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4240" y="325440"/>
            <a:ext cx="741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500" spc="-1" strike="noStrike" u="sng">
                <a:solidFill>
                  <a:srgbClr val="000000"/>
                </a:solidFill>
                <a:uFillTx/>
                <a:latin typeface="Arial"/>
              </a:rPr>
              <a:t>Národné voľby  - investičné limity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02040"/>
            <a:ext cx="9144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2960" y="857160"/>
          <a:ext cx="7772400" cy="4967280"/>
        </p:xfrm>
        <a:graphic>
          <a:graphicData uri="http://schemas.openxmlformats.org/drawingml/2006/table">
            <a:tbl>
              <a:tblPr/>
              <a:tblGrid>
                <a:gridCol w="4743360"/>
                <a:gridCol w="30290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1(3) - výnimka z limitov koncentrácie pre deriváty založené na indexo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2(2) - zvýšenie limitu koncentrácie z 5% na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2(3) a (4) - zvýšenie limitu koncentrácie z 5% na 35% pre štátom garantované CP resp. z 5% na 40% pre osobitne  garantované druhy dlhopis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3920" indent="-8539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52(5)   - kumulatívne investovanie do prev. CP a MMI v rámci skupiny do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32080" indent="-1432080"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3, 54 a 55   - indexové fondy, fondy štátnych dlhopisov a fondy fond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6     - výnimky z koncentrácie na emitentovi pre štátne a komunálne CP, S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57(1) - 6 mesačná výnimka z investičných pravidiel pre novozaložené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39(6) - 6 mesačná výnimka z investičný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diel po zlúčení  UC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4960" indent="-80496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l. 83(2) - možnosť prijatia úveru pre fond do výšky 1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2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2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2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meny mimo UCITS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BlokTextu 10"/>
          <p:cNvSpPr/>
          <p:nvPr/>
        </p:nvSpPr>
        <p:spPr>
          <a:xfrm>
            <a:off x="571680" y="1857240"/>
            <a:ext cx="8072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n- UCITS  friendly“  štruktúra, zníženie „non UCITS záťaže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rušenie minimálnej výšky majetku v podielovom fonde  (1, 5 mil.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ozšírenie samostatnej evidencie PL aj na PL uzavretých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ranže v rámci fondov aj pod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jednodušenie výpočtu správcovských a depozitárskych  poplatk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rušenie regulácie vyplácania výnosov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etailnejšia úprava kontrolnej činnosti depozitára, koncept depozitárskej  úschovy, inšpirácia AIFM a MiFID, zrušenie regulácie účtov sprá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pravy predchádzajúcich súhlasov,  zrušenie súhlasov na zmenu stanov správcu a na obchodovanie s akcionárm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3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3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3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on UCITS sfé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lokTextu 10"/>
          <p:cNvSpPr/>
          <p:nvPr/>
        </p:nvSpPr>
        <p:spPr>
          <a:xfrm>
            <a:off x="571680" y="1857240"/>
            <a:ext cx="807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erejné špeciálne podielové fondy  (uzavreté aj otvorené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enných papier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národná alternatíva UCITS fondu, voľnejšie limity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lternatívnych investícii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komodity, drahé kovy, obchodné podi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ehnuteľností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zjednodušenie oceňovania nehnuteľnost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špeciálne podielové fondy profesionálnych investor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profesionálny investor podľa MiFID alebo investícia 50 000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obmedzená prevoditeľnosť  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bez priamej regulácie aktív a investičných limi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„dodatočné“  povolen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4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4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4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BlokTextu 10"/>
          <p:cNvSpPr/>
          <p:nvPr/>
        </p:nvSpPr>
        <p:spPr>
          <a:xfrm>
            <a:off x="571680" y="221472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MA - nové aspekty dohľadu, Omnibus I, „lisabonizácia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elizácia UCITS - regulácia depozitárov v AIFM štý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3 transpozícia AIFM  - dopad na non UCITS sfé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CS – rozšírenie garancií aj na podielové fond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? ? revízia MiFID, PRIPS, PIIGS, dane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15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153" name="Rectangle 9"/>
              <p:cNvSpPr/>
              <p:nvPr/>
            </p:nvSpPr>
            <p:spPr>
              <a:xfrm>
                <a:off x="1428840" y="1671840"/>
                <a:ext cx="6696000" cy="1257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15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7"/>
          <p:cNvSpPr/>
          <p:nvPr/>
        </p:nvSpPr>
        <p:spPr>
          <a:xfrm>
            <a:off x="1068480" y="20937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58960" y="3857760"/>
            <a:ext cx="52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bor kapitálového trhu a poisťovníc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inisterstvo financií SR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efanovičova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817 82 Bratis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Tel.:      +421 2 59582524         Fax: +421 2 5958354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E-mail:  jan.folt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fsr.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9:39:31Z</dcterms:created>
  <dc:creator>Stanislava Ligová</dc:creator>
  <dc:description/>
  <dc:language>en-US</dc:language>
  <cp:lastModifiedBy>jfoltan</cp:lastModifiedBy>
  <dcterms:modified xsi:type="dcterms:W3CDTF">2011-05-17T10:22:54Z</dcterms:modified>
  <cp:revision>154</cp:revision>
  <dc:subject/>
  <dc:title>Snímka 1</dc:title>
</cp:coreProperties>
</file>