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4008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BF07-405C-40C5-8B73-F30BC158E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5704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7ABD-AB18-4931-8A92-B74E058E4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3B96-416F-44F4-A277-7E5DDDC05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9548-7D50-42C5-9339-46F99208D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6B20-E638-419D-B96A-BD95E5C3EF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740C-5BD7-46C0-B7A2-5A467B1B29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78F3-76EC-4BFC-B191-1C35D39155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6831-E327-4458-A1E9-7B1127094E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83B1-B705-4B43-8402-1CB9ACF6BB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" y="498600"/>
            <a:ext cx="768672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8C4C-5676-48BB-BED2-A422DCFC3E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A263-C519-44F5-BB32-EAE8D92A9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7FEA-FA3B-48DD-833B-8511000F8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2C55-2F70-462C-BE60-0A969014C3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6859-771D-4BD7-84B3-3108C6190D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0920" y="35704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4402-C262-4ACF-9B82-92AA1A2FDA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D7B1-5C44-462E-B034-446B7748DF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304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0" y="13636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092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304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4800" y="3570480"/>
            <a:ext cx="27824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5BFC-F056-48A2-B7DD-A14B2124C3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9E42-7255-484B-99A3-759DCBDBA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D453-33D7-49B0-A26F-BA8D14A2C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ABB9-FE14-489B-BD4C-6ABE8D67F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000" y="498600"/>
            <a:ext cx="768672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7E31-CD45-4C81-BCBA-F83E774A7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36EE-A147-4AA8-AC54-CB1AAEE65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5704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F19A-423F-42A7-B71C-DAB7C0163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363680"/>
            <a:ext cx="421704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570480"/>
            <a:ext cx="8642160" cy="2014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3E28-2935-48E0-A691-1AEDE42A7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2"/>
          <p:cNvSpPr/>
          <p:nvPr/>
        </p:nvSpPr>
        <p:spPr>
          <a:xfrm>
            <a:off x="252360" y="39852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i="1" lang="en-US" sz="3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243000" y="6157800"/>
            <a:ext cx="655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1</a:t>
            </a:r>
            <a:endParaRPr b="0" i="1" lang="en-US" sz="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Line 16"/>
          <p:cNvSpPr/>
          <p:nvPr/>
        </p:nvSpPr>
        <p:spPr>
          <a:xfrm>
            <a:off x="252360" y="60897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i="1" lang="en-US" sz="3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41720" y="613260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19589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AA81-103C-4260-BB35-E732E1609807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Click to edit the title text forma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97520" y="92160"/>
            <a:ext cx="1951200" cy="2016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4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20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O_Logo_RED_RGB" descr=""/>
          <p:cNvPicPr/>
          <p:nvPr/>
        </p:nvPicPr>
        <p:blipFill>
          <a:blip r:embed="rId2"/>
          <a:stretch/>
        </p:blipFill>
        <p:spPr>
          <a:xfrm>
            <a:off x="257040" y="193680"/>
            <a:ext cx="5166000" cy="372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250920" y="6157800"/>
            <a:ext cx="6554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1</a:t>
            </a:r>
            <a:endParaRPr b="0" i="1" lang="en-US" sz="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Line 16"/>
          <p:cNvSpPr/>
          <p:nvPr/>
        </p:nvSpPr>
        <p:spPr>
          <a:xfrm>
            <a:off x="250920" y="60897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2"/>
          </p:nvPr>
        </p:nvSpPr>
        <p:spPr>
          <a:xfrm>
            <a:off x="6740640" y="6132600"/>
            <a:ext cx="213336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19589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C4FD-026A-480E-A9A9-CC9600B44193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PT images_COVER_05" descr=""/>
          <p:cNvPicPr/>
          <p:nvPr/>
        </p:nvPicPr>
        <p:blipFill>
          <a:blip r:embed="rId1"/>
          <a:srcRect l="0" t="3837" r="0" b="0"/>
          <a:stretch/>
        </p:blipFill>
        <p:spPr>
          <a:xfrm>
            <a:off x="0" y="679320"/>
            <a:ext cx="9144000" cy="5251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30040" y="1363320"/>
            <a:ext cx="434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r V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bíral</a:t>
            </a:r>
            <a:endParaRPr b="0" i="1" lang="en-US" sz="25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0040" y="1932120"/>
            <a:ext cx="4341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adb0d8"/>
                </a:solidFill>
                <a:latin typeface="Times New Roman"/>
                <a:ea typeface="Times New Roman"/>
              </a:rPr>
              <a:t>O</a:t>
            </a:r>
            <a:r>
              <a:rPr b="0" i="1" lang="cs-CZ" sz="4000" spc="-1" strike="noStrike">
                <a:solidFill>
                  <a:srgbClr val="adb0d8"/>
                </a:solidFill>
                <a:latin typeface="Times New Roman"/>
                <a:ea typeface="Times New Roman"/>
              </a:rPr>
              <a:t>čekávané novinky v zákoně o podnikání na kapitálovém trhu</a:t>
            </a:r>
            <a:endParaRPr b="0" i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226E-5398-4392-9A98-3A9009DCA0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Závěr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D955-C0B1-413A-BA9B-329A5E4A34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4840" y="1400040"/>
            <a:ext cx="768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b23427"/>
                </a:solidFill>
                <a:latin typeface="Times New Roman"/>
              </a:rPr>
              <a:t>Dotazy</a:t>
            </a:r>
            <a:r>
              <a:rPr b="1" lang="en-GB" sz="3500" spc="-1" strike="noStrike">
                <a:solidFill>
                  <a:srgbClr val="b23427"/>
                </a:solidFill>
                <a:latin typeface="Times New Roman"/>
              </a:rPr>
              <a:t>?</a:t>
            </a:r>
            <a:endParaRPr b="0" i="1" lang="en-US" sz="35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66C8-5AA3-4B0F-953C-9DE7AF66F7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Směrnice 2010/73/EU 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zv. Novelizující směr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nice 2003/71/ES o prospek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směrnic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4/109/ES o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spare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tnost od 31.12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rmín implementace do 1.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FC05-E3FC-441C-BCFF-36566F40A4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Cíle Novelizující směrnice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ížení administrativní zátě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konkurence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olnění určitých povinností stanovených směrnicí o prosp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řízení evropského systému orgánů finančního dohl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4396-B441-4A3E-8AB4-B81E142F76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b23427"/>
                </a:solidFill>
                <a:latin typeface="Times New Roman"/>
              </a:rPr>
              <a:t>Vl</a:t>
            </a: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ádní návrh novely zákona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j. k implementaci Novelizující směr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h novely schválen 6.5. 2011 Poslaneckou sněmovnou (spolu s novelou zákona o kolektivním invest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pokládané datum účinnosti novely podle původního návrhu je 1.7. 2011 (tedy rok před uplynutím lhůty pro implement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3604-6643-4A02-88F9-87B1441349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Zvýšení limitu „wholesale exemption“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nejnižší jmenovité hodnoty z 50 000 EUR na 100 000 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tanovení o ochr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chozího stavu (grandfathering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nné papí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s jednotkovou 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dno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u alespoň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50 000 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ijaté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k obchodování na regulovaném trhu v Uni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 vstupem směrnice v platnost (tj. nejpozději 30.12.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i limitu nejnižší jmenovité hodnoty může změnit prováděcím opatřením Kom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zákoně již částka „wholesale exemption“ uvedena není – bude určována vládou naříz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308C-8AFF-4D8F-9E62-E3C7A564CB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Výjimky z povinnosti vypracovat prospek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uští se výjimka z povinnosti v případech bezúplatné nabídky dosavadním akcionářům – již kryto výjimkou limitu celkové hodnoty protipl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ě se rozšiřuje možno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bíze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nan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 cenné papíry vydávané za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navatelem, nebo osobo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skupin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pokud již existuje dokument, který obsah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spektu odpoví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je zaměstnavatel ze třetí země – je třeba ekvivalenční rozhodnutí K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FE6C-27D1-4855-B50A-92ECEF32B6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Následná veřejná nabídka cenných papírů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k s cennými papíry, který činí následnou nabídku, nemusí zveřejnit prospekt pok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 k dispozici původní platný prospe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soby odpovědné za obsah prospektu v něm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ýslovně vyjádřily souhla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s užitím prospektu i při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ásledné veřejné nabíd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5748-288D-439C-8F0F-CDA3FB0EC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Změna obsahu prospektu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mplexní z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 v pojetí institutu shrnutí prospek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ě se zavádí termín „klíčové informace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 dalšímu sjednocení podoby a obsahu shrnutí prospektu vydá Komise prováděcí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oba, která prospekt vypracovala, odpovídá také za to, že prospekt obsahuje všechny informace potřebné pro učinění rozhodnutí investora o vhodnosti zvažovaného cenného papí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1815-04C7-4C67-8A60-0242B050FC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000" y="498600"/>
            <a:ext cx="7686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b23427"/>
                </a:solidFill>
                <a:latin typeface="Times New Roman"/>
              </a:rPr>
              <a:t>Další změny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363680"/>
            <a:ext cx="8642160" cy="4224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ěna definice kvalifikovaného investora – nyní v souladu s MiFiD (obdobně se změna promítla rovněž do § 119c ZPKT upravujícím výjimky z informační povin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yšuje se počet osob, kterým lze učinit nabídku bez nutnosti plnění prospektové povinnosti ze 100 na 15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mitenti nemusí v prospektu nadále uvádět informace o ručiteli, je-li jím členský stát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tnost prospektu se bude nadále vázat nikoli na den jeho uv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í, ale na den jeho schválen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řípadně regulátorem v domovském členském stát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ě povinnost emitenta uveřejnit prospekt na „svých internetových stránkách“, nikoli obecně na „internetových stránkách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13DE-AC11-4AE9-9E01-EDC5C79F8D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6:31:14Z</dcterms:created>
  <dc:creator> </dc:creator>
  <dc:description> </dc:description>
  <cp:keywords/>
  <dc:language>en-US</dc:language>
  <cp:lastModifiedBy/>
  <dcterms:modified xsi:type="dcterms:W3CDTF">2011-05-17T06:31:14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pClientMatter">
    <vt:lpwstr/>
  </property>
  <property fmtid="{D5CDD505-2E9C-101B-9397-08002B2CF9AE}" pid="3" name="cpCombinedRef">
    <vt:lpwstr>PRG-#952256-v1-PETV_-_prezentace.PPT</vt:lpwstr>
  </property>
  <property fmtid="{D5CDD505-2E9C-101B-9397-08002B2CF9AE}" pid="4" name="cpDocRef">
    <vt:lpwstr>PRG-#952256-v1-PETV_-_prezentace.PPT</vt:lpwstr>
  </property>
</Properties>
</file>