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341-A803-49F8-906C-3418F7F3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86C3-24B7-4452-B1DB-B3171E3C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9EB-AD4B-4C0F-BE32-1FED066A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443D-3332-45A3-AFBE-AE529BEF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AB36-B70A-4DE3-AB69-3E76780C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460F-E876-41CE-AACE-CEB58C46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F8C6-7E1C-4E88-8053-507DD9BC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B036-21F7-47AD-986A-4D734244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1A38-A977-4586-9992-49CDACA4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1421-5754-452B-A911-A17BA4E0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7409-ACC9-47EA-8D60-6AD8C1B0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43C8-DD3A-4D6F-92C7-F8F9B375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8115-A8A2-401E-8286-D75E0968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9D60-CADF-4D00-AED9-11121C5E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55CE-801A-42A4-BE3E-FFD0BDCA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D1D8-2038-41FE-92F2-B3C0D236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EF8C-C16E-417A-8771-D8E1713F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5064-B2FB-454D-B85F-2746BE56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6BF-909B-4B76-837D-2D3BF5AE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A7D-C8B6-4B15-8143-19DF9282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4FF-2935-4ABF-9815-5C6B985D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1F9E-119D-43BF-BF5F-FA29D314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ED5-7EED-4F67-97C6-E574353B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1BF-A159-486C-840D-BB5962E8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B85C-4793-41BF-90AC-91FC2DFECF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94a45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5732-ED2F-47BA-99EF-05F9F91BA6F1}" type="slidenum">
              <a:rPr b="1" lang="en-US" sz="1200" spc="-1" strike="noStrike">
                <a:solidFill>
                  <a:srgbClr val="494a4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4a45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egfap.nbs.sk/skusky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bs.sk/sk/dohlad-nad-financnym-trhom/dohlad-nad-financnym-sprostredkovanim-a-financnym-poradenstv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4005360"/>
            <a:ext cx="878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sk-SK" sz="2400" spc="-1" strike="noStrike">
                <a:solidFill>
                  <a:srgbClr val="003881"/>
                </a:solidFill>
                <a:latin typeface="Tahoma"/>
              </a:rPr>
              <a:t>Nadobúdanie a preverovanie odbornej spôsobilosti </a:t>
            </a:r>
            <a:br>
              <a:rPr sz="2400"/>
            </a:br>
            <a:r>
              <a:rPr b="1" lang="sk-SK" sz="2400" spc="-1" strike="noStrike">
                <a:solidFill>
                  <a:srgbClr val="003881"/>
                </a:solidFill>
                <a:latin typeface="Tahoma"/>
              </a:rPr>
              <a:t>finančných sprostredkovateľov a finančných poradcov</a:t>
            </a:r>
            <a:r>
              <a:rPr b="0" lang="sk-SK" sz="3200" spc="-1" strike="noStrike">
                <a:solidFill>
                  <a:srgbClr val="003881"/>
                </a:solidFill>
                <a:latin typeface="Tahoma"/>
              </a:rPr>
              <a:t> </a:t>
            </a:r>
            <a:br>
              <a:rPr sz="2200"/>
            </a:br>
            <a:endParaRPr b="0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560" y="479700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7f9bc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5805360"/>
            <a:ext cx="907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19. 05. 2011, Praha</a:t>
            </a: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Slavomír Šťastn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Konferencia AKAT ČR+SASS</a:t>
            </a: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600" spc="-1" strike="noStrike">
                <a:solidFill>
                  <a:srgbClr val="4d4d4d"/>
                </a:solidFill>
                <a:latin typeface="Tahoma"/>
              </a:rPr>
              <a:t>Národná banka Slovens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dborná spôsobilo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dborné vedomosti fyzických osôb, ktoré sú predpokladom pre výkon finančného sprostredkovania alebo finančného poradenstva riadne a na dostatočnej odbornej úrov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tupne: základný, stredný, vyšší a najvyšš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sobitné finančné vzdeláva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dborné skúš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41C-BC55-4A4D-8285-1703361471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sobitné finančné vzdelávanie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školenia, kurzy a iné formy vzdelávania, ktorých účelom je zabezpečiť dostatočnú informovanosť o finančných službách, zlepšiť kvalitu teoretických znalostí a praktických schopnost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yžaduje sa pre každý sek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ykonáva ho finančná inštitúcia lebo vzdelávacia ustanovize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a základe vyhlášky MF S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D82-C214-472C-93BA-F802B5C1E3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dborná skúška a stupne odbornej spôsobilosti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ľa zákona odbornú skúšku musia zložiť osoby, na ktoré sa vzťahuj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stredný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(odborná skúšk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vyšší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(odborná skúšk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najvyšší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(odborná skúška s certifikáto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tupeň odbornej spôsobil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AC3-2440-41C3-A935-18B7C0A1F5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Kto má povinnosť vykonať skúšku?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riadení finanční ag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amostatní finanční ag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+ ich zamestnan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finanční poradcov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+ ich zamestnan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k ide o právnickú osobu, skúšku vykonáva štatutár, resp. vedúci zamestnan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skúšku je potrebné opakovať každé štyri ro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8907-C7BA-4AAF-84F3-15F43555C7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echodné ustanovenia zákona a odborné skúš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lehoty na splnenie požiadaviek odbornej spôsobilosti pre osoby, ktoré už činnosť vykonával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riadení finanční agenti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o 30.9.2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amostatní finanční agenti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o 31.12.2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ich zamestnanci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o 30.9.2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finanční poradcovia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o 31.3.20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ich zamestnanci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o 31.12.2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234-6DCC-41C6-894B-F2883933D1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Forma skúš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dborná skúška - pre stredný a vyšší stupeň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len písomne (resp. elektronick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všetky otázky testovou formou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30 otázok, požadovaná úspešnosť 80% (24 otázok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stanovený čas je 40 minú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dborná skúška s certifikátom – pre najvyšší stupeň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písomná časť – zhodná so skúškou na vyšší stupeň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ústna časť – po úspešnom absolvovaní písomnej časti skúšk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126-263A-4502-87D1-3B0EC65F0D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tázky na skúšku –</a:t>
            </a:r>
            <a:br>
              <a:rPr sz="3600"/>
            </a:b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ísomná ča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tázky nadväzujú na okruhy osobitného finančného vzdelávania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rozdelené sú podľa sektora aj stupňa náročnosti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pre každý sektor je vytvorených viac ako 200 otázok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každý test je tvorený 5 otázkami zo všeobecných znalostí finančného trhu a 25 otázkami zo sektora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všetky otázky spolu s odpoveďami, vrátane vyznačenej správnej odpovede, sú </a:t>
            </a:r>
            <a:r>
              <a:rPr b="1" lang="sk-SK" sz="2500" spc="-1" strike="noStrike">
                <a:solidFill>
                  <a:srgbClr val="000000"/>
                </a:solidFill>
                <a:latin typeface="Tahoma"/>
              </a:rPr>
              <a:t>zverejnené </a:t>
            </a: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na webe NB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639-855C-4075-AAF5-03339BA329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tázky na skúšku – </a:t>
            </a:r>
            <a:br>
              <a:rPr sz="3600"/>
            </a:b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ústna ča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tázky sa nezverejňuj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tázky vychádzajú z okruhov definovaných v prílohe opatrenia NBS č. 9/2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áujem je preveriť vedomosti uchádzačov aj prostredníctvom riešenia prípadových štúdi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úšobná komisia bude mať k dispozícii tzv. „vzorové odpovede“ na jednotlivé otáz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2FC-8F9F-4342-BA6E-A2B0278FA1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rganizácia skúšok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BS poverila organizovaním skúšok pre stredný a vyšší stupeň externých organizátor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 stredný stupeň: SBA, SLASPO, AOCP, AFISP, IB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 vyšší stupeň: IB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 najvyšší stupeň zabezpečí skúšky NBS vo vlastnej réž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aždý organizátor má poverenie vykonávať skúšky zo všetkých sektorov finančného tr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D32-121A-48B5-A10D-92147D856C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ihlasovanie na skúš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uchádzač o vykonanie skúšky si môže zvoliť, u ktorého organizátora skúšku vykoná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uchádzač sa prihlási u ním zvoleného organizátora skúšky, a to určeným spôsobom a v stanovenom termí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ermíny skúšok, organizátor a sektor sú vyhlasované na stránke N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410-40D3-4478-ABD3-94BA4FE5FF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Zákonná úprava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Zákon č. 186/2009 o finančn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sprostredkovaní a finančnom poradenst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v znení zák. č. 129/2010 Z.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4 opatrenia N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1 vyhláška MF S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3B9E-C67B-48DF-B9A2-30F3F3BC0C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oplatky za skúš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patrenie NBS č. 9/2010 určuje poplatky za skúšku tak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tredný stupeň a vyšší stupeň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30 eur za sek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ajvyšší stupe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ísomná časť: 30 eur za sek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ústna časť: 60 eur za sek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1D9-C8D3-48BB-9754-F5EFA54179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Skúšky a NBS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informácie o skúškac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7f9bc0"/>
                </a:solidFill>
                <a:uFillTx/>
                <a:latin typeface="Tahoma"/>
                <a:hlinkClick r:id="rId1"/>
              </a:rPr>
              <a:t>http://regfap.nbs.sk/skus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rganizáto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ermíny všetkých skúš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úšané sek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tázky na skúšku pre každý termín – zohľadnenie zmien legislatív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vičné tes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8B2-D48C-45D1-B46F-81B04DF6DA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Cvičné testy na webe NBS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ostavené z otázok aktuálnych pre vybraný termín skúš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ožnosť zvoliť sektor aj stupeň náročnost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ledovanie uplynulého čas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utomatické vyhodnotenie tes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624-0539-4588-ADA3-9529D51A46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Regulácia odborných skúšok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§ 21 a 22 zákona o finančnom sprostredkovaní a poradenst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patrenie NBS č. 9/2010 o odbornej skúške a odbornej skúške s certifikátom na účely zákona o finančnom sprostredkovaní a finančnom poradenst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úšobný poriad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D7D9-5278-47B5-83BF-8C6A1C4960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Údaje o odborných skúškach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(podľa organizátorov skúš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čet vyhlásených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čet úspeš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termínov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skúšaných osô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280" y="4021200"/>
            <a:ext cx="3962520" cy="2503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05520" y="4176720"/>
            <a:ext cx="3200400" cy="23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C84D-EEC0-4A27-9F82-4E9FEDAFF0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Úspešne vykonané skúšky za jednotlivé sektor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2554200"/>
            <a:ext cx="8856720" cy="382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C2EB-1F30-48EB-886E-E31A5B6719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eskúšané osoby vs. nepreskúšané osob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2920" y="2203560"/>
            <a:ext cx="7993080" cy="42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11F-61BC-4081-9FE8-B278FED6C5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    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79912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5897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8b8c8e"/>
                </a:solidFill>
                <a:latin typeface="Tahoma"/>
              </a:rPr>
              <a:t>slavomir.stastny@nbs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B51-3C5B-4FE6-AA6B-2480A8943C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Finančné sprostredkovanie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Finančné sprostredkova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činnosť smerujúca k uzavretiu zmluvy o finančnej službe, správa zmluvy, vybavovanie nárokov, odborná pomo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ykonávajú finanční ag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D64-C2BA-4717-BDF6-6350F12819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Finančné poradenstvo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Finančné poradenst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skytovanie odbornej pomoci, odporúčaní a osobných finančných plánov klientovi v súvislosti s jednou alebo viacerými finančnými službami vychádzajúce z nestrannej analýzy dostatočného počtu dostupných finančných služieb vrátane následného uzavierania alebo zmeny zmluvy o poskytnutí finančnej služby na žiadosť klienta, v jeho mene a na jeho úč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ykonávajú finanční poradcov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1C73-E9F4-4943-AE7F-729EE66D61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Finanční agenti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soby so sídlom alebo miestom podnikania na území Slovenskej republiky, vykonávajúce finančné sprostredkovanie na základe písomnej zmluvy s finančnou inštitúciou alebo na základe písomnej zmluvy so samostatným finančným agent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ategórie: samostatný, podriadený, viaza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BEE-E3C0-4419-9236-173ED35201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Finanční poradcovia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soby so sídlom alebo miestom podnikania na území Slovenskej republiky, vykonávajúce finančné poradenstvo na základe písomnej zmluvy o poskytnutí finančného poradenstva uzavretej s klientom. Finančný poradca nemôže vykonávať finančné sprostredkovani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2761-9FF0-4816-82D2-CC0D6BFE66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právnenie na výkon činnosti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finančné sprostredkovanie alebo finančné poradenstvo je možné vykonávať len na základe oprávnenia podľa zákona; možno ho získať bu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ydaním povolenia NBS aleb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ápisom do registra finančných agentov a finančných poradcov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1A0-15DF-4E2E-8AE8-B987156AB6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Sektor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istenie a zaiste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apitálový tr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oplnkové dôchodkové spore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jímanie vklad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skytovanie úverov a spotrebiteľských úver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216-414C-48DC-88E1-112918D349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Zákonné požiadav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dborná spôsobilos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ôveryhodnos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rganizačné požiadav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vnútorné predpis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vedúci zamestnane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onduct of business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 u="sng">
                <a:solidFill>
                  <a:srgbClr val="7f9bc0"/>
                </a:solidFill>
                <a:uFillTx/>
                <a:latin typeface="Tahoma"/>
                <a:hlinkClick r:id="rId1"/>
              </a:rPr>
              <a:t>http://www.nbs.sk/sk/dohlad-nad-financnym-trhom/dohlad-nad-financnym-sprostredkovanim-a-financnym-poradenstv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BED-1633-4EA7-BCC8-F72C20B84A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1:54:05Z</dcterms:created>
  <dc:creator>Dana Gergelyová</dc:creator>
  <dc:description/>
  <dc:language>en-US</dc:language>
  <cp:lastModifiedBy>user</cp:lastModifiedBy>
  <dcterms:modified xsi:type="dcterms:W3CDTF">2011-05-17T08:46:34Z</dcterms:modified>
  <cp:revision>12</cp:revision>
  <dc:subject/>
  <dc:title>Slide 1</dc:title>
</cp:coreProperties>
</file>