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2148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F89-88F0-448A-92B0-DF30F442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F71-0C1C-4506-8429-60865CF8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15D-577D-4AA0-B35F-A2784064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2D9B-C730-478F-863E-1B4F3509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716D-07AF-4A27-9D60-0D75DB5E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E689-FA13-4408-948A-52B5D7AF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FD27-2EB7-4228-A347-2F8AEE46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77ED-3ACE-4BE9-B1E6-7E981B96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7512-CA3C-42ED-A94B-8E154DFC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D070-B2FC-4238-B077-8AAF1FAF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5DD1-F6D7-4A4A-8B97-716AA21C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CBD-CE53-4D89-9CBD-3F05A3F8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6D8B-2530-4778-9629-CA73FD86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5543-E7C5-43C3-9EFB-CE9CD709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EC6B-C4FC-4E48-B044-9D385ED1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A559-6529-471A-B1D1-55998279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F77D-8023-434A-8463-339B792E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5F7-8DED-4FC5-971A-37B436A4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EE12-CFEB-441A-8E1D-B1667019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FEE-0C33-4E66-9484-AD862147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02BB-81C0-41DA-9AC5-8539C162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AE8-91AA-4860-944E-239A3A65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BD9-5F1A-4700-BE69-2EFE69B0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8B7-77DC-4F69-9D10-71769642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B54F-E542-4C85-ABA9-40CA311A36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swoosh_3"/>
          <p:cNvPicPr/>
          <p:nvPr/>
        </p:nvPicPr>
        <p:blipFill>
          <a:blip r:embed="rId2"/>
          <a:stretch/>
        </p:blipFill>
        <p:spPr>
          <a:xfrm>
            <a:off x="0" y="2751120"/>
            <a:ext cx="9144000" cy="4106880"/>
          </a:xfrm>
          <a:prstGeom prst="rect">
            <a:avLst/>
          </a:prstGeom>
          <a:ln w="0">
            <a:noFill/>
          </a:ln>
        </p:spPr>
      </p:pic>
      <p:sp>
        <p:nvSpPr>
          <p:cNvPr id="6" name="Text Box 9"/>
          <p:cNvSpPr/>
          <p:nvPr/>
        </p:nvSpPr>
        <p:spPr>
          <a:xfrm>
            <a:off x="395280" y="655308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2774"/>
                </a:solidFill>
                <a:latin typeface="Times New Roman"/>
              </a:rPr>
              <a:t>OVB – špecialista na financie v Euró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OVB-logo s ciarou-RGB bez pozadia"/>
          <p:cNvPicPr/>
          <p:nvPr/>
        </p:nvPicPr>
        <p:blipFill>
          <a:blip r:embed="rId3"/>
          <a:stretch/>
        </p:blipFill>
        <p:spPr>
          <a:xfrm>
            <a:off x="7667640" y="4581360"/>
            <a:ext cx="1136520" cy="97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swoosh_2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664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OVB-logo s ciarou-RGB bez pozadia"/>
          <p:cNvPicPr/>
          <p:nvPr/>
        </p:nvPicPr>
        <p:blipFill>
          <a:blip r:embed="rId3"/>
          <a:stretch/>
        </p:blipFill>
        <p:spPr>
          <a:xfrm>
            <a:off x="1979640" y="692280"/>
            <a:ext cx="5111640" cy="4403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3DF1-3F6E-42A9-8099-EC4A521B6B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390240"/>
            <a:ext cx="8572320" cy="606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Times New Roman"/>
              </a:rPr>
              <a:t>PRAKTICKÉ ASPEKTY IMPLEMENTÁCIE </a:t>
            </a:r>
            <a:br>
              <a:rPr sz="4400"/>
            </a:br>
            <a:r>
              <a:rPr b="1" lang="sk-SK" sz="4400" spc="-1" strike="noStrike">
                <a:solidFill>
                  <a:srgbClr val="333399"/>
                </a:solidFill>
                <a:latin typeface="Times New Roman"/>
              </a:rPr>
              <a:t>slovenského zákona </a:t>
            </a:r>
            <a:br>
              <a:rPr sz="4400"/>
            </a:br>
            <a:r>
              <a:rPr b="1" lang="sk-SK" sz="4400" spc="-1" strike="noStrike">
                <a:solidFill>
                  <a:srgbClr val="333399"/>
                </a:solidFill>
                <a:latin typeface="Times New Roman"/>
              </a:rPr>
              <a:t>o finančnom sprostredkovaní a finančnom poradenstve</a:t>
            </a:r>
            <a:br>
              <a:rPr sz="4400"/>
            </a:br>
            <a:r>
              <a:rPr b="1" i="1" lang="sk-SK" sz="3600" spc="-1" strike="noStrike">
                <a:solidFill>
                  <a:srgbClr val="333399"/>
                </a:solidFill>
                <a:latin typeface="Times New Roman"/>
              </a:rPr>
              <a:t>(Ako sme to prežili)</a:t>
            </a:r>
            <a:br>
              <a:rPr sz="3600"/>
            </a:br>
            <a:br>
              <a:rPr sz="3600"/>
            </a:b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Ivica Chačaturianová</a:t>
            </a:r>
            <a:br>
              <a:rPr sz="4000"/>
            </a:b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Praha 19.máj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E44E-B620-4BAC-B19E-9D5BED74D8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684360" y="2492280"/>
            <a:ext cx="7561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8854-F838-4FA2-BAB1-FCC3F85F89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vizitka_ICH.jpg"/>
          <p:cNvPicPr/>
          <p:nvPr/>
        </p:nvPicPr>
        <p:blipFill>
          <a:blip r:embed="rId1"/>
          <a:stretch/>
        </p:blipFill>
        <p:spPr>
          <a:xfrm>
            <a:off x="142920" y="227160"/>
            <a:ext cx="88218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572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Prológ    (z.č.186/2009 Z.z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5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polutvorba zákona, prechodné d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inančný agent (FA) a finančný poradca (F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/2009 schválenie, 9/2009 novela, 1/2010 účin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010 rok prispôsobenia + základný stupeň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pt./dec. 2011/mar.2012 etapy na splnenie podm. strednej, vyššej a najvyššej odbornej spôsobi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 sektorov, 7 kategórií subjekt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o dec.2010 v registri NBS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 FP, 20 000 VFA a 26 000 P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84360" y="2492280"/>
            <a:ext cx="7561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8771-761E-40AB-BC00-19B29A1AAAE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572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Zákon znamenal a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ýmenu zmlú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formačné protokoly v 5 sektor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T zmeny </a:t>
            </a: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firmy aj AFI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ontroly a nastavenia v personálnom systé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genda - elektronicky a automatizov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ačiatok riešenia odbornej spôsobilosti =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ložitá formula s množstvom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alizačných a výsledkových neznám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kúšky papierovo aj elektronicky – na mie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84360" y="2492280"/>
            <a:ext cx="7561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C015-639A-4E0C-8FC6-AC7154EF9B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572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Odborná spôsobilosť – stredný stupe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414440"/>
            <a:ext cx="87138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zdelanie (bez maturity treba aj 1 rok prax na 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sobitné finančné vzdeláv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dborná skúška (právo, zákon, teó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zdelávajú finančné inštitúcie a vzdelávacie ustanovizne (Vyhláška MF č.600/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kúšajú NBSkou poverené inštitúcie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AFISP, AOCP, IBV, SBA, SLAS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4A4E-C189-4C26-9C49-6D798570F1D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572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ráca work arbeit travail</a:t>
            </a:r>
            <a:r>
              <a:rPr b="0" lang="az-Cyrl-A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z-Cyrl-AZ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бота</a:t>
            </a:r>
            <a:r>
              <a:rPr b="1" lang="sk-SK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uff</a:t>
            </a:r>
            <a:r>
              <a:rPr b="1" lang="az-Cyrl-AZ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FISP projekt na skúšanie + SW (august 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stavenie podmienok v sieti OVB (okt.-no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ilotná skupina (dece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ostupné skúšanie podriadených finančných agentov (január 2011 ..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sú)sektor á 2 mesiace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POI, VKL+ÚVE </a:t>
            </a:r>
            <a:r>
              <a:rPr b="0" i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ebo StSpor.</a:t>
            </a: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KT+D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júl – celozávodná dovolenka </a:t>
            </a:r>
            <a:r>
              <a:rPr b="0" lang="sk-SK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ug+sept – finiš pre PFA a 4 roky vari norm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4360" y="2492280"/>
            <a:ext cx="7561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9377-FCAD-4F37-88C3-F228B8E501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572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VZDELÁVA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utnosť realizovaná ako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lánovanie, evidencia, prezencia, archivá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rganizačné zabezpeč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ONTR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študijné podklady, otáz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latby a D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ermíny a leho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utomatizácia a potvrd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sciplína a uvedomel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84360" y="2492280"/>
            <a:ext cx="7561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2BD7-C8CE-4B51-BD9C-D846B0C480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572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FAKTY A ČÍS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5.4.2011 v NBS reg. 17 000 VFA a 19 000 P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 10.5. AFISP-Asociácia fin.sprostredkovateľov a poradcov –13 336 človekoskúšok, 264 termínov,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BA do 10 000 čs, ostatné 3 subjekty po stovk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 projektový manažér AFISP na plný úväz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VB SR k 15.5. – 8 617 čs, 77 termínov,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o konca júna ešte 33 skúšok (aj 3 den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úspešnosť 97 %, LEBO vzdelávanie+prax+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dhad počtu PFA ku 30.9.2011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84360" y="2492280"/>
            <a:ext cx="7561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0664-93F7-47CB-ACEB-596B859C4AF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572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VÝH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46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rofesionálna podpora profe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amyslenie sa nad svojou prá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odpovednosť a uvedomenie si riz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dravé prečistenie tr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štandardy a zjednotenie úrovne vzdeláv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-learningové mod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oordinácia snáh a spolupráca</a:t>
            </a:r>
            <a:br>
              <a:rPr sz="3200"/>
            </a:b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inančných asociá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E83A-5281-4260-B27D-7A453D97CE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333000"/>
            <a:ext cx="8572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NA ZAMYSLE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očet sektorov 3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inančný poradc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ôležitosť vzdeláv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jprv prax, potom formalizá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áklady a termíny, dôstojnosť v č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Gramotnosť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</a:t>
            </a:r>
            <a:r>
              <a:rPr b="0" lang="sk-SK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db.Spôsobil.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 </a:t>
            </a:r>
            <a:r>
              <a:rPr b="0" lang="sk-SK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chrana Spotrebite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oriadok sa nenastoľuje zákonom, </a:t>
            </a:r>
            <a:br>
              <a:rPr sz="3200"/>
            </a:br>
            <a:r>
              <a:rPr b="1" i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E vhodným príkladom a správaním sa. </a:t>
            </a:r>
            <a:br>
              <a:rPr sz="3200"/>
            </a:br>
            <a:r>
              <a:rPr b="1" i="1" lang="sk-SK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.Lus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684360" y="2492280"/>
            <a:ext cx="7561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čísla snímky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E428-AEDE-4B86-A551-E9D85AAF59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8:56:55Z</dcterms:created>
  <dc:creator>sidonia</dc:creator>
  <dc:description/>
  <dc:language>en-US</dc:language>
  <cp:lastModifiedBy>ICH</cp:lastModifiedBy>
  <dcterms:modified xsi:type="dcterms:W3CDTF">2011-05-17T11:37:13Z</dcterms:modified>
  <cp:revision>189</cp:revision>
  <dc:subject/>
  <dc:title>Snímka 1</dc:title>
</cp:coreProperties>
</file>