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1800" y="1080"/>
            <a:ext cx="2973240" cy="459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28960" y="1080"/>
            <a:ext cx="2975040" cy="459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693720" y="774720"/>
            <a:ext cx="5340240" cy="369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8160" y="4706640"/>
            <a:ext cx="492624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1800" y="9404280"/>
            <a:ext cx="2973240" cy="542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28960" y="9404280"/>
            <a:ext cx="2975040" cy="542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7380DA3-21B6-458F-80AD-72CF1639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28960" y="9404280"/>
            <a:ext cx="2975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6080" bIns="4608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0F388C7-ABA9-4744-AE93-0B0601898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693720" y="774720"/>
            <a:ext cx="5340240" cy="3697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8160" y="4706640"/>
            <a:ext cx="49262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28960" y="9404280"/>
            <a:ext cx="2975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6080" bIns="4608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676D74D-531C-4F4A-AAB0-8676232C5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89040" y="774720"/>
            <a:ext cx="5340240" cy="3697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8160" y="4706640"/>
            <a:ext cx="49262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505F-A2AA-440C-8C9D-5CAB0E625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064760"/>
            <a:ext cx="8839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9C01-9A99-48FA-B000-B94C30755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232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99A4-AA73-46F5-A2DE-77309B876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1520" y="167652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0240" y="167652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06476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1520" y="406476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0240" y="406476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DD04-4C72-4E09-A871-EC7B361C3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160" y="140760"/>
            <a:ext cx="8839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0D92-A6C5-4BF5-BAD2-98A0F79B9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232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064760"/>
            <a:ext cx="8839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4064760"/>
            <a:ext cx="8839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232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21520" y="167652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0240" y="167652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406476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21520" y="406476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0240" y="4064760"/>
            <a:ext cx="284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CE4B-25AB-4C96-B8B3-88F735598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4462-887F-4FFF-A3F2-45EFC75D4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897F-C140-4590-B1AC-8C79F655D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140760"/>
            <a:ext cx="8839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C8F5-64FC-4DA4-AF23-FBE89D2A7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B3E4-68AE-4B1E-B638-E6787DB22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2320" y="406476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B165-4550-47E0-A01C-EFFA28E86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320" y="1676520"/>
            <a:ext cx="4313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064760"/>
            <a:ext cx="8839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47EB-F96E-4543-A4BB-905D2FE0E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ea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906120" cy="1003320"/>
          </a:xfrm>
          <a:prstGeom prst="rect">
            <a:avLst/>
          </a:prstGeom>
          <a:solidFill>
            <a:srgbClr val="0051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87360">
              <a:spcBef>
                <a:spcPts val="1125"/>
              </a:spcBef>
              <a:buClr>
                <a:srgbClr val="0051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920" indent="-285840">
              <a:spcBef>
                <a:spcPts val="1125"/>
              </a:spcBef>
              <a:buClr>
                <a:srgbClr val="0051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11240" indent="-380880"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87520" indent="-285840">
              <a:spcBef>
                <a:spcPts val="1125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387520" indent="-285840">
              <a:spcBef>
                <a:spcPts val="1125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387520" indent="-285840">
              <a:spcBef>
                <a:spcPts val="1125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96216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03C2-8511-409C-BC1E-AECBF6213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558720" y="990720"/>
            <a:ext cx="885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5962680"/>
            <a:ext cx="9906120" cy="895320"/>
          </a:xfrm>
          <a:prstGeom prst="rect">
            <a:avLst/>
          </a:prstGeom>
          <a:solidFill>
            <a:srgbClr val="d3e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87360">
              <a:spcBef>
                <a:spcPts val="1125"/>
              </a:spcBef>
              <a:buClr>
                <a:srgbClr val="0051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920" indent="-285840">
              <a:spcBef>
                <a:spcPts val="1125"/>
              </a:spcBef>
              <a:buClr>
                <a:srgbClr val="0051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11240" indent="-380880"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87520" indent="-285840">
              <a:spcBef>
                <a:spcPts val="1125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387520" indent="-285840">
              <a:spcBef>
                <a:spcPts val="1125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387520" indent="-285840">
              <a:spcBef>
                <a:spcPts val="1125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5240" y="1699920"/>
            <a:ext cx="8839080" cy="26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Investiční společnost </a:t>
            </a:r>
            <a:br>
              <a:rPr sz="3300"/>
            </a:b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Perspektivy kolektivního investování v ČR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679400" y="2862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679400" y="2862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714680" y="31669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122560" y="5072040"/>
            <a:ext cx="74912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9. květ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201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32" descr="Erste_Asset_rgb"/>
          <p:cNvPicPr/>
          <p:nvPr/>
        </p:nvPicPr>
        <p:blipFill>
          <a:blip r:embed="rId1"/>
          <a:stretch/>
        </p:blipFill>
        <p:spPr>
          <a:xfrm>
            <a:off x="6908760" y="6122880"/>
            <a:ext cx="2698920" cy="565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38" descr="iscs1"/>
          <p:cNvPicPr/>
          <p:nvPr/>
        </p:nvPicPr>
        <p:blipFill>
          <a:blip r:embed="rId2"/>
          <a:stretch/>
        </p:blipFill>
        <p:spPr>
          <a:xfrm>
            <a:off x="363600" y="5923080"/>
            <a:ext cx="20224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1B36-1D90-42F0-8705-56D8EC51A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zvoj kolektivního investování v Č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ení vhodných podmínek pro domácí investory i zahraniční inve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chodní infrastruktura a profesionální bankovní služ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egická geografická polo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ra diskrétnosti a ochrana údajů o investore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ý postoj úřadů, které si podnikatele a investora c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voz finančních služ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á IS může zakládat fondy v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set pooling/úspory z rozsahu prostřednictvím přeshraničních fúzí a tří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F682-F20F-42D7-B87A-3341C829B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22"/>
          <p:cNvGraphicFramePr/>
          <p:nvPr/>
        </p:nvGraphicFramePr>
        <p:xfrm>
          <a:off x="311040" y="1027080"/>
          <a:ext cx="8629920" cy="54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027080"/>
                    <a:ext cx="862992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torical comparison of assets under management: funds and discretionary mand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4"/>
          <p:cNvSpPr/>
          <p:nvPr/>
        </p:nvSpPr>
        <p:spPr>
          <a:xfrm flipV="1">
            <a:off x="5781600" y="477792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5"/>
          <p:cNvSpPr/>
          <p:nvPr/>
        </p:nvSpPr>
        <p:spPr>
          <a:xfrm>
            <a:off x="5781600" y="5191200"/>
            <a:ext cx="2801880" cy="717480"/>
          </a:xfrm>
          <a:prstGeom prst="rightArrow">
            <a:avLst>
              <a:gd name="adj1" fmla="val 50000"/>
              <a:gd name="adj2" fmla="val 9762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1.10.2006: insourcing into ISČ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0811-7EE7-4F56-ACCD-B42A32E21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ývoj investic do podílových fon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Graf 4" descr=""/>
          <p:cNvPicPr/>
          <p:nvPr/>
        </p:nvPicPr>
        <p:blipFill>
          <a:blip r:embed="rId1"/>
          <a:stretch/>
        </p:blipFill>
        <p:spPr>
          <a:xfrm>
            <a:off x="317520" y="1639800"/>
            <a:ext cx="93139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A5D1-D014-4756-915C-415D6F93B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ývoj asset management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Chart 1" descr=""/>
          <p:cNvPicPr/>
          <p:nvPr/>
        </p:nvPicPr>
        <p:blipFill>
          <a:blip r:embed="rId1"/>
          <a:stretch/>
        </p:blipFill>
        <p:spPr>
          <a:xfrm>
            <a:off x="360360" y="1200240"/>
            <a:ext cx="91249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A948-D0EC-461C-9716-015563D5C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ámec kolektivního investování v České republ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čnou míra stability sektoru - regulace z EU a dohled ČN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bilní rozvoj i bez přímé státní podpory, jakou má/měla řada finančních produkt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parence – výkaznictví, systém informování klientů (provize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oká přidaná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městnanost vysoce kvalifikovaných osob včetně přidružených pracovních příležitostí pro další vysoce kvalifikované odborníky (účetní, daňoví, právní poradci) – provázanost se vzdělaností a pracovními příležitostmi odborn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kladová konkurence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449C-5C7B-4051-9D7A-EF1D3126B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dmínky umístění zahraničního kapitálu v Č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ní legislativní zákla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fektivní daňový syst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zitivní působení státních institucí na rozvoj seg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E3E3-2A07-4699-A16C-DB9DD0768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egislativní základ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stranění administrativních bariér –dlouhé schvalování statutů a jejich změn, obchodní rejstřík, zjednodušení výk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xibilita systému – umožnění různých struktur, podfondy, jednoduché a diversifikované fungování tříd podílových listů, struktura SICAV, případně umožnění Master-feeder struktury i pro speciální fon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PP projekty prostřednictvím fondů (např. Infrastructure funds v Německu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litní penzijní reforma – příliv značného množství investic na kapitálový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ující a rychlá judikatura/alternativní řešení sp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á inspirace výkladovými materiály CESR a FSA pro ČNB pro zajištění právní jistoty subjektů působících na kapitálovém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6E59-DACB-4364-BE16-D04F902EB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zitivní působení státních institucí na rozvoj segment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ordinace činností jednotlivých státních orgá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 marginální změny v oblasti legislativy a daňové oblasti vyžadují, aby byly prováděny s ohledem na rozvoj kapitálového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louhodobý rozvoj finanční gramotnosti obyvatel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ivita zástupců ČR v rámci EU při přípravě nové evropské legislati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upráce státu s profesními asociacemi již i v prvotních legislativních fázích (příprava koncepčních materiá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číslo snímku 3"/>
          <p:cNvSpPr/>
          <p:nvPr/>
        </p:nvSpPr>
        <p:spPr>
          <a:xfrm>
            <a:off x="3962520" y="64008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7A47-8DC0-4B0E-8046-7B51B74FE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140760"/>
            <a:ext cx="8839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aňový systé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kurenceschopná míra zdanění na straně fondů a na straně investo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duchá administrativa pro zdanění investic občanů (časový test), i společ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518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ožnění odpisů fon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dix</dc:creator>
  <dc:description/>
  <dc:language>en-US</dc:language>
  <cp:lastModifiedBy>Jakub Hrbek</cp:lastModifiedBy>
  <dcterms:modified xsi:type="dcterms:W3CDTF">2011-05-11T18:36:35Z</dcterms:modified>
  <cp:revision>1671</cp:revision>
  <dc:subject/>
  <dc:title>COST CENTER REPORT   Česká spořitelna, a.s.  July 2002 YTD</dc:title>
</cp:coreProperties>
</file>