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5590-387A-4CA6-B518-2552CCAA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FEF1-3CD1-42D5-841B-ACF59F72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0CA7-2A03-4688-B5FB-63055229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76D9-D1A8-4402-8C7C-699B152CC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CFA5-B8C7-4F14-AE91-6EDFB949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7E35-2145-400B-810B-4662032A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6EF0-232B-4BC8-BA89-B899E674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68D3-9627-4FEE-AC5C-A4B10FA3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7ABC-9CFD-472F-B0DE-008A7CD1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88C1-5BAD-45D6-8564-0DE078B1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7FA2-0856-491F-A7F9-A5E51D20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567A-D33E-4A50-9712-62DAD3FA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3F07-F1EA-4BF6-A10A-669BA100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9D16-0529-4090-9C05-B03F467C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3E77-85FB-4E41-9934-E7091DCF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D688-4EA9-47E2-9C52-A17617F4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3DAA-2864-4E9C-ACC9-6CA6D45C1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7828-AE29-4A71-B7AB-38E26063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3A61-35A3-470F-93BF-6D282325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77EE-2064-4A04-AA73-D76FA2DC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C579-87E8-428D-B6C4-4F7B54F6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3FA4-F7FD-4B76-A35A-D4B3B3D8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DEC3-F190-425E-9451-E6D7C0EF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BA1C-C6D8-45D9-BF36-536BD481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C64A-38F0-4CA8-93BF-84DBA2ABD2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AB5C-2C11-4347-BDDC-BDEB4D414D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Změny v daňové úpravě kolektivního investování</a:t>
            </a:r>
            <a:br>
              <a:rPr sz="48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/zákon č. 586/1992 Sb., o daních z příjmů/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g. Stanislav Špring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sterstvo financí České republi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Děkuji za pozornost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Kontakt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Stanislav. Springl@mfcr.c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+ 420 25704 428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Změny v roce 2010 a 201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Úpravy zákonem č. 346/2010 S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íše formální změny týkající se zahraničních investor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ě definován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ituce penzijního pojiště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hraniční fond kolektivního investová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ílem návrhu byl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stranění  pochybností o slučitelnosti právní úpravy s principy práva 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 konkrétních kriterií pro zahraniční fondy, které musí splnit, aby mohly mít obdobný daňový režim jako tuzemské fon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Změny v roce 2010 a 201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provodné úpravy ke změně zákona o kolektivním investován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Parlament ČR, účinnost ke dni vyhlášení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dílové fondy – poplatníci da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dílovému fondu se výslovně přiznává postavení poplatníka DPPO. Tato úprava ale nezakládá vlastnictví majetku ani právní subjektivitu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finice povinností investiční společnost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dpovědnost za daňové úkony podílových fondů nese i nadále investiční společnost, která je obhospodařuj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plácení podílů na výnose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ko zálo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ní považováno za dividendový příjem. U FO zdaněno srážkovou daní, u PO v základu daně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lučování podílových fon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ovení povinností při slučování fondů, „ nástupnický obhospodařovatel fondu“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řipravované změn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orma přímých daní a odvodů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část návrhu zákona  o změně zákonů v souvislosti se zřízením jednoho inkasního mí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kračování důchodové refo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část návrhu zákona, kterým se mění některé zákony v souvislosti s přijetím zákona o důchodovém spoření a zákona o doplňkovém penzijním spoření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vrhovaná účinnost obou změn k 1.1.20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„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eformní“ novela zákona o daních z příjmů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Základní princip/cíl úprav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naha o daňovou neutralitu při přímém investování individuálního investora a investování prostřednictvím fondů kolektivního invest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mezení nežádoucí daňové optimalizace, resp. odstranění neodůvodnitelného daňového zvýhodnění investic prováděných prostřednictvím fondů („mateřská společnost“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lavní změ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zba daně z příjmu pr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stiční fon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ílové fon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nzijní fon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ve výši 0%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opady nulového zdaněn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stor právnická osob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běžný investor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žší míra zdaně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írné zvýšení zdanění dividend (nově srážková daň ve výši DPPO), kompenzováno nulovou sazbou dan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stor právnická osob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„mateřská společnost“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lze uplatnit „dividendovou“ směrnici tj. nedochází k osvobození při výplatě dividend a při prodej podí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opady nulového zdaněn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stor fyzická osoba (běžné fondy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žší míra zdaně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i uplatnění časového testu žádné zdanění inves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i výplatě dividend srážková daň – přijaté dividendy nadále vyloučeny ze základu dan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stor fyzická osoba (speciální fondy)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 fondy kvalifikovaných investorů a nemovitostní fondy přestává platit osvobození (časový te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ůchodová reforma – změna zákona o daních z příjmů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jné podmínky pro penzijní společnosti jako pro investiční společ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jné podmínky pro fondy penzijních společností jako pro podílové fon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ůstává osvobození fondů penzijních společností od placení srážkové daně z divid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4:58:54Z</dcterms:created>
  <dc:creator>Petercová Lucia, Mgr.</dc:creator>
  <dc:description/>
  <dc:language>en-US</dc:language>
  <cp:lastModifiedBy>Špringl Stanislav, Ing.</cp:lastModifiedBy>
  <dcterms:modified xsi:type="dcterms:W3CDTF">2011-05-17T16:32:51Z</dcterms:modified>
  <cp:revision>23</cp:revision>
  <dc:subject/>
  <dc:title>Snímek 1</dc:title>
</cp:coreProperties>
</file>