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0EC-1478-454A-B585-2134C6D5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388-E4B0-4231-9474-F8E9A2C7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1673-B9CB-44CB-AF76-544FD20F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ADB-271F-49E7-AE9A-8275F0E4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D91A-065B-4A96-8C11-F89DFDEF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9012-2826-48DC-982E-3D7DA820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E8A0-1E5E-455B-A209-4CFB293A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1A10-FA25-456D-8ADE-AD218A95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8E27-C208-42E9-A4FD-057FFA97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F671-7234-4501-840A-F996E551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4D4A-7EDC-485D-8FC2-C765EE93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5BB3-5A5E-453B-9DBC-82BC4BB0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E1B9-E885-4B24-BACE-2AAF6285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1E93-6E64-45E8-9AB4-17337DD4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8D83-F636-4087-8904-09246A70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3DE4-6D2C-4601-8ADD-46AC7AE7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FB34-4B67-4E36-8AE3-CFF8BF7F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4FC-3DB4-4412-A705-45698F7B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DEA-B8B5-4120-BE7F-61F93292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FBD-E1A2-4D22-92E3-C35D8B53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C9C-083F-4645-BBD3-45938434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63E-6EE0-4A3B-95C6-C7899E35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C73-33A8-43D5-99EC-93EC3C58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BAFB-FD34-4690-8C02-A1C714B2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5BBB-2E9B-44E6-A155-E0EF8A26422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94a45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097A-9727-46DC-81EF-1623A2A5EC8B}" type="slidenum">
              <a:rPr b="1" lang="en-US" sz="1200" spc="-1" strike="noStrike">
                <a:solidFill>
                  <a:srgbClr val="494a4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4a45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gfap.nbs/informacne-povinnos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bs.sk/sk/dohlad-nad-financnym-trhom/dohlad-nad-financnym-sprostredkovanim-a-financnym-poradenstvom/zosuladovacie-povinnosti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egfap.nbs.sk/skusky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4005000"/>
            <a:ext cx="87087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3881"/>
                </a:solidFill>
                <a:latin typeface="Tahoma"/>
              </a:rPr>
              <a:t>Začína skúškové obdobie pre finančných sprostredkovateľov</a:t>
            </a:r>
            <a:r>
              <a:rPr b="0" lang="sk-SK" sz="3200" spc="-1" strike="noStrike">
                <a:solidFill>
                  <a:srgbClr val="00388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560" y="479700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7f9bc0"/>
                </a:solidFill>
                <a:latin typeface="Tahoma"/>
              </a:rPr>
              <a:t>Ako bezpečne splniť podmienky nového zákona o finančnom sprostredkovaní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7f9bc0"/>
                </a:solidFill>
                <a:latin typeface="Tahoma"/>
              </a:rPr>
              <a:t>a poradenstve, problémy z praxe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5805360"/>
            <a:ext cx="907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5. november 2010 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Slavomír Šťast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Hotel GRAND, Vysoké Tatry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Národná banka Slovens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68680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03881"/>
                </a:solidFill>
                <a:latin typeface="Tahoma"/>
              </a:rPr>
              <a:t>Špecifické pravidlá pre kapitálový trh (§37)</a:t>
            </a:r>
            <a:endParaRPr b="1" lang="en-US" sz="30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785960"/>
            <a:ext cx="81360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Finančný agent v sektore kapitálového trhu nie je oprávnen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poskytovať inú investičnú službu ako </a:t>
            </a:r>
            <a:r>
              <a:rPr b="1" lang="sk-SK" sz="1700" spc="-1" strike="noStrike">
                <a:solidFill>
                  <a:srgbClr val="000000"/>
                </a:solidFill>
                <a:latin typeface="Tahoma"/>
              </a:rPr>
              <a:t>prijatie a postúpenie pokynu</a:t>
            </a: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1" lang="sk-SK" sz="1700" spc="-1" strike="noStrike">
                <a:solidFill>
                  <a:srgbClr val="000000"/>
                </a:solidFill>
                <a:latin typeface="Tahoma"/>
              </a:rPr>
              <a:t>investičné poradenstv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prijímať peňažné prostriedky alebo finančné nástroje klientov, t.j. </a:t>
            </a:r>
            <a:r>
              <a:rPr b="1" lang="sk-SK" sz="1700" spc="-1" strike="noStrike">
                <a:solidFill>
                  <a:srgbClr val="000000"/>
                </a:solidFill>
                <a:latin typeface="Tahoma"/>
              </a:rPr>
              <a:t>nesmie inkasovať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a finančného agenta v sektore KT sa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ahoma"/>
              </a:rPr>
              <a:t>nevzťahuj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všeobecné pravidlá (§ 28),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oprávnenie získavať osobné údaje  a iné informácie (§ 31),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Pravidlá pre poplatky a provízie (§ 32),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Pravidlá pre posudzovanie klientov (§ 35),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Pravidlá pre vedenie záznamov (§ 36 ods. 1 až 6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284c6a"/>
                </a:solidFill>
                <a:latin typeface="Tahoma"/>
              </a:rPr>
              <a:t>Vzťahujú sa pravidlá zo ZoCP! - MiF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lide Number Placeholder 7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CE83-5CC6-4A7C-899A-9930D521A269}" type="slidenum">
              <a:rPr b="1" lang="sk-SK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58E-C863-4371-88F3-8F557AB604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400" spc="-1" strike="noStrike">
                <a:solidFill>
                  <a:srgbClr val="003881"/>
                </a:solidFill>
                <a:latin typeface="Tahoma"/>
              </a:rPr>
              <a:t>Informačná povinnosť voči NBS</a:t>
            </a:r>
            <a:endParaRPr b="1" lang="en-US" sz="34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meny údajov používaných v licenčnom kona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právy vedúceho zamestnan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ýkazy o vykonávaní čin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mluvy s finančnými inštitúcia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nútorné predpi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7f9bc0"/>
                </a:solidFill>
                <a:uFillTx/>
                <a:latin typeface="Tahoma"/>
                <a:hlinkClick r:id="rId1"/>
              </a:rPr>
              <a:t>http://regfap.nbs/informacne-povinnost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- pripravuje 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660-7CA6-426A-8A10-739E3860FA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eukazovanie zosúlaďovania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driadené subjekty preukazujú nadriadeným (správcovská spoločnosť, resp. samostatný finančný ag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amostatní finanční agenti preukazujú NB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Elektronicky prostredníctvom internetovej aplikácie NBS (vybrané dokumenty písomn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pustenie v priebehu decembr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rihlasovacie meno a heslo pridelené NB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7f9bc0"/>
                </a:solidFill>
                <a:uFillTx/>
                <a:latin typeface="Tahoma"/>
                <a:hlinkClick r:id="rId1"/>
              </a:rPr>
              <a:t>http://www.nbs.sk/sk/dohlad-nad-financnym-trhom/dohlad-nad-financnym-sprostredkovanim-a-financnym-poradenstvom/zosuladovacie-povin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13E0-5D42-462D-BB90-94CCB3D1BB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dborné skúšk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81E7-66E8-4840-8868-0B423E9969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dborná skúška a stupne odbornej spôsobilosti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ľa zákona odbornú skúšku musia zložiť osoby, na ktoré sa vzťahuj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stredný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(odborná skúšk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vyšší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(odborná skúšk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najvyšší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(odborná skúška s certifikáto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tupeň odbornej spôsobil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265-005B-4C72-86DA-329D43CB64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Kto má povinnosť vykonať skúšku?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driadení finanční ag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amostatní finanční ag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+ ich zamestnanci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finanční poradcovia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+ ich zamestnanci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k ide o právnickú osobu, skúšku vykonáva štatutár, resp. vedúci zamestnane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Skúšku je potrebné opakovať každé štyri rok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448-64B7-4EA9-8095-7D8888E653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Forma skúš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Odborná skúška - pre stredný a vyšší stupeň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len písomne (resp. elektronick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všetky otázky testovou formou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30 otázok, požadovaná úspešnosť 80% (24 otázok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stanovený čas je 40 minú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Odborná skúška s certifikátom – pre najvyšší stupeň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písomná časť – zhodná so skúškou na vyšší stupeň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ústna časť – po úspešnom absolvovaní písomnej časti skúšk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866B-5D58-4A98-A2A1-489DB13814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tázky na skúšku –</a:t>
            </a:r>
            <a:br>
              <a:rPr sz="3600"/>
            </a:b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ísomná ča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otázky nadväzujú na okruhy osobitného finančného vzdelávania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rozdelené sú podľa sektora aj stupňa náročnosti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pre každý sektor je vytvorených viac ako 200 otázok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každý test je tvorený 5 otázkami zo všeobecných znalostí finančného trhu a 25 otázkami zo sektora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všetky otázky spolu s odpoveďami, vrátane vyznačenej správnej odpovede, sú </a:t>
            </a:r>
            <a:r>
              <a:rPr b="1" lang="sk-SK" sz="2500" spc="-1" strike="noStrike">
                <a:solidFill>
                  <a:srgbClr val="000000"/>
                </a:solidFill>
                <a:latin typeface="Tahoma"/>
              </a:rPr>
              <a:t>zverejnené </a:t>
            </a: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na webe NB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4FD6-F34F-4BED-8D51-0D5544DA4B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tázky na skúšku – </a:t>
            </a:r>
            <a:br>
              <a:rPr sz="3600"/>
            </a:b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ústna ča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otázky sa nezverejňujú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otázky vychádzajú z okruhov definovaných v prílohe opatrenia NBS č. 9/2010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záujem je preveriť vedomosti uchádzačov aj prostredníctvom riešenia prípadových štúdií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kúšobná komisia bude mať k dispozícii tzv. „vzorové odpovede“ na jednotlivé otáz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6059-E90C-4F96-B21D-EA7C9F6E71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rganizácia skúšok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BS poverila organizovaním skúšok pre stredný a vyšší stupeň externých organizátor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e stredný stupeň: SBA, SLASPO, AOCP, AFISP, IB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e vyšší stupeň: IB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e najvyšší stupeň zabezpečí skúšky NBS vo vlastnej réž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každý organizátor má poverenie vykonávať skúšky zo všetkých sektorov finančného trh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uchádzač o vykonanie skúšky si môže zvoliť, u ktorého organizátora skúšku vykon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5D9D-BE9D-4C55-B6DE-6E3086AF61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k-SK" sz="1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Čo znamená zosúladiť sa so zákon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Odborné skúš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Časté otázky dohliadaných subjekto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4C1D-5C89-498C-AB7A-50FBF40F89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ihlasovanie na skúš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uchádzač sa prihlási u ním zvoleného organizátora skúšky, a to určeným spôsobom a v stanovenom termí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úšky pre stredný a vyšší stupeň už prebiehaj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e najvyšší stupeň plánuje NBS do konca tohto roka vyhlásiť 2 termíny (predpoklad je dece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6FF-123B-4014-8B8F-B3CBF6048A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Skúšky a NBS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informácie o skúškac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7f9bc0"/>
                </a:solidFill>
                <a:uFillTx/>
                <a:latin typeface="Tahoma"/>
                <a:hlinkClick r:id="rId1"/>
              </a:rPr>
              <a:t>http://regfap.nbs.sk/skus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organizátor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termíny všetkých skúšo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skúšané sekto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otázky na skúšku pre každý termín – zohľadnenie zmien legislatív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cvičné tes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AE89-4FEC-4490-B071-4721AD2854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Cvičné testy na webe NBS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ostavené z otázok aktuálnych pre vybraný termín skúš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ožnosť zvoliť sektor aj stupeň náročnost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ledovanie uplynulého čas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utomatické vyhodnotenie tes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cca 800 ukončených testov denne (maximum 1500 den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DD38-F2A2-422D-A1E2-686408B526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881"/>
                </a:solidFill>
                <a:latin typeface="Tahoma"/>
              </a:rPr>
              <a:t>Cvičné testy NBS – údaje k 25.10.2010</a:t>
            </a:r>
            <a:endParaRPr b="1" lang="en-US" sz="28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19280" y="1897200"/>
            <a:ext cx="5977080" cy="45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CCCA-6BDD-43A4-96C8-02B819715E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oplatky za skúš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patrenie NBS č. 9/2010 určuje poplatky za skúšku tak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tredný stupeň a vyšší stupeň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30 eur za sek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ajvyšší stupe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ísomná časť: 30 eur za sek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ústna časť: 60 eur za sek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E1EB-BE60-4B9C-AB0F-610FE4B230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echodné ustanovenia zákona a odborné skúš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ákonné lehoty na splnenie požiadaviek odbornej spôsobilosti pre osoby, ktoré osoby, ktoré už vykonávajú činnosť sú nasledovné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podriadení finanční agenti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do 30.9.20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samostatní finanční agenti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do 31.12.20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ich zamestnanci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do 30.9.20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finanční poradcovia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do 31.3.20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ich zamestnanci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do 31.12.20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a účely zákona o finančnom sprostredkovaní a poradenstve skúšky vykonané podľa doterajších predpisov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neplat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8EC-723A-4D8E-A701-662BF0C302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Regulácia odborných skúšok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§ 21 a 22 zákona o finančnom sprostredkovaní a poradenst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patrenie NBS č. 9/2010 o odbornej skúške a odbornej skúške s certifikátom na účely zákona o finančnom sprostredkovaní a finančnom poradenst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úšobný poriad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D978-6C18-4CAD-B389-454FF759DB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íklad otázok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500" spc="-1" strike="noStrike">
                <a:solidFill>
                  <a:srgbClr val="000000"/>
                </a:solidFill>
                <a:latin typeface="Tahoma"/>
              </a:rPr>
              <a:t>Ktoré podielové fondy ukladajú väčšinu svojich aktív do podielových listov a akcií iných investičných fondov?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ahoma"/>
              </a:rPr>
              <a:t>a) fondy fondov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ahoma"/>
              </a:rPr>
              <a:t>b) dlhopisové fond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ahoma"/>
              </a:rPr>
              <a:t>c) akciové fond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2FE-69B9-436D-8C56-31B9F6A2E4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Časté otázky dohliadaných subjektov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19CF-7988-4FF9-B7EB-CB1519E2BA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k chce SFA zabezpečovať osobitné finančné vzdelávanie PFA, musí mať vo výpise z OR v predmete činnosti aj vzdelávanie, ak si toto vzdelávanie nefakturuje voči PF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Môže byť vedúci zamestnanec a štatutár tá istá osob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avidlá pre preukazovanie odbornej spôsobilosti subjektov, ktoré začnú činnosť vykonávať v roku 201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Môže finančný sprostredkovateľ z iného členského štátu registrovať „svojho“ PF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verejňovanie provízií / odmien. Kto je povinný zverejňovať / na požiadanie / odmeny? Aké pravidlá platia pre SFA, PFA, zamestnanca SFA? Je potrebné dokladovať výšku odmeny v prípade jej oznámenia klientovi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9CF1-800E-482D-9EC4-E4FD30B599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Zosúlaďovanie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Oprávnenie na činnosť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5000"/>
              </a:lnSpc>
              <a:spcBef>
                <a:spcPts val="3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Povolenie/registrác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Odborná spôsobilosť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Dôveryhodnosť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Organizačné požiadavk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5000"/>
              </a:lnSpc>
              <a:spcBef>
                <a:spcPts val="3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Vnútorné predpi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5000"/>
              </a:lnSpc>
              <a:spcBef>
                <a:spcPts val="3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Vedúci zamestnane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5000"/>
              </a:lnSpc>
              <a:spcBef>
                <a:spcPts val="3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Konflikt záuj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Conduct of business ru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Zodpovednosť za škod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Zverejňovanie provízi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Poskytovanie informácií klientov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Posudzovanie klient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Archivá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Informačná povinnosť voči NB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ahoma"/>
              </a:rPr>
              <a:t>Termín: 31.12.20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výnimkou je odborná spôsobilosť, kde sú lehoty </a:t>
            </a:r>
            <a:r>
              <a:rPr b="1" lang="sk-SK" sz="1400" spc="-1" strike="noStrike">
                <a:solidFill>
                  <a:srgbClr val="000000"/>
                </a:solidFill>
                <a:latin typeface="Tahoma"/>
              </a:rPr>
              <a:t>predĺžené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D769-C083-4347-9037-410F08E8FE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79912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Ďakujem za pozornosť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566100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8b8c8e"/>
                </a:solidFill>
                <a:latin typeface="Tahoma"/>
              </a:rPr>
              <a:t>slavomir.stastny@nbs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1096-0C9D-4911-8227-9C4EE24F008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právnenie na činno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utomatická transformácia „starých oprávnení“ na „nové oprávnenia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19640" y="3284640"/>
            <a:ext cx="176040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7DA-C8B8-45C1-A318-BEA0BD3F87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právnenie na činno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Osoby, ktoré pred 1.1.2010 spolupracovali so sprostredkovateľom IS a majú záujem vykonávať činnosť aj po 1.1.2011 musia byť do 31.12.2010 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zaregistrované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637080" y="3789360"/>
            <a:ext cx="1584360" cy="8636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9080" y="4653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7080" y="5445000"/>
            <a:ext cx="1800000" cy="8636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386064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386064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soba spolupracujúca so 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551664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odriadený finančný agent v sektore K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479736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F2B2-BF3E-43E0-AC75-F06CFDC264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právnenie na činno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k má správcovská spoločnosť záujem využívať na distribúciu svojich produktov sprostredkovateľské siete, tieto musia byť zapísané v registri vedenom NB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348000" y="3429000"/>
            <a:ext cx="2232000" cy="2881440"/>
            <a:chOff x="3348000" y="3429000"/>
            <a:chExt cx="2232000" cy="2881440"/>
          </a:xfrm>
        </p:grpSpPr>
        <p:sp>
          <p:nvSpPr>
            <p:cNvPr id="107" name=""/>
            <p:cNvSpPr/>
            <p:nvPr/>
          </p:nvSpPr>
          <p:spPr>
            <a:xfrm>
              <a:off x="4211640" y="429408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19640" y="5086440"/>
              <a:ext cx="1800000" cy="1224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90920" y="3502080"/>
              <a:ext cx="1440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90920" y="3632040"/>
              <a:ext cx="144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400" spc="-1" strike="noStrike">
                  <a:solidFill>
                    <a:srgbClr val="000000"/>
                  </a:solidFill>
                  <a:latin typeface="Arial"/>
                </a:rPr>
                <a:t>Správcovská spoločnos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90920" y="530208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400" spc="-1" strike="noStrike">
                  <a:solidFill>
                    <a:srgbClr val="000000"/>
                  </a:solidFill>
                  <a:latin typeface="Arial"/>
                </a:rPr>
                <a:t>viazaný finančný agent v sektore K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83280" y="4438800"/>
              <a:ext cx="12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800" spc="-1" strike="noStrike">
                  <a:solidFill>
                    <a:srgbClr val="000000"/>
                  </a:solidFill>
                  <a:latin typeface="Arial"/>
                </a:rPr>
                <a:t>registrá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48000" y="3429000"/>
              <a:ext cx="1657440" cy="865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EA51-0716-4841-A158-D6E6BEF3C7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Zákonné požiadav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dborná spôsobilos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ôveryhodnos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rganizačné požiadav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vnútorné predpis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vedúci zamestnanec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onduct of business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8DD5-FC12-47A0-82CA-B6D520817C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rganizačné požiadavky </a:t>
            </a:r>
            <a:br>
              <a:rPr sz="3600"/>
            </a:b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– vedúci zamestnanec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právomoci a povinnosti (§ 25, vnútorný predpi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zodpovednosť 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do vnút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odpovednosť za podriadené zlož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reporting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práva o plnení povinností kontroly nad podriadenými zložkami (§ 2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práva o vykonávaní funkcie vedúceho zamestnan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7E80-A0AF-4048-8E33-D9117B17C2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rganizačné požiadavky </a:t>
            </a:r>
            <a:br>
              <a:rPr sz="3600"/>
            </a:b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– vedúci zamestnanec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11280" y="2089080"/>
            <a:ext cx="7991280" cy="436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06C-6DD8-4E5E-8D83-F3C1B515BE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1:54:05Z</dcterms:created>
  <dc:creator>Dana Gergelyová</dc:creator>
  <dc:description/>
  <dc:language>en-US</dc:language>
  <cp:lastModifiedBy>Dana Gergelyová</cp:lastModifiedBy>
  <dcterms:modified xsi:type="dcterms:W3CDTF">2010-10-27T13:48:41Z</dcterms:modified>
  <cp:revision>8</cp:revision>
  <dc:subject/>
  <dc:title>Slide 1</dc:title>
</cp:coreProperties>
</file>