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5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33.jpeg" ContentType="image/jpeg"/>
  <Override PartName="/ppt/media/image10.png" ContentType="image/png"/>
  <Override PartName="/ppt/media/image28.wmf" ContentType="image/x-wmf"/>
  <Override PartName="/ppt/media/image9.png" ContentType="image/png"/>
  <Override PartName="/ppt/media/image31.jpeg" ContentType="image/jpeg"/>
  <Override PartName="/ppt/media/image2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19.jpeg" ContentType="image/jpeg"/>
  <Override PartName="/ppt/media/image29.wmf" ContentType="image/x-wmf"/>
  <Override PartName="/ppt/media/image1.png" ContentType="image/png"/>
  <Override PartName="/ppt/media/image2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303960"/>
            <a:ext cx="23112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Názov prezentáci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28E6-97AE-410C-ABC2-3590187A7C7F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8ABEECB-028E-46F3-A8E0-5DF11141209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6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rste_Asset_rgb"/>
          <p:cNvPicPr/>
          <p:nvPr/>
        </p:nvPicPr>
        <p:blipFill>
          <a:blip r:embed="rId2"/>
          <a:stretch/>
        </p:blipFill>
        <p:spPr>
          <a:xfrm>
            <a:off x="468360" y="6093000"/>
            <a:ext cx="2698560" cy="56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AM SLSP cmyk kopie"/>
          <p:cNvPicPr/>
          <p:nvPr/>
        </p:nvPicPr>
        <p:blipFill>
          <a:blip r:embed="rId3"/>
          <a:stretch/>
        </p:blipFill>
        <p:spPr>
          <a:xfrm>
            <a:off x="5435640" y="6237360"/>
            <a:ext cx="32828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46800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33A1-10C7-45D1-AEB1-2F457A2DF261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0A8EBB5-3BE8-41CD-A861-79D5096C4F6F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1125360"/>
            <a:ext cx="8140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3680" y="342900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6. November 2010 – Nízke Tatry, Jas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ter H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enior portfolio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sset Management Slovenskej sporiteľ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ráv. spol.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124C-3C4D-4E6D-BA2D-45B41936733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9F9DF51-9495-41DD-A77D-BB2749AA944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244520" y="1989000"/>
            <a:ext cx="620712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39640" y="134136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e miery inflácie vo svete momentálne podporujú hlavné centrálne banky sveta (ECB, FED a BoJ) v pokračovaní silne expanzívnej menovej politi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ĺžnik 8"/>
          <p:cNvSpPr/>
          <p:nvPr/>
        </p:nvSpPr>
        <p:spPr>
          <a:xfrm>
            <a:off x="1194840" y="5661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D0A7-0E2B-477E-A59F-9BCE80CA534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5C16FD0-3745-4584-906E-D60FD74F116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518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merické a nemecké výnosy štátnych dlhopisov na historických minimách, strhujúca rally počas roku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ex finančných podmienok v USA sa stále zlepšuje – dosiahnutie neutrálnej úrovne (už nepredstavuje negatívny efe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olatilita a strmosť kriviek sa postupne normalizujú, iba kreditné prirážky ostávajú výrazne vyššie (viac ako 1 S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ízke inflačné očakávania investorov, nízke využitie výrobných fakto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blémy dlhového financovania v krajinách eurozóny – hlavné ekonomiky vs. okraj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výšenie atraktivity vybraných EM trhov – vyšší hosp. rast - rastúca kreditná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\\shq404\MPPAMSLSP\OBRAZKY\j0399221.jpg"/>
          <p:cNvPicPr/>
          <p:nvPr/>
        </p:nvPicPr>
        <p:blipFill>
          <a:blip r:embed="rId1"/>
          <a:stretch/>
        </p:blipFill>
        <p:spPr>
          <a:xfrm>
            <a:off x="5435640" y="1884240"/>
            <a:ext cx="37051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56CB-6EF5-451E-A01C-2330D075660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A14EC8A-3347-4AFD-96CF-10C5F0E679C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912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malenie ekonomiky, nízka jadrová inflácia, kľúčové sadzby na minimách a riziková averzia investorov vytvárali podporu pre hlavné dlhopisové trhy v USA a Nemec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výnosy dosiahli historické mini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733400" y="2205000"/>
            <a:ext cx="5934240" cy="3791160"/>
          </a:xfrm>
          <a:prstGeom prst="rect">
            <a:avLst/>
          </a:prstGeom>
          <a:ln w="0">
            <a:noFill/>
          </a:ln>
        </p:spPr>
      </p:pic>
      <p:sp>
        <p:nvSpPr>
          <p:cNvPr id="187" name="Obdĺžnik 8"/>
          <p:cNvSpPr/>
          <p:nvPr/>
        </p:nvSpPr>
        <p:spPr>
          <a:xfrm>
            <a:off x="1686960" y="591984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BlokTextu 6"/>
          <p:cNvSpPr/>
          <p:nvPr/>
        </p:nvSpPr>
        <p:spPr>
          <a:xfrm>
            <a:off x="2310480" y="2133720"/>
            <a:ext cx="34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ývoj 10Y výnosu USA a GER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A943-12C3-4C35-9E34-77375455CB7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29B1CC5-3027-4FB1-85CE-50BD5739BDD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3024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adzby FEDu na minime a pravdepodobne budú dlhší čas níz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spekt ďalšieho kola kvantitatívneho uvoľňovania – pozitívne pre dlho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o-inflačné prostredie z pohľadu F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Ekonomický vývoj zaostáva za potenciálom – output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egatívom US štátnych dlhopisov je veľmi nízky nominálny výn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3551400" y="1413000"/>
            <a:ext cx="5052960" cy="3240000"/>
          </a:xfrm>
          <a:prstGeom prst="rect">
            <a:avLst/>
          </a:prstGeom>
          <a:ln w="0">
            <a:noFill/>
          </a:ln>
        </p:spPr>
      </p:pic>
      <p:sp>
        <p:nvSpPr>
          <p:cNvPr id="193" name="Obdĺžnik 8"/>
          <p:cNvSpPr/>
          <p:nvPr/>
        </p:nvSpPr>
        <p:spPr>
          <a:xfrm>
            <a:off x="3499920" y="458136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FB97-564E-4652-9B11-1ED62BB160BA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7CFDFA0-8EAF-4B7D-94BD-DC101FE4B65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Obdĺžnik 8"/>
          <p:cNvSpPr/>
          <p:nvPr/>
        </p:nvSpPr>
        <p:spPr>
          <a:xfrm>
            <a:off x="3499920" y="458136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68360" y="1341360"/>
            <a:ext cx="3166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adzby ECB ostávajú veľmi níz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malenie ekonomického vývoja vo viacerých krajinách eurozó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tek ku kvalite (Nemecko vs. okrajové ekonomiky PII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a inflácia vytvára podporu dlhopis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egatívom pre dlhopisy EÚ je pomerne vysoká aktivita štátnych emitentov na primárnom trhu – nadmerná ponuka dlhopis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222D-B1F2-4A99-AE2A-5ACE5A25907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BAD97F9-2C82-4CFB-B5F2-13EAA8B9A6C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18120" cy="4105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ĺžnik 8"/>
          <p:cNvSpPr/>
          <p:nvPr/>
        </p:nvSpPr>
        <p:spPr>
          <a:xfrm>
            <a:off x="1699920" y="591984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BlokTextu 7"/>
          <p:cNvSpPr/>
          <p:nvPr/>
        </p:nvSpPr>
        <p:spPr>
          <a:xfrm>
            <a:off x="1807920" y="179388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Vývoj ceny 5Y CDS (v b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1912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tek ku kvalite, jadrové krajiny vs. okrajové krajiny (PIIGS) Eurozó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pora zo strany mechanizmu EFSF, vysoký stav likvidity na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ál 9"/>
          <p:cNvSpPr/>
          <p:nvPr/>
        </p:nvSpPr>
        <p:spPr>
          <a:xfrm>
            <a:off x="6732720" y="2781360"/>
            <a:ext cx="718920" cy="1727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1F73-61DB-4D5B-B9EC-5300C97CCD4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3BA7AFA-872A-419D-BAED-083F6BE80FE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040360" cy="3311280"/>
          </a:xfrm>
          <a:prstGeom prst="rect">
            <a:avLst/>
          </a:prstGeom>
          <a:ln w="0">
            <a:noFill/>
          </a:ln>
        </p:spPr>
      </p:pic>
      <p:sp>
        <p:nvSpPr>
          <p:cNvPr id="210" name="Obdĺžnik 8"/>
          <p:cNvSpPr/>
          <p:nvPr/>
        </p:nvSpPr>
        <p:spPr>
          <a:xfrm>
            <a:off x="3571560" y="4653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68360" y="1413000"/>
            <a:ext cx="3166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máce výnosy štátnych dlhopisov zaznamenali pokles od začiatku roka a kopírovali tak dianie na benchmarkovom nemeckom tr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plyv zvýšenej nervozity investorov (problémy Grécka a krajín PIIGS) sa zatiaľ preniesol na SK dlhopisy len v obmedzenej mi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ďalej domáce dlhopisy patria v rámci regiónu k tým najvyhľadávanejším a dopyt hlavne od zahraničných hráčov drží výnosy dlhších splatností nižš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85C0-AE77-432C-A4CD-661943A5003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F5E1004-A9CF-4B6C-AB7D-614371CE97B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4983120" cy="3311280"/>
          </a:xfrm>
          <a:prstGeom prst="rect">
            <a:avLst/>
          </a:prstGeom>
          <a:ln w="0">
            <a:noFill/>
          </a:ln>
        </p:spPr>
      </p:pic>
      <p:sp>
        <p:nvSpPr>
          <p:cNvPr id="215" name="Obdĺžnik 8"/>
          <p:cNvSpPr/>
          <p:nvPr/>
        </p:nvSpPr>
        <p:spPr>
          <a:xfrm>
            <a:off x="3560400" y="4653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68360" y="1413000"/>
            <a:ext cx="309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nosy slovenských štátnych dlhopisov sa  obchodujú s veľmi zaujímavou kreditnou prirážkou voči nemecký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ôvodom je jednak nižšia likvidita domáceho trhu (likviditná prémia) ako aj nižšia ochota investorov podstupovať riziko (aktuálny rating Slovenska A+ vs. Nemecka AA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rátkodobé oslabenie záujmu investorov o dodatočný výnos a obavy o vývoj fiškálneho deficitu európskych krajín môžu znamenať volatilný vývoj kreditnej priráž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310E-7936-4B90-8BF1-B2CF0559290A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C93FCDC-2D09-492C-8F23-E4C61133634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910120" cy="40338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19120" y="1197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 pohľadu cien kontraktov CDS patrí Slovensko k relatívne bezpečnejším emitentom v rámci regiónu ale aj v porovnaní s okrajovými krajinami EM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dĺžnik 8"/>
          <p:cNvSpPr/>
          <p:nvPr/>
        </p:nvSpPr>
        <p:spPr>
          <a:xfrm>
            <a:off x="1626840" y="595008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BlokTextu 8"/>
          <p:cNvSpPr/>
          <p:nvPr/>
        </p:nvSpPr>
        <p:spPr>
          <a:xfrm>
            <a:off x="1736280" y="186696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Vývoj ceny 5Y CDS (v b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07D9-42AF-498B-BE23-ECFD4EE4396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5D10504-9E2E-4639-94EF-BCDAC14393F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3564000" y="1409760"/>
            <a:ext cx="5108400" cy="3314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468360" y="1413000"/>
            <a:ext cx="3095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rajiny CEE regiónu napredujú v oblasti zotavovania ich ekonomí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ľúčové ukazovatele zadĺženosti naznačujú ďalšiu potrebu fiškálnej konsolidácie = riziká pre ďalší vývoj dlhopis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bytky stavu likvidity a následné kapitálové toky pomáhajú lokálnym menám regió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entrálne banky v regióne ostávajú vo fáze expanzívnej menovej politi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dĺžnik 8"/>
          <p:cNvSpPr/>
          <p:nvPr/>
        </p:nvSpPr>
        <p:spPr>
          <a:xfrm>
            <a:off x="3499920" y="4653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1649-F11C-4B26-AB76-5440FAEEF58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90EA079-2D9B-4ADE-B8F0-6126DE6F02B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Obsah prezent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Prehľad hlavných tém dlhopisových trhov v roku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st HDP a ekonomické zotav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ládny dlh krají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flačný vývoj a Menová politika 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 a Nemec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 a CEE reg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rporátny segment a 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69B2-B76C-413C-AC11-4AD80F50C25A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0E1460D-FAC3-4FB1-B8B3-B958C868E4F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521000" y="2060640"/>
            <a:ext cx="6146640" cy="3889440"/>
          </a:xfrm>
          <a:prstGeom prst="rect">
            <a:avLst/>
          </a:prstGeom>
          <a:ln w="0">
            <a:noFill/>
          </a:ln>
        </p:spPr>
      </p:pic>
      <p:sp>
        <p:nvSpPr>
          <p:cNvPr id="231" name="Obdĺžnik 8"/>
          <p:cNvSpPr/>
          <p:nvPr/>
        </p:nvSpPr>
        <p:spPr>
          <a:xfrm>
            <a:off x="1483920" y="591984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5191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spekt posilňovania mien regiónu robí aktíva atraktívnejšími (CZK a PL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onvergenčný príbeh čiastočne stratil na sile, politické riziká (HUF a 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BlokTextu 8"/>
          <p:cNvSpPr/>
          <p:nvPr/>
        </p:nvSpPr>
        <p:spPr>
          <a:xfrm>
            <a:off x="2430360" y="198900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Vývoj vybraných mien regiónu CEE (normaliz.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D6C5-FDF9-429B-BC71-F33A2A64F0B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7B08351-4873-4E2A-AFF9-9D17F233782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715000" cy="3456000"/>
          </a:xfrm>
          <a:prstGeom prst="rect">
            <a:avLst/>
          </a:prstGeom>
          <a:ln w="0">
            <a:noFill/>
          </a:ln>
        </p:spPr>
      </p:pic>
      <p:sp>
        <p:nvSpPr>
          <p:cNvPr id="237" name="Obdĺžnik 8"/>
          <p:cNvSpPr/>
          <p:nvPr/>
        </p:nvSpPr>
        <p:spPr>
          <a:xfrm>
            <a:off x="1626840" y="580536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51912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reditné prirážky korporátnych emitentov významne poklesli od začiatku roka, avšak z dlhodobého pohľadu stále dosahujú vysoké úrov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znamný rozdiel v prirážkach najmä medzi investičným stupňom ratingového hodnotenia a pásmom High-yield – investičné obme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ED78-8520-4D29-97FA-394C763F58C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8217EA7-90FC-43EA-8B83-36194FDE5F8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1797120" y="2421000"/>
            <a:ext cx="5511600" cy="3540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519120" y="1197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spodársky rast EM krajín sa nachádza na vyššej úrovni ako rast vyspelých krají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 toho dôvodu úverová schopnosť týchto emitentov sa zvyšu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pokladáme teda, že atraktivita kreditných prirážok EM krajín by mala pokračovať. Najmä pokiaľ ide o dlhopisové investície denominované v hlavných men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bdĺžnik 8"/>
          <p:cNvSpPr/>
          <p:nvPr/>
        </p:nvSpPr>
        <p:spPr>
          <a:xfrm>
            <a:off x="1760040" y="595008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AC2F-00FD-4071-91A7-93DFDFE7584A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6A7F8DB-CA98-4004-927D-CB58A99B23A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3097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ude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opisový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ôcť opäť tešiť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ujímavý výn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ufória ale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riezven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\\shq404\MPPAMSLSP\OBRAZKY\j0431739.jpg"/>
          <p:cNvPicPr/>
          <p:nvPr/>
        </p:nvPicPr>
        <p:blipFill>
          <a:blip r:embed="rId1"/>
          <a:stretch/>
        </p:blipFill>
        <p:spPr>
          <a:xfrm>
            <a:off x="3419640" y="141300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D6E1-6016-44A2-8E1F-3AD86BECD38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488E5E3-4730-40C8-88BD-8AE8F6E8D11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átkodobý výhľad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\\shq404\MPPAMSLSP\OBRAZKY\j0390109.jpg"/>
          <p:cNvPicPr/>
          <p:nvPr/>
        </p:nvPicPr>
        <p:blipFill>
          <a:blip r:embed="rId1"/>
          <a:stretch/>
        </p:blipFill>
        <p:spPr>
          <a:xfrm>
            <a:off x="395280" y="2082960"/>
            <a:ext cx="1181160" cy="841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\\shq404\MPPAMSLSP\OBRAZKY\j0390108.jpg"/>
          <p:cNvPicPr/>
          <p:nvPr/>
        </p:nvPicPr>
        <p:blipFill>
          <a:blip r:embed="rId2"/>
          <a:stretch/>
        </p:blipFill>
        <p:spPr>
          <a:xfrm>
            <a:off x="395280" y="3492360"/>
            <a:ext cx="1224000" cy="873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\\shq404\MPPAMSLSP\OBRAZKY\j0390110.jpg"/>
          <p:cNvPicPr/>
          <p:nvPr/>
        </p:nvPicPr>
        <p:blipFill>
          <a:blip r:embed="rId3"/>
          <a:stretch/>
        </p:blipFill>
        <p:spPr>
          <a:xfrm>
            <a:off x="395280" y="4838760"/>
            <a:ext cx="1252440" cy="893880"/>
          </a:xfrm>
          <a:prstGeom prst="rect">
            <a:avLst/>
          </a:prstGeom>
          <a:ln w="0">
            <a:noFill/>
          </a:ln>
        </p:spPr>
      </p:pic>
      <p:sp>
        <p:nvSpPr>
          <p:cNvPr id="254" name="BlokTextu 8"/>
          <p:cNvSpPr/>
          <p:nvPr/>
        </p:nvSpPr>
        <p:spPr>
          <a:xfrm>
            <a:off x="2277000" y="1916280"/>
            <a:ext cx="4548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Nadváže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igh-Yield segment korporátnych dlhopisov v EU aj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vestment-grade korporátne dlhopisy v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merging markets štátne dlhopisy v hlavných men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merging markets korpor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BlokTextu 9"/>
          <p:cNvSpPr/>
          <p:nvPr/>
        </p:nvSpPr>
        <p:spPr>
          <a:xfrm>
            <a:off x="2296440" y="3357720"/>
            <a:ext cx="167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Neutrál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U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K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BlokTextu 10"/>
          <p:cNvSpPr/>
          <p:nvPr/>
        </p:nvSpPr>
        <p:spPr>
          <a:xfrm>
            <a:off x="2274120" y="4508640"/>
            <a:ext cx="3954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Podváže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US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US hypotekár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vestment-grade korporátne dlhopisy v 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EE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merging markets dlhopisy v lokálnych men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2EF6-25FF-4F9F-AE27-0CC024E89BA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38529FF-952A-48FF-9F81-A14EED47AE5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4175-BE77-4BA1-8F22-3D211C846A6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5020322-1999-473B-8F17-6684DB68C75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. Prehľad hlavných tém dlhopisových trhov v roku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dĺžnik 5" descr=""/>
          <p:cNvPicPr/>
          <p:nvPr/>
        </p:nvPicPr>
        <p:blipFill>
          <a:blip r:embed="rId1"/>
          <a:stretch/>
        </p:blipFill>
        <p:spPr>
          <a:xfrm>
            <a:off x="-42840" y="1298520"/>
            <a:ext cx="6638760" cy="1322280"/>
          </a:xfrm>
          <a:prstGeom prst="rect">
            <a:avLst/>
          </a:prstGeom>
          <a:ln w="0">
            <a:noFill/>
          </a:ln>
        </p:spPr>
      </p:pic>
      <p:pic>
        <p:nvPicPr>
          <p:cNvPr id="136" name="Obdĺžnik 6" descr=""/>
          <p:cNvPicPr/>
          <p:nvPr/>
        </p:nvPicPr>
        <p:blipFill>
          <a:blip r:embed="rId2"/>
          <a:stretch/>
        </p:blipFill>
        <p:spPr>
          <a:xfrm>
            <a:off x="5059440" y="3017880"/>
            <a:ext cx="2133360" cy="706320"/>
          </a:xfrm>
          <a:prstGeom prst="rect">
            <a:avLst/>
          </a:prstGeom>
          <a:ln w="0">
            <a:noFill/>
          </a:ln>
        </p:spPr>
      </p:pic>
      <p:pic>
        <p:nvPicPr>
          <p:cNvPr id="137" name="Obdĺžnik 7" descr=""/>
          <p:cNvPicPr/>
          <p:nvPr/>
        </p:nvPicPr>
        <p:blipFill>
          <a:blip r:embed="rId3"/>
          <a:stretch/>
        </p:blipFill>
        <p:spPr>
          <a:xfrm>
            <a:off x="6827760" y="2835360"/>
            <a:ext cx="2432160" cy="2260440"/>
          </a:xfrm>
          <a:prstGeom prst="rect">
            <a:avLst/>
          </a:prstGeom>
          <a:ln w="0">
            <a:noFill/>
          </a:ln>
        </p:spPr>
      </p:pic>
      <p:pic>
        <p:nvPicPr>
          <p:cNvPr id="138" name="Obdĺžnik 8" descr=""/>
          <p:cNvPicPr/>
          <p:nvPr/>
        </p:nvPicPr>
        <p:blipFill>
          <a:blip r:embed="rId4"/>
          <a:stretch/>
        </p:blipFill>
        <p:spPr>
          <a:xfrm>
            <a:off x="6297480" y="1835280"/>
            <a:ext cx="2938680" cy="1536480"/>
          </a:xfrm>
          <a:prstGeom prst="rect">
            <a:avLst/>
          </a:prstGeom>
          <a:ln w="0">
            <a:noFill/>
          </a:ln>
        </p:spPr>
      </p:pic>
      <p:pic>
        <p:nvPicPr>
          <p:cNvPr id="139" name="Obdĺžnik 9" descr=""/>
          <p:cNvPicPr/>
          <p:nvPr/>
        </p:nvPicPr>
        <p:blipFill>
          <a:blip r:embed="rId5"/>
          <a:stretch/>
        </p:blipFill>
        <p:spPr>
          <a:xfrm>
            <a:off x="5052960" y="3754440"/>
            <a:ext cx="2292480" cy="1494000"/>
          </a:xfrm>
          <a:prstGeom prst="rect">
            <a:avLst/>
          </a:prstGeom>
          <a:ln w="0">
            <a:noFill/>
          </a:ln>
        </p:spPr>
      </p:pic>
      <p:pic>
        <p:nvPicPr>
          <p:cNvPr id="140" name="Obdĺžnik 10" descr=""/>
          <p:cNvPicPr/>
          <p:nvPr/>
        </p:nvPicPr>
        <p:blipFill>
          <a:blip r:embed="rId6"/>
          <a:stretch/>
        </p:blipFill>
        <p:spPr>
          <a:xfrm>
            <a:off x="6576840" y="4694400"/>
            <a:ext cx="2775240" cy="110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\\shq404\MPPAMSLSP\OBRAZKY\CG5F3.jpg"/>
          <p:cNvPicPr/>
          <p:nvPr/>
        </p:nvPicPr>
        <p:blipFill>
          <a:blip r:embed="rId7"/>
          <a:stretch/>
        </p:blipFill>
        <p:spPr>
          <a:xfrm>
            <a:off x="395280" y="2924280"/>
            <a:ext cx="453708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Obdĺžnik 12" descr=""/>
          <p:cNvPicPr/>
          <p:nvPr/>
        </p:nvPicPr>
        <p:blipFill>
          <a:blip r:embed="rId8"/>
          <a:stretch/>
        </p:blipFill>
        <p:spPr>
          <a:xfrm>
            <a:off x="4827600" y="4316400"/>
            <a:ext cx="226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9F9E-8FAA-432F-85A6-FD9150407D4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44977D92-64D0-4DA5-BAF8-08055900D26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. Prehľad hlavných tém dlhopisových trhov v roku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malenie dynamiky rastu globálnej ekonom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stredie nízkej inflácie a nízkeho využívania výrobných fak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elatívne vysoký stav likvidity v ekonomikách a na tr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stúce vládne dlhy vo vyspelých krajinách (problémy krajín PII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ilne expanzívne menové politiky centrálnych bánk vo svete – rekordne nízke úrokové sadz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vádzanie reštriktívnych opatrení v oblasti fiškálnej politi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mý sklon výnosových kriviek a rekordne nízke dlhodobé výnosy na hlavných dlhopisových tr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namné zvýšenie aktivity a objemov korporátnych emitentov na primárnom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X-ové intervencie a potreba menovej depreciácie na hlavných tr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2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D89F-0C8D-4F58-BE76-390FC64C0AD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9280EE8-D4CF-438E-ADC4-EAC18435506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7040" indent="-167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2010 kladný rast po výraznej reces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bavy z recesie sa pomaly znižujú, ale ďalší vývoj bude dlhodobé zotavovanie sa ekonomí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vojrýchlostný rast svetových ekonomík – DM vs. 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512040" cy="3479760"/>
          </a:xfrm>
          <a:prstGeom prst="rect">
            <a:avLst/>
          </a:prstGeom>
          <a:ln w="0">
            <a:noFill/>
          </a:ln>
        </p:spPr>
      </p:pic>
      <p:sp>
        <p:nvSpPr>
          <p:cNvPr id="150" name="Obdĺžnik 7"/>
          <p:cNvSpPr/>
          <p:nvPr/>
        </p:nvSpPr>
        <p:spPr>
          <a:xfrm>
            <a:off x="1198440" y="5919840"/>
            <a:ext cx="19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OECD Economic outl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BlokTextu 8"/>
          <p:cNvSpPr/>
          <p:nvPr/>
        </p:nvSpPr>
        <p:spPr>
          <a:xfrm>
            <a:off x="1983240" y="26892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ast HDP v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F9EF-FF88-475E-99C4-F5EC8CCBCE4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E211105-3131-4424-A021-007CFA30AFA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4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o ďaleko môže rastúce zadlženia krajín zájsť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ládny dlh (%H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ĺžnik 4"/>
          <p:cNvSpPr/>
          <p:nvPr/>
        </p:nvSpPr>
        <p:spPr>
          <a:xfrm>
            <a:off x="1198080" y="555948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CIA's World Factbook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413675\Documents\800px-Public_debt_percent_gdp_world_map.png"/>
          <p:cNvPicPr/>
          <p:nvPr/>
        </p:nvPicPr>
        <p:blipFill>
          <a:blip r:embed="rId1"/>
          <a:stretch/>
        </p:blipFill>
        <p:spPr>
          <a:xfrm>
            <a:off x="1258920" y="2349360"/>
            <a:ext cx="7047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847F-3479-438C-A20B-FC8BE802522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6D93196-F869-443B-BFD0-6B90C3C1B5C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604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49040" indent="-149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soká úroveň rozpočtových schodkov spôsobuje rastúce zadlžovanie ekonom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horšenie kreditnej kvality vládnych dlhov – hrozba pre dlhopisových investo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čakávaná redukcia a reštriktívne opatrenia budú mať dopad na ekonomický r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515280" cy="3816360"/>
          </a:xfrm>
          <a:prstGeom prst="rect">
            <a:avLst/>
          </a:prstGeom>
          <a:ln w="0">
            <a:noFill/>
          </a:ln>
        </p:spPr>
      </p:pic>
      <p:sp>
        <p:nvSpPr>
          <p:cNvPr id="161" name="Obdĺžnik 5"/>
          <p:cNvSpPr/>
          <p:nvPr/>
        </p:nvSpPr>
        <p:spPr>
          <a:xfrm>
            <a:off x="1343160" y="5919840"/>
            <a:ext cx="19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OECD Economic outl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BlokTextu 7"/>
          <p:cNvSpPr/>
          <p:nvPr/>
        </p:nvSpPr>
        <p:spPr>
          <a:xfrm>
            <a:off x="2159640" y="229860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ládny dlh v %H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AEB7-F639-496D-9F24-6467388F1E1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07636F6-2F67-4AF1-B3E6-E82570AB41E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e inflačné prostredie na vyspelých trhoch, opačná situácia je na EM trho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edostatočné využitie výrobných faktorov 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„output gap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bezpečuje pokračovanie nízko-inflačného vývoja na vyspelých trho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28000" cy="3744720"/>
          </a:xfrm>
          <a:prstGeom prst="rect">
            <a:avLst/>
          </a:prstGeom>
          <a:ln w="0">
            <a:noFill/>
          </a:ln>
        </p:spPr>
      </p:pic>
      <p:sp>
        <p:nvSpPr>
          <p:cNvPr id="167" name="Obdĺžnik 5"/>
          <p:cNvSpPr/>
          <p:nvPr/>
        </p:nvSpPr>
        <p:spPr>
          <a:xfrm>
            <a:off x="1343160" y="5846760"/>
            <a:ext cx="19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OECD Economic outl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lokTextu 7"/>
          <p:cNvSpPr/>
          <p:nvPr/>
        </p:nvSpPr>
        <p:spPr>
          <a:xfrm>
            <a:off x="2054520" y="2205000"/>
            <a:ext cx="30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Inflácia meraná CPI indexom (v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550D-9133-432A-A159-C077EFBDB72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5E23F45-A399-41D8-A302-960156EBE20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987640" y="1989000"/>
            <a:ext cx="5545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ces ukončovania silne expanzívnej menovej politiky bude veľmi opatrný a zatiaľ nie je na trhu úplne jasná predstava o presnom načasovaní a rozsa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ast peňažnej zásoby v Eurozóne je len mier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a miera inflácie, veľmi krehká ekonomická situácia a problémy dlhového financovania mnohých krajín menovej únie ako aj ukotvené inflačné očakávania podporujú ECB v opatrnom prístupe k menovej politi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adzby FEDu zostanú pravdepodobne nízke po dlhší čas, pokračujúci prospekt kvantitatívneho uvoľňovania, inflácia príliš nízka podľa tvorcov menovej politiky v U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jbližší možný pohyb referenčných úrokových sadzieb zo strany hlavných centrálnych bánk (FED, ECB) je nahor, otázkou ostáva iba rozsah a načasova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\\shq404\MPPAMSLSP\OBRAZKY\j0400853.jpg"/>
          <p:cNvPicPr/>
          <p:nvPr/>
        </p:nvPicPr>
        <p:blipFill>
          <a:blip r:embed="rId1"/>
          <a:stretch/>
        </p:blipFill>
        <p:spPr>
          <a:xfrm>
            <a:off x="539640" y="2036880"/>
            <a:ext cx="2081160" cy="3120840"/>
          </a:xfrm>
          <a:prstGeom prst="rect">
            <a:avLst/>
          </a:prstGeom>
          <a:ln w="0">
            <a:noFill/>
          </a:ln>
        </p:spPr>
      </p:pic>
      <p:sp>
        <p:nvSpPr>
          <p:cNvPr id="173" name="BlokTextu 9"/>
          <p:cNvSpPr/>
          <p:nvPr/>
        </p:nvSpPr>
        <p:spPr>
          <a:xfrm>
            <a:off x="395640" y="134136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Centrálne banky, úrokové sadzby a menová polit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0:59Z</dcterms:created>
  <dc:creator>J133JJC</dc:creator>
  <dc:description/>
  <dc:language>en-US</dc:language>
  <cp:lastModifiedBy>413675</cp:lastModifiedBy>
  <cp:lastPrinted>2009-09-01T07:59:28Z</cp:lastPrinted>
  <dcterms:modified xsi:type="dcterms:W3CDTF">2010-10-26T15:09:17Z</dcterms:modified>
  <cp:revision>80</cp:revision>
  <dc:subject/>
  <dc:title>Titel der Präsentation</dc:title>
</cp:coreProperties>
</file>