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993E-3A30-4E36-A594-07253A68E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0BDB-9394-400C-BCA1-981E5210D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7F59-728B-4CD2-A71F-9B3F71DA1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3985-A567-4D19-AF53-AEC14996B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4B59-CD64-44BA-89BA-BE9D1ACD0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8EA8-13E6-4BF0-AD79-60531BBC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379E-0F8B-4EDB-B729-33160F989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AFAE-EFB4-4145-BC9F-28F1FF43B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B9A1-4AB3-42CE-86D3-327DA2FD7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FBFC-573C-4A7C-B9A6-4EEE5A94D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693F-50B6-4D6A-8841-3126EACC1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1C1F-C87E-44E6-B977-63C24453F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B89-D5E8-410F-8D4A-7BF09A2E04C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Obrázok 8" descr="VUB_asset man.bmp"/>
          <p:cNvPicPr/>
          <p:nvPr/>
        </p:nvPicPr>
        <p:blipFill>
          <a:blip r:embed="rId3"/>
          <a:stretch/>
        </p:blipFill>
        <p:spPr>
          <a:xfrm>
            <a:off x="324000" y="6294600"/>
            <a:ext cx="253368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Obrázok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8" descr="VUB_asset man.bmp"/>
          <p:cNvPicPr/>
          <p:nvPr/>
        </p:nvPicPr>
        <p:blipFill>
          <a:blip r:embed="rId3"/>
          <a:stretch/>
        </p:blipFill>
        <p:spPr>
          <a:xfrm>
            <a:off x="276120" y="500040"/>
            <a:ext cx="472608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ká je budúcnosť kolektívneho investovania na Slovensku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4707000"/>
            <a:ext cx="7521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rian Matušovič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seda predstavenstva, VÚB Asse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Jasná Nízke Tatry, 5.</a:t>
            </a:r>
            <a:r>
              <a:rPr b="0" lang="sk-SK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ovember,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8D4-965D-46FF-85D5-461008785E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280" y="928800"/>
            <a:ext cx="8607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/ Počet registrovaných správcovských spoločností v Európe sa v horizonte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 5 rokov zo súčasného počtu približne 2500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6500880" y="1714680"/>
          <a:ext cx="92880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0880" y="1714680"/>
                    <a:ext cx="9288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7072200" y="364320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36432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BlokTextu 8"/>
          <p:cNvSpPr/>
          <p:nvPr/>
        </p:nvSpPr>
        <p:spPr>
          <a:xfrm>
            <a:off x="71280" y="3344760"/>
            <a:ext cx="771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/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čet domácich správcovských spoločností na Slovensku sa v horizonte 5 rokov zo súčasného počtu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1680" y="1571760"/>
          <a:ext cx="8001000" cy="1643040"/>
        </p:xfrm>
        <a:graphic>
          <a:graphicData uri="http://schemas.openxmlformats.org/drawingml/2006/table">
            <a:tbl>
              <a:tblPr/>
              <a:tblGrid>
                <a:gridCol w="7072200"/>
                <a:gridCol w="928800"/>
              </a:tblGrid>
              <a:tr h="3380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približne rovna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esne, ale zostane nad hranicou 2000 správcovských     spoločnost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esne pod hranicu 2000 správcovských spoloč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84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71680" y="4071960"/>
          <a:ext cx="8001000" cy="1714320"/>
        </p:xfrm>
        <a:graphic>
          <a:graphicData uri="http://schemas.openxmlformats.org/drawingml/2006/table">
            <a:tbl>
              <a:tblPr/>
              <a:tblGrid>
                <a:gridCol w="7072200"/>
                <a:gridCol w="928800"/>
              </a:tblGrid>
              <a:tr h="3524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60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rovna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60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aspoň 5 správcovských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2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menej ako 4 správcovské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524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304C-74B8-42A8-95E4-C2DCFF407E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42920"/>
            <a:ext cx="8642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7643880" y="3000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3000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3"/>
          <p:cNvSpPr/>
          <p:nvPr/>
        </p:nvSpPr>
        <p:spPr>
          <a:xfrm>
            <a:off x="71280" y="785880"/>
            <a:ext cx="860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/ Ktoré z uvedených trendov v oblasti KI budú s najväčšou pravdepodobnosťou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dľa Vášho názoru v blízkej budúcnosti realizované na Slovensk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85840" y="1428840"/>
          <a:ext cx="8501040" cy="4572000"/>
        </p:xfrm>
        <a:graphic>
          <a:graphicData uri="http://schemas.openxmlformats.org/drawingml/2006/table">
            <a:tbl>
              <a:tblPr/>
              <a:tblGrid>
                <a:gridCol w="7572240"/>
                <a:gridCol w="928800"/>
              </a:tblGrid>
              <a:tr h="226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ácia novej legislatívy snažiaca sa zvýšiť ochranu investorov a prísnejšej regul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ácia programov na  zvýšenie finančnej gramotnosti obyvateľstva zabezpečovaná štá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rizikovej averzie investo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446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, ktoré zabezpečia 100% ochranu vloženého kapitálu a predvídateľnú, hoci aj nižšiu výkonnos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2228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 s „optimálnym rozložením investícií“, bez zabezpečenia 100% ochrany  vloženého kapit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488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peňažných fondov v prospech fondov z vyšším rizikovým profilom (dlhopisové, zmiešané, akciov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111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vyšovanie investícií do fondov spravovaných zahraničnými správcovskými spoločnosť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šenie vstupn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žovanie správcovsk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vedenie správcovských poplatkov závislých od dosiahnutej  výko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írenie nových sporiacich schém a zvýšená podpora ich pred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539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záujmu o investície do fondov a sporiace schémy z dôvodu nedôvery obyvateľstva voči schopnosti  štátu zabezpečiť primerané dôchodky, resp. potreby spori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íženie záujmu investorov o fondy v prospech ETF, dlhopisov, akcií a iných 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distribúcie fondov prostredníctvom interne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distribúcie fondov prostredníctvom pobočiek bá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27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é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C3A-DD27-4AE6-87DE-F35BEE11DC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64216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713880"/>
            <a:ext cx="8678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/ Akú výšku podielu dosiahnu podľa Vášho názoru  na Slovensku v horizonte 5 rokov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vestície do fondov od inštitucionálnych investorov  voči retailovým investorom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odhad súčasného pomeru v SR je cca 10:90 v prospech retailových investorov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ričom v Európe bol na konci roka 2008 pomer 34:66 v prospech inšt. klientov)?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BlokTextu 6"/>
          <p:cNvSpPr/>
          <p:nvPr/>
        </p:nvSpPr>
        <p:spPr>
          <a:xfrm>
            <a:off x="142920" y="3357720"/>
            <a:ext cx="86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7./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čakávate v horizonte 5 rokov na Slovensku zvýšenie objemu fondov spravovaných zahraničnými správcovskými spoločnosťami vo vlastníctve slovenských investorov (ku koncu roka 2009 bol tento pomer  17,2 % : 82,8 % v prospech domácich správcov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71680" y="178596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zostane približne 90:10 v prospech retailový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bude približne   75:25 v prospech retailových investorov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4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bude približne   60:40 v prospech retailový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sa vymení v prospech inštitucionálny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1680" y="450072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čakávam zmenu, t.j. pomer ostane približne 20: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 pomer približne 30: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7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 pomer približne 40: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zahraniční správcovia budú spravovať viac ako domá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A1F-048C-43AE-AE38-8AB5D81CC3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7643880" y="22147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22147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7859880" y="243036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9880" y="243036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4"/>
          <p:cNvGraphicFramePr/>
          <p:nvPr/>
        </p:nvGraphicFramePr>
        <p:xfrm>
          <a:off x="7715160" y="4357800"/>
          <a:ext cx="8287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5160" y="4357800"/>
                    <a:ext cx="828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BlokTextu 10"/>
          <p:cNvSpPr/>
          <p:nvPr/>
        </p:nvSpPr>
        <p:spPr>
          <a:xfrm>
            <a:off x="71280" y="341640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9./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mplementácia UCITS IV bude podľa Vášho názoru pre slovenské správcovské spoločnosti, ktoré sú súčasťou zahraničných finančných skupín znamenať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lokTextu 11"/>
          <p:cNvSpPr/>
          <p:nvPr/>
        </p:nvSpPr>
        <p:spPr>
          <a:xfrm>
            <a:off x="142920" y="812880"/>
            <a:ext cx="857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8./ S akou mierou pravdepodobnosti očakávate, že medzinárodné finančné skupiny môžu vytvoriť na Slovensku kompetenčné centrum na podporu fondového biznisu v CEE, resp.  na Slovensku centralizovať aspoň časť súvisiacich činnost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28760" y="1643040"/>
          <a:ext cx="8286480" cy="1641600"/>
        </p:xfrm>
        <a:graphic>
          <a:graphicData uri="http://schemas.openxmlformats.org/drawingml/2006/table">
            <a:tbl>
              <a:tblPr/>
              <a:tblGrid>
                <a:gridCol w="7269120"/>
                <a:gridCol w="1017360"/>
              </a:tblGrid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lím si, že Slovensko by mohlo mať ambíciu stať sa centrom fondového biznisu v C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niekoľko finančných skupín kompetenčné centrum vytvor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7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aspoň jedna finančná skupina kompetenčné centrum vytvor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6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ažujem to za nemožné a skôr očakávam postupný zánik domácich správcovských spoloč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28760" y="4003560"/>
          <a:ext cx="8286480" cy="1997280"/>
        </p:xfrm>
        <a:graphic>
          <a:graphicData uri="http://schemas.openxmlformats.org/drawingml/2006/table">
            <a:tbl>
              <a:tblPr/>
              <a:tblGrid>
                <a:gridCol w="7269120"/>
                <a:gridCol w="1017360"/>
              </a:tblGrid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nie spolupráce zhruba v dnešnom rozsa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649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né rozšírenie outsourcingu vybraných činností do zahraničných centrál najmä v oblastiach, ako vývoj produktov, portfólio manažment, risk manažment, koordinácia v oblasti podpory predaja a marketingu a podob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ý obchodný model so zameraním na master - feeder štruktú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6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ý obchodný model so zameraním na cezhraničné zlučovanie fondov s postupným ukončením činnosti slovenskej správcovskej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593-EBDB-4D3B-9C38-2B851A9865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182520">
              <a:spcBef>
                <a:spcPts val="1001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pecifiká odvetvia správy aktív na Slove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hľad trhovej kapitalizácie vybraných krajín C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tegorizácia fond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brané ukazovatele správcovských spolo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iel AUM fondov spravovaný domácimi a zahraničnými správc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spcBef>
                <a:spcPts val="1001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772-9E70-45EA-BC08-9FA2689589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411200"/>
            <a:ext cx="864216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rozvinutý a nelikvidný domáci kapitálový tr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minujúci retailový segment s distribúciou prostredníctvom veľkých bán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nzervatívne produktové portfó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islatívny rámec nepodporujúci ďalší rast tohto sekt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stup Slovenska do Európskej menovej únie od 1.1. 200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pecifiká odvetvia správy aktív na Slovensk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hľad trhovej kapitalizácie vybraných krajín CEE            k 31.12. 2008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C94E-2AE9-41BA-B55C-A03A082305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7040" y="1643040"/>
          <a:ext cx="8529840" cy="2786040"/>
        </p:xfrm>
        <a:graphic>
          <a:graphicData uri="http://schemas.openxmlformats.org/drawingml/2006/table">
            <a:tbl>
              <a:tblPr/>
              <a:tblGrid>
                <a:gridCol w="2814840"/>
                <a:gridCol w="1071360"/>
                <a:gridCol w="857520"/>
                <a:gridCol w="1071360"/>
                <a:gridCol w="857160"/>
                <a:gridCol w="1000440"/>
                <a:gridCol w="857160"/>
              </a:tblGrid>
              <a:tr h="55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ďar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ľ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i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ec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dlhopisov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dlhopisov (% z HD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akcií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akcií     (% z HD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BlokTextu 8"/>
          <p:cNvSpPr/>
          <p:nvPr/>
        </p:nvSpPr>
        <p:spPr>
          <a:xfrm>
            <a:off x="214200" y="5572080"/>
            <a:ext cx="45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FAMA Fact Book, 7th edition, September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tegorizácia fondov k 30.9.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5AC-8A85-46CF-AAF0-C5295F8F1A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BlokTextu 5"/>
          <p:cNvSpPr/>
          <p:nvPr/>
        </p:nvSpPr>
        <p:spPr>
          <a:xfrm>
            <a:off x="285840" y="5429160"/>
            <a:ext cx="828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vlastné spracovanie z údajov dostupných v Efama Statistical Release N° 39, November 2009; Efama International Statistical Release, Januar 2010, SASS mesačný report 09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8" descr=""/>
          <p:cNvPicPr/>
          <p:nvPr/>
        </p:nvPicPr>
        <p:blipFill>
          <a:blip r:embed="rId1"/>
          <a:stretch/>
        </p:blipFill>
        <p:spPr>
          <a:xfrm>
            <a:off x="353880" y="853920"/>
            <a:ext cx="83692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70920"/>
            <a:ext cx="86421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brané ukazovatele správcovských spoločností v oblasti nákladov a výnos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53E2-1591-4CC8-91EC-95C8990111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1763640"/>
          <a:ext cx="8501040" cy="3308400"/>
        </p:xfrm>
        <a:graphic>
          <a:graphicData uri="http://schemas.openxmlformats.org/drawingml/2006/table">
            <a:tbl>
              <a:tblPr/>
              <a:tblGrid>
                <a:gridCol w="2928960"/>
                <a:gridCol w="1214280"/>
                <a:gridCol w="1000080"/>
                <a:gridCol w="2365560"/>
                <a:gridCol w="992160"/>
              </a:tblGrid>
              <a:tr h="865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ápadná Európa         "menší správcovia"    (AUM cca 10 mld. 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ápadná Európa celk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8068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merná výška AUM      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iel AUM pre retailových klientov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I Ratio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merný počet zamestnanc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BlokTextu 5"/>
          <p:cNvSpPr/>
          <p:nvPr/>
        </p:nvSpPr>
        <p:spPr>
          <a:xfrm>
            <a:off x="214200" y="5715000"/>
            <a:ext cx="83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t Management Survey 2009, Mc Kinsey&amp;Company, September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diel AUM fondov spravovaný domácimi a zahraničnými správca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4CA-DA37-453B-85A4-AA6DDF5F59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BlokTextu 6"/>
          <p:cNvSpPr/>
          <p:nvPr/>
        </p:nvSpPr>
        <p:spPr>
          <a:xfrm>
            <a:off x="361080" y="5621400"/>
            <a:ext cx="52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vlastné spracovanie údajov dostupných zo štatistík S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089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88E-EB75-4782-9012-E5A9DF0C13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50920" y="121428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prieskumu: august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lavný cieľ: zistiť očakávané trendy v produktovom portfóliu, v rozsahu poskytovaných služieb, segmentácii klientov, ako aj pri úprave obchodných modelov slovenských správcovských spoločnost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tatistická metóda získavania údajov: štandardizovaný dotazní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spondenti: členovia predstavenstiev správcovských spoločností a dôchodkových správcovských spoločností, senior manažéri bánk (oddelenia treasury, depozitára, vývoja a distribúcie investičných produktov, privátneho bankovníctva),  odborníci z NBS a SA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et dotazníko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74 zaslaný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8  vyplnených s  najväčším  zastúpením   manažérov správcovských spoločností (39,5 %) a  manažérov bánk (34,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B06A-300A-4427-AD28-DFC8FB0D5A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640" y="928440"/>
            <a:ext cx="86072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1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./  V 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orizonte 5 rokov hodnotíte  vyhliadky vývoja sektora KI v Európe v oblasti rastu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UM (UCITS aj non-UCITS fondy) ako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6429240" y="4357800"/>
          <a:ext cx="98604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240" y="4357800"/>
                    <a:ext cx="9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BlokTextu 7"/>
          <p:cNvSpPr/>
          <p:nvPr/>
        </p:nvSpPr>
        <p:spPr>
          <a:xfrm>
            <a:off x="71280" y="331308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/</a:t>
            </a:r>
            <a:r>
              <a:rPr b="1" lang="sk-SK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čakávate, že v horizonte 5 rokov sa objem fondov spravovaný slovenskými a zahraničnými správcovskými spoločnosťami vo vlastníctve retailových a inštitucionálnych klientov na Slovensku zvýš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680" y="164304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4345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borné  (rast AUM viac ako 80%, napr. v rokoch 2003-2007 dosiahol rast AUM 84,1%)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42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ľmi dobré (rast AUM od 40% až 8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2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é (rast AUM od 10% do 4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42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é (rast AUM menej ako 10%, prípadne pokl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743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680" y="4214880"/>
          <a:ext cx="8072280" cy="157140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236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ne o 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 40% až 8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 10% až 4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t bude maximálne 10%, prípadne objem fondov pokles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36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 </cp:lastModifiedBy>
  <dcterms:modified xsi:type="dcterms:W3CDTF">2010-10-29T14:34:19Z</dcterms:modified>
  <cp:revision>89</cp:revision>
  <dc:subject/>
  <dc:title>Snímka 1</dc:title>
</cp:coreProperties>
</file>