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44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91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288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440" y="936288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8B72-B73C-4250-A9DC-3120912AF751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9120" cy="369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Zástupný symbol čísla snímky 3"/>
          <p:cNvSpPr/>
          <p:nvPr/>
        </p:nvSpPr>
        <p:spPr>
          <a:xfrm>
            <a:off x="3844800" y="936324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2E28-7A56-4F90-A4C3-8F0C18F43092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4800" y="936324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2611-D6F9-4C3D-B7B6-113240AB8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9120" cy="3695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4800" y="936324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2636-C5CB-49EF-AC3B-696FCC3C5ECB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8800" y="73656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5040" y="4680000"/>
            <a:ext cx="497520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Investičný cieľ klienta by sa mal zhodovať s investičným cieľom riešenia, ktoré si zvolil. Na prvý pohľad to vyzerá ako samozrejmosť, avšak v praxi sa stretávame s tým, že klient má nevyhovujúce portfólio. Aby sme vedeli priradiť klientovi vhodné portfólio, potrebujeme poznať jeho pohľad na výnos, ktorý  ho uspokojí, riziko, ktoré je ochotný niesť a investičný horizont, počas ktorého má voľné peniaze. Túto analýzu v podstate dnes vie urobiť každý zodpovedný poradca, čo je však náročnejšie je poznanie portfólia, ktoré klientovi následne odporučí. Poznáte portfólio, ktoré klientovi doporučujete? Viete posúdiť, či výnos a riziko portfólia je v súlade s očakávaním klienta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2D2-A9CA-47A7-8D84-13E589F6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DC9-9738-47C1-9B68-40D1FC3F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ABE-22D7-48A5-9AB9-4F3E62B2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168-C371-41F0-ABF1-9B1A3F20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F5E5-009A-4DF9-9065-73C7E5E5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24C-8E73-4356-9630-5099130F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502-2B7B-402C-B010-93D0390B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88E-2889-4274-BF72-17BF76C5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8E2-DDFD-4C84-A083-8F9B8DC5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39A-9B7E-4A79-B930-B7F746DF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372-4271-4C02-AC83-B286CAA4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C4C-DA66-4C86-9696-39DA446D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F1F0-9B11-454E-BE0C-FADF0596A1D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hyperlink" Target="http://ssrn.com/abstract=1629786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14240" y="85716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Times New Roman"/>
              </a:rPr>
              <a:t>Vývoj na akciových trho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Times New Roman"/>
              </a:rPr>
              <a:t>včera dnes a zajt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arek Prokopec, C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tra Asset Management                                         6.11.20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Value a Momentum k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\\sbacfshome\homedirs\TB02157\My Documents\My Pictures\cumulative12.gif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4038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Value and Momentum Everywhere“ Moskowitz, Pedersen A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Distribúcia kapitaliz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928800" y="639612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Star F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143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Motivácia vs vý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3"/>
          <p:cNvGraphicFramePr/>
          <p:nvPr/>
        </p:nvGraphicFramePr>
        <p:xfrm>
          <a:off x="762120" y="1981080"/>
          <a:ext cx="76197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6197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4"/>
          <p:cNvSpPr/>
          <p:nvPr/>
        </p:nvSpPr>
        <p:spPr>
          <a:xfrm>
            <a:off x="838080" y="60958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“Behavioral Portfolio Analysis of Individual Investors”</a:t>
            </a:r>
            <a:r>
              <a:rPr b="1" lang="sk-SK" sz="1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 Arvid Hoffmann, Hersh Shefrin and Joost Pe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čísla snímky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5440-0E97-4A7D-94A8-2841A3BE5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Časovanie trhu - real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1001880" y="2133720"/>
          <a:ext cx="683568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2133720"/>
                    <a:ext cx="68356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Quantitative Analysis of Investor Behavior“ Dal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sdaq Leadershi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Zástupný symbol čísla snímky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8071-E1F9-4584-9F5D-AC4D460B88BE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hart 3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369280" cy="4589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NL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 kriv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ástupný symbol čísla snímky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ECEA-9838-411F-B7D7-BCCF94D19D63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hart 3" descr=""/>
          <p:cNvPicPr/>
          <p:nvPr/>
        </p:nvPicPr>
        <p:blipFill>
          <a:blip r:embed="rId1"/>
          <a:stretch/>
        </p:blipFill>
        <p:spPr>
          <a:xfrm>
            <a:off x="317520" y="1620720"/>
            <a:ext cx="8442360" cy="4462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7275-34A4-4BD7-B11D-1A9AFA9CC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Horizo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00120" y="1714680"/>
            <a:ext cx="640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Intraday (daytr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Ultra krátkodobý (do rok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Krátkodobý (1 rok až 3 rok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Strednodobý (3 až 5 rok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Dlhodobý (5 roky a 10 rok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Ultra long term (10 a viac rok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Investičné odporúčanie/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Kvalita odporúč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Súlad investičnej rady s investičným horizon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Emócie (chamtivosť a str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A905-9FC4-4528-8895-FF6707111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1523880" y="1523880"/>
          <a:ext cx="54864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4864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3"/>
          <p:cNvSpPr/>
          <p:nvPr/>
        </p:nvSpPr>
        <p:spPr>
          <a:xfrm>
            <a:off x="343080" y="304920"/>
            <a:ext cx="796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00000"/>
              </a:buClr>
              <a:buSzPct val="115000"/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Times New Roman"/>
              </a:rPr>
              <a:t>Investičný gu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523880" y="66294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194e7d"/>
                </a:solidFill>
                <a:latin typeface="Times New Roman"/>
              </a:rPr>
              <a:t>Zdroj: </a:t>
            </a:r>
            <a:r>
              <a:rPr b="0" lang="en-US" sz="1000" spc="-1" strike="noStrike">
                <a:solidFill>
                  <a:srgbClr val="194e7d"/>
                </a:solidFill>
                <a:latin typeface="Times New Roman"/>
              </a:rPr>
              <a:t>www.cxoadviso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Dlhodobý vývo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6984720" cy="4537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7168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Global Investment Returns Yearbook 2010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, Dimson, Marsh and S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Kapitálový trh – čo to vlastne j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iesto, na ktorom sa obchoduje s kapitá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imoriadne efektívny spôsob obchodovania s podnikaní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ie je ru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Čo je dôležit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Zo strednodobého pohľadu (3 až 7 rokov) je rozhodujú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Ocenenie akciových trhov (drahé vs lacn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Odchýlka od dlhodobých trendov akciových index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1. dôležitý fak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1680" y="6357960"/>
            <a:ext cx="7572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Global Investment Returns Yearbook 2010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, Dimson, Marsh and Staunton,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1071720" y="1928880"/>
            <a:ext cx="6929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2. dôležitý fak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71680" y="635796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Global Investment Returns Yearbook 2010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, Dimson, Marsh and S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5721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Atraktivita akcií (3 až 7 rokov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38080" y="1905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305920" cy="4624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285840" y="642924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Čo s tý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Atraktívne“ akcie = vysoké zastúpenie trhových (BETA) riešení s akciovou expozíci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ebezpečné“ akcie = vysoký podiel chránených riešení s akciovou expozíci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10FE-3E46-4D14-B78D-FB371BA53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Risk-return po obdobi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28760" y="171468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hové (Be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ieš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40% ak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60% dlhopi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786200" y="1714680"/>
            <a:ext cx="385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hové (Beta) + Aktívne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(trendovo chránené rizikovo paritné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ieš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500800" y="2786040"/>
          <a:ext cx="2357280" cy="1298520"/>
        </p:xfrm>
        <a:graphic>
          <a:graphicData uri="http://schemas.openxmlformats.org/drawingml/2006/table">
            <a:tbl>
              <a:tblPr/>
              <a:tblGrid>
                <a:gridCol w="695160"/>
                <a:gridCol w="933480"/>
                <a:gridCol w="728640"/>
              </a:tblGrid>
              <a:tr h="221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21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8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428760" y="4214880"/>
            <a:ext cx="83185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Ideá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2125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Tahoma"/>
              </a:rPr>
              <a:t>Inve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724280" y="19954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Tahoma"/>
              </a:rPr>
              <a:t>Parametre portfó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3520" y="2654280"/>
            <a:ext cx="3200400" cy="1508760"/>
          </a:xfrm>
          <a:prstGeom prst="rect">
            <a:avLst/>
          </a:prstGeom>
          <a:solidFill>
            <a:srgbClr val="ebeacf"/>
          </a:solidFill>
          <a:ln w="38160">
            <a:solidFill>
              <a:srgbClr val="8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888374"/>
                </a:solidFill>
                <a:latin typeface="Tahoma"/>
              </a:rPr>
              <a:t>Investičný cie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888374"/>
                </a:solidFill>
                <a:latin typeface="Tahoma"/>
              </a:rPr>
              <a:t>zhodnotenie/rizi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888374"/>
                </a:solidFill>
                <a:latin typeface="Tahoma"/>
              </a:rPr>
              <a:t>Obmedzeni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888374"/>
                </a:solidFill>
                <a:latin typeface="Tahoma"/>
              </a:rPr>
              <a:t>investičný horiz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5486400" y="2540160"/>
            <a:ext cx="3200400" cy="1777680"/>
          </a:xfrm>
          <a:prstGeom prst="ellipse">
            <a:avLst/>
          </a:prstGeom>
          <a:solidFill>
            <a:srgbClr val="e5e5ff"/>
          </a:solidFill>
          <a:ln w="381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638680" y="3063960"/>
            <a:ext cx="3200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3366"/>
                </a:solidFill>
                <a:latin typeface="Tahoma"/>
              </a:rPr>
              <a:t>riziko, výnos</a:t>
            </a:r>
            <a:r>
              <a:rPr b="1" lang="sk-SK" sz="2400" spc="-1" strike="noStrike">
                <a:solidFill>
                  <a:srgbClr val="003366"/>
                </a:solidFill>
                <a:latin typeface="Tahoma"/>
              </a:rPr>
              <a:t>              </a:t>
            </a:r>
            <a:r>
              <a:rPr b="1" lang="sk-SK" sz="2000" spc="-1" strike="noStrike">
                <a:solidFill>
                  <a:srgbClr val="003366"/>
                </a:solidFill>
                <a:latin typeface="Tahoma"/>
              </a:rPr>
              <a:t>investičný horiz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8600" y="4648320"/>
            <a:ext cx="8686800" cy="0"/>
          </a:xfrm>
          <a:prstGeom prst="line">
            <a:avLst/>
          </a:prstGeom>
          <a:ln w="123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3733920" y="4724280"/>
            <a:ext cx="1981080" cy="1447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368960" y="28796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Dôlež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a výnose zálež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a riziku zálež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enechať rozhodovať emó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Trhy – historický vývoj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Trhy – S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9480" y="6234120"/>
            <a:ext cx="6477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Times New Roman"/>
              </a:rPr>
              <a:t>Zdroj: „Global Investment Returns Yearbook 2010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, Dimson, Marsh and Staun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Trhy a horiz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30,10,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429400" cy="51433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500040" y="639756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Zdroj: „Stocks for the long run“  Jeremy Sie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Akcie vs ekonom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3738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Otáčanie z rece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i otáčaní z ekonomických recesií akciový trh predbieha ekonomiku v priemere o 4,8 mesi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kciové indexy v tomto období vzrástli v priemere 22,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57160" y="639756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Zdroj: „Stocks for the long run“  Jeremy Sie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Zdroje výnos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71800"/>
            <a:ext cx="777240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Tr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2. Aktívna sprá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Časovanie tr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ýber „lepších“ cenných papier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3. Náh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324000" y="1628640"/>
            <a:ext cx="3504960" cy="44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12-3:</a:t>
            </a: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vysoké očakávania, spoločnosť negatívne prekvapuje, analytici revidujú čís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3-6:</a:t>
            </a: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očakávania výrazne padajú do bodu, kedy všetky zlé správy su v ocenení, spoločnosť sa stáva ignorovan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6-9:</a:t>
            </a: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VALUE oblasť, ocenenie je priaznivé, spoločnosť pozitívne prekvapuje, analytici zvyšujú odh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9-12:</a:t>
            </a: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MOMENTUM oblasť, rast ziskov a ceny na trh až do bodu, kedy každý takmer investor pozná a vlastní spoločnosť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857760" y="1928880"/>
            <a:ext cx="512604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Cyklus akcie – investičné hodiny (map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09:52Z</dcterms:created>
  <dc:creator>tb02157</dc:creator>
  <dc:description/>
  <dc:language>en-US</dc:language>
  <cp:lastModifiedBy>tb02157</cp:lastModifiedBy>
  <dcterms:modified xsi:type="dcterms:W3CDTF">2010-10-29T14:02:09Z</dcterms:modified>
  <cp:revision>143</cp:revision>
  <dc:subject/>
  <dc:title>Slide 1</dc:title>
</cp:coreProperties>
</file>