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792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088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1460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792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088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0200" y="836640"/>
            <a:ext cx="6175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792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088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60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9792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088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0200" y="836640"/>
            <a:ext cx="6175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64280"/>
            <a:ext cx="9144000" cy="695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50720" y="6280200"/>
            <a:ext cx="1386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5a4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spcAft>
                <a:spcPts val="1250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2" marL="538200" indent="-177840">
              <a:spcAft>
                <a:spcPts val="1250"/>
              </a:spcAft>
              <a:buClr>
                <a:srgbClr val="3e3e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3" marL="717480" indent="-17784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4" marL="901800" indent="-18252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5" marL="901800" indent="-18252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6" marL="901800" indent="-18252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557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3121200" y="6489720"/>
            <a:ext cx="5554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55758f"/>
                </a:solidFill>
                <a:latin typeface="Arial Narrow"/>
              </a:rPr>
              <a:t>PIONEER INVESTMENTS 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  <a:ea typeface="ＭＳ Ｐゴシック"/>
              </a:rPr>
              <a:t>| 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</a:rPr>
              <a:t>20</a:t>
            </a:r>
            <a:r>
              <a:rPr b="0" lang="sk-SK" sz="800" spc="-1" strike="noStrike">
                <a:solidFill>
                  <a:srgbClr val="55758f"/>
                </a:solidFill>
                <a:latin typeface="Arial Narrow"/>
              </a:rPr>
              <a:t>12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</a:rPr>
              <a:t> 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  <a:ea typeface="ＭＳ Ｐゴシック"/>
              </a:rPr>
              <a:t>| Page </a:t>
            </a:r>
            <a:fld id="{9DCC3AC4-AAAD-4671-AAEF-D86A18132D13}" type="slidenum">
              <a:rPr b="0" lang="en-GB" sz="800" spc="-1" strike="noStrike">
                <a:solidFill>
                  <a:srgbClr val="55758f"/>
                </a:solidFill>
                <a:latin typeface="Arial Narrow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3e3e40"/>
              </a:solidFill>
              <a:latin typeface="Arial Narrow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494240"/>
          </a:xfrm>
          <a:prstGeom prst="rect">
            <a:avLst/>
          </a:prstGeom>
          <a:solidFill>
            <a:srgbClr val="557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3440" y="5765760"/>
            <a:ext cx="2008080" cy="57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440" y="3073320"/>
            <a:ext cx="9144000" cy="2237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1440" indent="0"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40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2" marL="181080" indent="179280" algn="ctr">
              <a:spcAft>
                <a:spcPts val="1001"/>
              </a:spcAft>
              <a:buClr>
                <a:srgbClr val="3e3e4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3" marL="360360" indent="179280" algn="ctr">
              <a:spcAft>
                <a:spcPts val="1001"/>
              </a:spcAft>
              <a:buClr>
                <a:srgbClr val="3e3e40"/>
              </a:buClr>
              <a:buFont typeface="Arial Narrow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4" marL="539640" indent="179640" algn="ctr">
              <a:spcAft>
                <a:spcPts val="1001"/>
              </a:spcAft>
              <a:buClr>
                <a:srgbClr val="3e3e40"/>
              </a:buClr>
              <a:buFont typeface="Arial Narrow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5" marL="539640" indent="179640">
              <a:spcBef>
                <a:spcPts val="400"/>
              </a:spcBef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6" marL="539640" indent="179640">
              <a:spcBef>
                <a:spcPts val="400"/>
              </a:spcBef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ff"/>
                </a:solidFill>
                <a:latin typeface="Arial Narrow"/>
              </a:rPr>
              <a:t>Pioneer Investments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792144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bb414"/>
                </a:solidFill>
                <a:latin typeface="Arial Narrow"/>
              </a:rPr>
              <a:t>Pravidelné investovanie a jeho marketing</a:t>
            </a: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Arial Narrow"/>
              </a:rPr>
              <a:t>Ing. Miroslav Ovčarik</a:t>
            </a:r>
            <a:endParaRPr b="0" i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Arial Narrow"/>
              </a:rPr>
              <a:t>Country Manager pre SR</a:t>
            </a:r>
            <a:endParaRPr b="0" i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ebb414"/>
                </a:solidFill>
                <a:latin typeface="Arial Narrow"/>
              </a:rPr>
              <a:t>2012</a:t>
            </a:r>
            <a:endParaRPr b="0" i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Situácia na trhu s podielovými fondami v SR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dominancia 4 domácich správcov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konzervatívni investori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relatívne málo skúseností s investovaním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ak skúsenosti, tak častokrát negatívne...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nízka finančná gramotnosť obyvateľstva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podpora štátu pre iné investície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zastúpenie alternatívnych investícií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Ako sa presadiť na trhu?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Cieľová skupina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s dlhým investičným horizontom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Produkt  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minimalizovať chyby investorov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prístupnosť - pravidelné investovani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dôraz na flexibilitu a jednoduchosť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Distribučné kanály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banka, sprostredkovatelia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Poplatková štruktúra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prijateľná pre klienta, motivačná pre predaj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Marketing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Pravidelné investovanie - MARKETING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Odborná verejnosť (distribútori, novinári, opinion lídri)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vzdelávanie distribútorov (klasické školenia, konferencie, ale aj formou hier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odborné a populárne články a vystúpenia v médiách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odporné materiály (PPTs, brožúry, letáky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odpora pri predaji (stály kontakt, pomoc pri predaji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Investori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web (novinky, info o trhoch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aše materiály (výpisy, internetová aplikácia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tlačové správy (úspechy firmy alebo našich produktov, novinky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hotlin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Záver – pravidelné investovanie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Výhody (komunikované trhu)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alternatíva napr. pre ďalší dôchodkový pilier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častokrát bezpečnejšia a prístupnejsia forma investovania už od malých čiastok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hotové riešenia pre rôzne cieľové skupiny a investičné horizonty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riemerovanie ceny eliminuje vplyv „emócií“ na investovani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ostupne narastajúce predaje pre firmu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Nevýhody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árast AUM pre firmu je pomalší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etrpezlivosť klientov predčasne ukončuje investovani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ie je podpora pre (dlhodobé) investovanie zo strany štátu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1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82a"/>
                </a:solidFill>
                <a:latin typeface="Arial Narrow"/>
              </a:rPr>
              <a:t> </a:t>
            </a:r>
            <a:r>
              <a:rPr b="1" lang="cs-CZ" sz="2400" spc="-1" strike="noStrike">
                <a:solidFill>
                  <a:srgbClr val="ffc82a"/>
                </a:solidFill>
                <a:latin typeface="Arial Narrow"/>
              </a:rPr>
              <a:t>Kontak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765000"/>
            <a:ext cx="6624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k-SK" sz="2100" spc="-1" strike="noStrike">
                <a:solidFill>
                  <a:srgbClr val="ffffff"/>
                </a:solidFill>
                <a:latin typeface="Arial Narrow"/>
              </a:rPr>
              <a:t>Ing. Miroslav Ovčarik</a:t>
            </a:r>
            <a:br>
              <a:rPr sz="2100"/>
            </a:br>
            <a:r>
              <a:rPr b="0" lang="sk-SK" sz="2100" spc="-1" strike="noStrike">
                <a:solidFill>
                  <a:srgbClr val="ffffff"/>
                </a:solidFill>
                <a:latin typeface="Arial Narrow"/>
              </a:rPr>
              <a:t>miroslav.ovcarik@pioneerinvestments.com</a:t>
            </a:r>
            <a:br>
              <a:rPr sz="21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Narrow"/>
              </a:rPr>
              <a:t>Pioneer Investments v  SR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Narrow"/>
              </a:rPr>
              <a:t>Krížna 50, </a:t>
            </a:r>
            <a:r>
              <a:rPr b="1" lang="cs-CZ" sz="1800" spc="-1" strike="noStrike">
                <a:solidFill>
                  <a:srgbClr val="ffffff"/>
                </a:solidFill>
                <a:latin typeface="Arial Narrow"/>
              </a:rPr>
              <a:t>821 08  Bratislava 2</a:t>
            </a:r>
            <a:br>
              <a:rPr sz="1800"/>
            </a:b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www.pioneerinvestments.sk</a:t>
            </a:r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10:48Z</dcterms:created>
  <dc:creator>Administrator</dc:creator>
  <dc:description>Presentation template – Activest;
Version 2.0;
2008-07-04;</dc:description>
  <cp:keywords/>
  <dc:language>en-US</dc:language>
  <cp:lastModifiedBy>Ovcarik</cp:lastModifiedBy>
  <cp:lastPrinted>2008-05-05T12:36:21Z</cp:lastPrinted>
  <dcterms:modified xsi:type="dcterms:W3CDTF">2012-11-02T15:18:56Z</dcterms:modified>
  <cp:revision>360</cp:revision>
  <dc:subject/>
  <dc:title>Pioneer Ins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arbeitet">
    <vt:lpwstr>gadamoivch</vt:lpwstr>
  </property>
  <property fmtid="{D5CDD505-2E9C-101B-9397-08002B2CF9AE}" pid="3" name="Erstellt am">
    <vt:lpwstr>16-01-2006</vt:lpwstr>
  </property>
  <property fmtid="{D5CDD505-2E9C-101B-9397-08002B2CF9AE}" pid="4" name="Erstellt von">
    <vt:lpwstr>united designers network</vt:lpwstr>
  </property>
  <property fmtid="{D5CDD505-2E9C-101B-9397-08002B2CF9AE}" pid="5" name="Letzte Version vom">
    <vt:lpwstr>03-04-2006</vt:lpwstr>
  </property>
  <property fmtid="{D5CDD505-2E9C-101B-9397-08002B2CF9AE}" pid="6" name="Version">
    <vt:lpwstr>2.0</vt:lpwstr>
  </property>
  <property fmtid="{D5CDD505-2E9C-101B-9397-08002B2CF9AE}" pid="7" name="_NewReviewCycle">
    <vt:lpwstr/>
  </property>
</Properties>
</file>