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4.png" ContentType="image/png"/>
  <Override PartName="/ppt/media/image3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png" ContentType="image/png"/>
  <Override PartName="/ppt/media/image26.jpeg" ContentType="image/jpeg"/>
  <Override PartName="/ppt/media/image18.wmf" ContentType="image/x-wmf"/>
  <Override PartName="/ppt/media/image20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3"/>
          </p:nvPr>
        </p:nvSpPr>
        <p:spPr>
          <a:xfrm>
            <a:off x="383688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912600" y="743040"/>
            <a:ext cx="4948200" cy="371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03240" y="4705200"/>
            <a:ext cx="4965840" cy="4454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4"/>
          </p:nvPr>
        </p:nvSpPr>
        <p:spPr>
          <a:xfrm>
            <a:off x="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5"/>
          </p:nvPr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0D42-5177-45CF-A1D2-097B6D417110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48200" cy="37130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3240" y="4705200"/>
            <a:ext cx="496584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Zástupný symbol čísla snímky 3"/>
          <p:cNvSpPr/>
          <p:nvPr/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4AD7-3047-4DA8-B74A-F48AA8E4E04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5280" y="357624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1232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772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016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528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772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016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452520"/>
            <a:ext cx="8229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1232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5280" y="357624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1232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772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016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9528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772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016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452520"/>
            <a:ext cx="8229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1232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5280" y="357624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1232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7772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6016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9528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7772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6016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452520"/>
            <a:ext cx="8229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1232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2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31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828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360" y="6303960"/>
            <a:ext cx="23112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Názov prezentácie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3F2E-F421-4BD8-8900-2E3621419BFB}" type="datetime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Times New Roman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BB5F872-B910-454F-AFDB-8CA43817A559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6"/>
          <p:cNvSpPr/>
          <p:nvPr/>
        </p:nvSpPr>
        <p:spPr>
          <a:xfrm>
            <a:off x="552600" y="1222200"/>
            <a:ext cx="7989840" cy="0"/>
          </a:xfrm>
          <a:prstGeom prst="line">
            <a:avLst/>
          </a:prstGeom>
          <a:ln w="50760">
            <a:solidFill>
              <a:srgbClr val="0836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2"/>
          <p:cNvSpPr/>
          <p:nvPr/>
        </p:nvSpPr>
        <p:spPr>
          <a:xfrm>
            <a:off x="4824360" y="6021360"/>
            <a:ext cx="2195640" cy="59364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7" descr="Erste_Asset_rgb"/>
          <p:cNvPicPr/>
          <p:nvPr/>
        </p:nvPicPr>
        <p:blipFill>
          <a:blip r:embed="rId2"/>
          <a:stretch/>
        </p:blipFill>
        <p:spPr>
          <a:xfrm>
            <a:off x="5003640" y="6237360"/>
            <a:ext cx="1440000" cy="301680"/>
          </a:xfrm>
          <a:prstGeom prst="rect">
            <a:avLst/>
          </a:prstGeom>
          <a:ln w="0">
            <a:noFill/>
          </a:ln>
        </p:spPr>
      </p:pic>
      <p:sp>
        <p:nvSpPr>
          <p:cNvPr id="6" name="Text Box 22"/>
          <p:cNvSpPr/>
          <p:nvPr/>
        </p:nvSpPr>
        <p:spPr>
          <a:xfrm>
            <a:off x="6948360" y="6021360"/>
            <a:ext cx="2195640" cy="59364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9" descr="AM SLSP cmyk kopie"/>
          <p:cNvPicPr/>
          <p:nvPr/>
        </p:nvPicPr>
        <p:blipFill>
          <a:blip r:embed="rId3"/>
          <a:stretch/>
        </p:blipFill>
        <p:spPr>
          <a:xfrm>
            <a:off x="6659640" y="6221520"/>
            <a:ext cx="2347920" cy="303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" descr="Erste_Asset_rgb"/>
          <p:cNvPicPr/>
          <p:nvPr/>
        </p:nvPicPr>
        <p:blipFill>
          <a:blip r:embed="rId2"/>
          <a:stretch/>
        </p:blipFill>
        <p:spPr>
          <a:xfrm>
            <a:off x="468360" y="6093000"/>
            <a:ext cx="2698560" cy="564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AM SLSP cmyk kopie"/>
          <p:cNvPicPr/>
          <p:nvPr/>
        </p:nvPicPr>
        <p:blipFill>
          <a:blip r:embed="rId3"/>
          <a:stretch/>
        </p:blipFill>
        <p:spPr>
          <a:xfrm>
            <a:off x="5435640" y="6237360"/>
            <a:ext cx="3282840" cy="423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2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31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828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6"/>
          <p:cNvSpPr/>
          <p:nvPr/>
        </p:nvSpPr>
        <p:spPr>
          <a:xfrm>
            <a:off x="552600" y="1222200"/>
            <a:ext cx="7989840" cy="0"/>
          </a:xfrm>
          <a:prstGeom prst="line">
            <a:avLst/>
          </a:prstGeom>
          <a:ln w="50760">
            <a:solidFill>
              <a:srgbClr val="0836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4824360" y="6021360"/>
            <a:ext cx="2195640" cy="59364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7" descr="Erste_Asset_rgb"/>
          <p:cNvPicPr/>
          <p:nvPr/>
        </p:nvPicPr>
        <p:blipFill>
          <a:blip r:embed="rId2"/>
          <a:stretch/>
        </p:blipFill>
        <p:spPr>
          <a:xfrm>
            <a:off x="5003640" y="6237360"/>
            <a:ext cx="1440000" cy="301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2"/>
          <p:cNvSpPr/>
          <p:nvPr/>
        </p:nvSpPr>
        <p:spPr>
          <a:xfrm>
            <a:off x="6948360" y="6021360"/>
            <a:ext cx="2195640" cy="59364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9" descr="AM SLSP cmyk kopie"/>
          <p:cNvPicPr/>
          <p:nvPr/>
        </p:nvPicPr>
        <p:blipFill>
          <a:blip r:embed="rId3"/>
          <a:stretch/>
        </p:blipFill>
        <p:spPr>
          <a:xfrm>
            <a:off x="6659640" y="6221520"/>
            <a:ext cx="2347920" cy="303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2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31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828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46800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Times New Roman"/>
              </a:rPr>
              <a:t>Dlhopisové fondy – budú sa opakovať úspechy poslednej doby?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A7A9-2E9C-4FED-AA74-7A939AFF79C9}" type="datetime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Times New Roman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1EE30A3-471F-4B70-86C5-5FDDBEAC68DD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hyperlink" Target="http://epp.eurostat.ec.europa.eu/guip/introAction.do?profile=cpro&amp;theme=eurind&amp;lang=en" TargetMode="External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3320" y="1125360"/>
            <a:ext cx="814068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Doba konzervatívnych investičných nástrojov.</a:t>
            </a:r>
            <a:br>
              <a:rPr sz="3200"/>
            </a:b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ú peňažné trhy a dlhopisy liekom na porazenie inflácie v prostredí dlhovej krízy?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3680" y="3860640"/>
            <a:ext cx="82072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10. November 2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eter Her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enior portfolio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sset Management Slovenskej sporiteľ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ráv. spol., a.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878508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Nízke úrokové sadzby peňažného trhu (EURIB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8A61-E930-4884-824C-382E643F2014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BBC8F5E5-1D2B-410C-8D4D-886C12F70A4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4032360" cy="2427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"/>
          <p:cNvPicPr/>
          <p:nvPr/>
        </p:nvPicPr>
        <p:blipFill>
          <a:blip r:embed="rId2"/>
          <a:stretch/>
        </p:blipFill>
        <p:spPr>
          <a:xfrm>
            <a:off x="539640" y="3735360"/>
            <a:ext cx="4032360" cy="2357640"/>
          </a:xfrm>
          <a:prstGeom prst="rect">
            <a:avLst/>
          </a:prstGeom>
          <a:ln w="0">
            <a:noFill/>
          </a:ln>
        </p:spPr>
      </p:pic>
      <p:sp>
        <p:nvSpPr>
          <p:cNvPr id="194" name="Obdĺžnik 7"/>
          <p:cNvSpPr/>
          <p:nvPr/>
        </p:nvSpPr>
        <p:spPr>
          <a:xfrm>
            <a:off x="471240" y="602136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4572000" y="1268280"/>
            <a:ext cx="4032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Menová politika ECB (nízke úrokové sadzby, dostatok likvidity) tlačí úrokové sadzby EURIBOR nado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ajbližších 12M - 18M neuvidíme výraznejšiu zmenu trhových úrokových sadzieb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Hlavná sadzba ECB vs. depo O/N sadzb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i porovnaní spotového trhu krátkodobých úrokov s forwardovou krivkou vyplýva, že rastúci priebeh úrokovej krivky je viac definovaný prémiou za likviditu než očakávaním rastu úroko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Tento rok sme videli už pokles pozdĺž celej úrokovej krivky o 91 až 132 bp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Aktuálne kotácie 3M a 12M Euriboru na úrovni 0,20%, resp. 0,63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85672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pa dlhopisov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ých výnosov – kde hladať výnos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6889-A966-4FA0-B4FC-14627A672BD9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E36C0E9D-2D45-4548-A36F-BF893D1768C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5977080" cy="4488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"/>
          <p:cNvPicPr/>
          <p:nvPr/>
        </p:nvPicPr>
        <p:blipFill>
          <a:blip r:embed="rId2"/>
          <a:stretch/>
        </p:blipFill>
        <p:spPr>
          <a:xfrm>
            <a:off x="1332000" y="5732640"/>
            <a:ext cx="8885160" cy="223560"/>
          </a:xfrm>
          <a:prstGeom prst="rect">
            <a:avLst/>
          </a:prstGeom>
          <a:ln w="0">
            <a:noFill/>
          </a:ln>
        </p:spPr>
      </p:pic>
      <p:sp>
        <p:nvSpPr>
          <p:cNvPr id="200" name="Obdĺžnik 7"/>
          <p:cNvSpPr/>
          <p:nvPr/>
        </p:nvSpPr>
        <p:spPr>
          <a:xfrm>
            <a:off x="610200" y="5991120"/>
            <a:ext cx="4221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Eurostat 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pp.eurostat.ec.europa.eu/guip/introAction.do?profile=cpro&amp;theme=eurind&amp;lang=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BlokTextu 9"/>
          <p:cNvSpPr/>
          <p:nvPr/>
        </p:nvSpPr>
        <p:spPr>
          <a:xfrm>
            <a:off x="1363320" y="5445000"/>
            <a:ext cx="576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Dlhodobé výnosy štátnych dlhopisov v EÚ, dáta k 09/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Nízke výnosy dlhopisov (hlavné trhy- US,GE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FA5C-D6B7-4831-8E38-698FA065F488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40AE084B-CF7E-45ED-B5AF-7625F238527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4572000" y="1268280"/>
            <a:ext cx="403236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Trh bezrizikových štátnych dlhopisov (US/GER) zaznamenal bezprecedentný vývo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Opäť tak ťažil aj z rizikovej averzie a neistoty na finančných trhoch (útek ku kvalite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Riešenie dlhovej krízy v Eurozóne je zložité a stále je vysoká miera neistoty na trhu, toky investícií do bezpečných dlhopisov znižujú ich výnos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Výnosy ich 10-ročných dlhopisov dosiahli v  júli rekordné úrovne 1,39% resp. 1,2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Od augusta prebieha korekcia vo výnosoch (čiastočné eliminovanie „prémie za kvalitu“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Riziko výraznejšieho nárastu dlhodobých výnosov (10Y) bude prameniť najmä z obratu v menovej politik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Čo aktuálne predstavuje skôr strednodobý rizikový fakto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Očakávame iba mierny rast výnosov počas najbližšieho rok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bdĺžnik 7"/>
          <p:cNvSpPr/>
          <p:nvPr/>
        </p:nvSpPr>
        <p:spPr>
          <a:xfrm>
            <a:off x="542520" y="609300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539640" y="3782880"/>
            <a:ext cx="3961080" cy="23828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"/>
          <p:cNvPicPr/>
          <p:nvPr/>
        </p:nvPicPr>
        <p:blipFill>
          <a:blip r:embed="rId2"/>
          <a:stretch/>
        </p:blipFill>
        <p:spPr>
          <a:xfrm>
            <a:off x="539640" y="1320840"/>
            <a:ext cx="3961080" cy="2468520"/>
          </a:xfrm>
          <a:prstGeom prst="rect">
            <a:avLst/>
          </a:prstGeom>
          <a:ln w="0">
            <a:noFill/>
          </a:ln>
        </p:spPr>
      </p:pic>
      <p:cxnSp>
        <p:nvCxnSpPr>
          <p:cNvPr id="208" name="Rovná spojovacia šípka 10"/>
          <p:cNvCxnSpPr/>
          <p:nvPr/>
        </p:nvCxnSpPr>
        <p:spPr>
          <a:xfrm>
            <a:off x="826920" y="2349360"/>
            <a:ext cx="3385440" cy="720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9" name="Rovná spojovacia šípka 9"/>
          <p:cNvCxnSpPr/>
          <p:nvPr/>
        </p:nvCxnSpPr>
        <p:spPr>
          <a:xfrm flipV="1">
            <a:off x="4284720" y="2923920"/>
            <a:ext cx="216720" cy="218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Nízke výnosy dlhopisov..., a čo na Slovensku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F9B1-B7A9-44E1-9C8C-0F8D07EA0E59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829A360A-346C-4401-9677-C03B14BFA8B1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6700680" cy="4032360"/>
          </a:xfrm>
          <a:prstGeom prst="rect">
            <a:avLst/>
          </a:prstGeom>
          <a:ln w="0">
            <a:noFill/>
          </a:ln>
        </p:spPr>
      </p:pic>
      <p:sp>
        <p:nvSpPr>
          <p:cNvPr id="213" name="Obdĺžnik 7"/>
          <p:cNvSpPr/>
          <p:nvPr/>
        </p:nvSpPr>
        <p:spPr>
          <a:xfrm>
            <a:off x="1045800" y="595008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755640" y="1268280"/>
            <a:ext cx="7993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5188"/>
                </a:solidFill>
                <a:latin typeface="Arial"/>
              </a:rPr>
              <a:t>	</a:t>
            </a:r>
            <a:r>
              <a:rPr b="1" i="1" lang="sk-SK" sz="2000" spc="-1" strike="noStrike">
                <a:solidFill>
                  <a:srgbClr val="005188"/>
                </a:solidFill>
                <a:latin typeface="Arial"/>
              </a:rPr>
              <a:t>Zodpovedá aktuálna výnosová krivka na Slovensku jeho  fundamentom? Je spread voči swapom adekvát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lovenský trh štátnych dlhopiso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4EB9-D3CB-4365-9A65-C1AFF28DCC30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D37C7C83-440E-40CD-9A6F-AB1423C4738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4809960" cy="4066920"/>
          </a:xfrm>
          <a:prstGeom prst="rect">
            <a:avLst/>
          </a:prstGeom>
          <a:ln w="0">
            <a:noFill/>
          </a:ln>
        </p:spPr>
      </p:pic>
      <p:sp>
        <p:nvSpPr>
          <p:cNvPr id="218" name="Textfeld 4"/>
          <p:cNvSpPr/>
          <p:nvPr/>
        </p:nvSpPr>
        <p:spPr>
          <a:xfrm>
            <a:off x="179280" y="1465200"/>
            <a:ext cx="47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ýnosy a výkonnosť štátnych dlhopisov Slovens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4788000" y="1844640"/>
            <a:ext cx="423684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ídny ekonomický rast a nízka zadlženosť vlády robia Slovenské štátne dlhopisy v očiach investorov atraktívnym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zitívne je vnímaný aj stabilný ratingový výhľad a fiškálne opatrenia vlády prijaté v záujme dosiahnuť zníženie deficitu verejných financií v roku 201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azniv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ý sentiment na trhoch pokračuje a s ním aj vývoj na lokálnom dlhopisovom trh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Výnosová krivka opäť prepisovala historické rekordy, keď najmä dlhé splatnosti zaznamenali nové rekordne nízke úrov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-ro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čný výnos štátnych dlhopisov sa obchodoval v závere septembra na úrovni 2,63%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Senzitivita lokálnych výnosov na negatívny vývoj je čiastočne limitovaná ponukou nových dlhopisov na trh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bdĺžnik 7"/>
          <p:cNvSpPr/>
          <p:nvPr/>
        </p:nvSpPr>
        <p:spPr>
          <a:xfrm>
            <a:off x="253800" y="580536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1E2F-C96E-4F53-BF69-13AF347779EE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66332F0D-3F5F-4C4C-9D38-258D8F9D424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534960" y="2060640"/>
            <a:ext cx="5051520" cy="31687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3"/>
          <p:cNvSpPr/>
          <p:nvPr/>
        </p:nvSpPr>
        <p:spPr>
          <a:xfrm>
            <a:off x="5580000" y="2060640"/>
            <a:ext cx="30243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2-ročný americký interest rate swap spread sa ďalej znižuje, čo indikuje zvýšený záujem investorov o korporátne dlhopis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Aktuálne úrovne 9-10 bps veľmi blízko k rekordným minimám z roku 199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Korporátne dlhopisy na najlepšej ceste k rekordným ziskom tento r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bdĺžnik 7"/>
          <p:cNvSpPr/>
          <p:nvPr/>
        </p:nvSpPr>
        <p:spPr>
          <a:xfrm>
            <a:off x="471240" y="515772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ovná spojnica 8"/>
          <p:cNvSpPr/>
          <p:nvPr/>
        </p:nvSpPr>
        <p:spPr>
          <a:xfrm>
            <a:off x="1116000" y="4149720"/>
            <a:ext cx="4392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ujem investorov o kreditné expozície rasti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250920" y="1339920"/>
            <a:ext cx="7993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5188"/>
                </a:solidFill>
                <a:latin typeface="Arial"/>
              </a:rPr>
              <a:t>	</a:t>
            </a:r>
            <a:r>
              <a:rPr b="1" i="1" lang="sk-SK" sz="2000" spc="-1" strike="noStrike">
                <a:solidFill>
                  <a:srgbClr val="005188"/>
                </a:solidFill>
                <a:latin typeface="Arial"/>
              </a:rPr>
              <a:t>Indikátor nálady investorov na dlhopisových trhoch sa ďalej zlepš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EBD3-35FC-4F3A-965C-C06F7A5E5DEF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8BBD6B21-A32B-4ADA-A138-C65F825C6A8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bdĺžnik 7"/>
          <p:cNvSpPr/>
          <p:nvPr/>
        </p:nvSpPr>
        <p:spPr>
          <a:xfrm>
            <a:off x="1118880" y="595008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539640" y="1341360"/>
            <a:ext cx="8136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Výrazný pokles ceny protekcie rizika defaultu (CDS) v tomto roku pri všetkých indexoc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Absolútny aj relatívny pokles spreadu indexu európskych HY voči IG naznačuje zvyšujúci záujem aj o rizikovejšie dlhopisy – veľmi nízke úrovne výnosov pri IG podporujú apetít po výnosnejších H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1"/>
          <a:stretch/>
        </p:blipFill>
        <p:spPr>
          <a:xfrm>
            <a:off x="1187280" y="2205000"/>
            <a:ext cx="6751800" cy="38163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ujem investorov o kreditné expozície rasti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00AF-9694-4121-A341-1211FC2B1074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09257E7C-FDC6-4F9B-8583-CCF53B814071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" descr="C:\USERS\BloombergSAM\Desktop\we.gif"/>
          <p:cNvPicPr/>
          <p:nvPr/>
        </p:nvPicPr>
        <p:blipFill>
          <a:blip r:embed="rId1"/>
          <a:stretch/>
        </p:blipFill>
        <p:spPr>
          <a:xfrm>
            <a:off x="900000" y="1650960"/>
            <a:ext cx="7272360" cy="4370400"/>
          </a:xfrm>
          <a:prstGeom prst="rect">
            <a:avLst/>
          </a:prstGeom>
          <a:ln w="0">
            <a:noFill/>
          </a:ln>
        </p:spPr>
      </p:pic>
      <p:sp>
        <p:nvSpPr>
          <p:cNvPr id="235" name="Obdĺžnik 7"/>
          <p:cNvSpPr/>
          <p:nvPr/>
        </p:nvSpPr>
        <p:spPr>
          <a:xfrm>
            <a:off x="902880" y="595008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eriférne ekonomiky Eurozóny – CDS spread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324000" y="1268280"/>
            <a:ext cx="8496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5188"/>
                </a:solidFill>
                <a:latin typeface="Arial"/>
              </a:rPr>
              <a:t>	</a:t>
            </a:r>
            <a:r>
              <a:rPr b="1" i="1" lang="sk-SK" sz="2000" spc="-1" strike="noStrike">
                <a:solidFill>
                  <a:srgbClr val="005188"/>
                </a:solidFill>
                <a:latin typeface="Arial"/>
              </a:rPr>
              <a:t>Významný pokles rizikovej prémie najproblémovejších krajín 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ál 8"/>
          <p:cNvSpPr/>
          <p:nvPr/>
        </p:nvSpPr>
        <p:spPr>
          <a:xfrm>
            <a:off x="1692360" y="2565360"/>
            <a:ext cx="1366920" cy="2519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ál 9"/>
          <p:cNvSpPr/>
          <p:nvPr/>
        </p:nvSpPr>
        <p:spPr>
          <a:xfrm>
            <a:off x="4356000" y="2997360"/>
            <a:ext cx="863640" cy="20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ál 10"/>
          <p:cNvSpPr/>
          <p:nvPr/>
        </p:nvSpPr>
        <p:spPr>
          <a:xfrm>
            <a:off x="7524720" y="4221000"/>
            <a:ext cx="142920" cy="1008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Rovná spojovacia šípka 12"/>
          <p:cNvCxnSpPr/>
          <p:nvPr/>
        </p:nvCxnSpPr>
        <p:spPr>
          <a:xfrm>
            <a:off x="5219280" y="4221000"/>
            <a:ext cx="2305440" cy="7214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42" name="Rovná spojovacia šípka 16"/>
          <p:cNvCxnSpPr/>
          <p:nvPr/>
        </p:nvCxnSpPr>
        <p:spPr>
          <a:xfrm>
            <a:off x="2700000" y="2637000"/>
            <a:ext cx="4825080" cy="17294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Zástupný symbol päty 3"/>
          <p:cNvSpPr/>
          <p:nvPr/>
        </p:nvSpPr>
        <p:spPr>
          <a:xfrm>
            <a:off x="468360" y="6303960"/>
            <a:ext cx="4319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02E6174D-3BCB-4959-AC51-AC7B73829319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529E530E-51B7-4373-BEFB-640124F6BA7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19120" y="62064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ver a zhodnoten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6" descr="\\shq404\MPPAMSLSP\OBRAZKY\j0433123.jpg"/>
          <p:cNvPicPr/>
          <p:nvPr/>
        </p:nvPicPr>
        <p:blipFill>
          <a:blip r:embed="rId1"/>
          <a:stretch/>
        </p:blipFill>
        <p:spPr>
          <a:xfrm>
            <a:off x="1371600" y="1446120"/>
            <a:ext cx="64008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Zástupný symbol päty 3"/>
          <p:cNvSpPr/>
          <p:nvPr/>
        </p:nvSpPr>
        <p:spPr>
          <a:xfrm>
            <a:off x="468360" y="6303960"/>
            <a:ext cx="4319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D509075F-4322-45F5-B6DB-DD80DB778FBE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98E74122-AF3F-4C3D-AD7D-753BA64EBD0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ĎAKUJEM ZA POZORNOS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Zástupný symbol päty 3"/>
          <p:cNvSpPr/>
          <p:nvPr/>
        </p:nvSpPr>
        <p:spPr>
          <a:xfrm>
            <a:off x="468360" y="6303960"/>
            <a:ext cx="4248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03A29DEC-D953-4006-8555-937666C11AE7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71A703B7-B6CA-4B6B-A1EF-EDB0046A3E2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Hlavné témy prezentác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353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6040" indent="-17604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Globálna ekonomická aktivita je slabá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scenár pomalého a krehkého oživenia). Negatívny „output gap“, obmedzovanie výdavkov (spotrebitelia, vlády, bank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lhová kríza a procyklický efekt fiškálnej politiky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. Bolestivý vyrovnávací proces niektorých slabších krajín Eurozóny (zvýšenie konkurencieschopnosti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flácia vs. deflácia. Riziká a príležitosti.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dukcia nedosahujúca svoj výrobný potenciál tlačí infláciu dole. Inflačné riziká plynú z cien potravín a energií, ako aj z vládneho sektora (dan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olitika globálnych CB – totálna expanzívna menová politik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nízke, resp. nulové úrokové sadzby, nekonvenčné opatrenia –QE/OM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Nízke úrokové sadzby peňažného trhu a nízke výnosy dlhopisov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slabý hospodársky rast, nastavenie menovej politiky a kreditné riziká ovplyvňujú úroveň výnosov). Hlavné trhy štátnych dlhopisov (USA,GER) = bezpečný prístav (riziková averzi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rhové prostredie je naklonené k triedam aktív s vyššími výnosmi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, uvidíme ďalší presun investorov z trhu bezrizikových štátnych dlhopisov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Globálna ekonomická aktivita je slab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5EA3-9874-4CDE-B2F4-F75E46692BF5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010091C9-9ABA-4A17-B9B4-CBD58E5A289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4176720" cy="2513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"/>
          <p:cNvPicPr/>
          <p:nvPr/>
        </p:nvPicPr>
        <p:blipFill>
          <a:blip r:embed="rId2"/>
          <a:stretch/>
        </p:blipFill>
        <p:spPr>
          <a:xfrm>
            <a:off x="539640" y="3716280"/>
            <a:ext cx="4176720" cy="2513160"/>
          </a:xfrm>
          <a:prstGeom prst="rect">
            <a:avLst/>
          </a:prstGeom>
          <a:ln w="0">
            <a:noFill/>
          </a:ln>
        </p:spPr>
      </p:pic>
      <p:sp>
        <p:nvSpPr>
          <p:cNvPr id="144" name="Obdĺžnik 7"/>
          <p:cNvSpPr/>
          <p:nvPr/>
        </p:nvSpPr>
        <p:spPr>
          <a:xfrm>
            <a:off x="3655800" y="6165720"/>
            <a:ext cx="1273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IMF,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4716360" y="1268280"/>
            <a:ext cx="38163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Súčasný vývoj naznačuje scenár slabého, pomalého a krehkého ožive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Rastový potenciál rozvíjajúcich sa krajín je stále nedotknutý, nad úrovňou A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iemyselná produkcia nedosahuje svoj výrobný potenciál = negatívny output ga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V USA by mal HDP rásť o 2% v 2012. Indikátory však naznačujú riziko aj pre tento región. Situácia na trhu práce sa zlepšila, ale rýchlosťou, ktorá je pre FED pomalá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dikátory sentimentu v Eurozóne naznačujú zvýšené riziko reces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Viaceré ekonomické faktory  (spotrebitelia, firmy/banky, vlády) obmedzili svoje výdav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ačasovanie obratu v reálnej ekonomike kľúčovo závisí na vývoji dlhovej krízy. Vnútorný dopyt je slabý v dôsledku prepadu sentimentu a konsolidácie, zatiaľ čo nedostatok optimizmu vysoko vplýva na  investície a spotreb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lhov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á kríza, ako ďalej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A3F9-6918-4CCF-A3DB-5DAE1A9FEF60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CD86255A-53C7-411A-A82B-ED81A2EC69F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187880" cy="2592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"/>
          <p:cNvPicPr/>
          <p:nvPr/>
        </p:nvPicPr>
        <p:blipFill>
          <a:blip r:embed="rId2"/>
          <a:stretch/>
        </p:blipFill>
        <p:spPr>
          <a:xfrm>
            <a:off x="4336920" y="2852640"/>
            <a:ext cx="4772160" cy="33926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4356000" y="1341360"/>
            <a:ext cx="4248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kážka riešenia dlhovej krízy v Eurozóne? Bolestivý vyrovnávací proces niektorých slabších krajín Eurozón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Signály vyčerpania fiškálnej konsolidác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Morálny hazard a averzia k prevzatiu spoločnej zodpovednosti za dlhovú záťa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95280" y="4149720"/>
            <a:ext cx="39607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ostupné zvýšenie pozornosti k problému „Fiscal cliff“ v USA. Automatické zvýšenie daní a zníženie výdavkov by spôsobili pokles HDP o 3,5% - riziko reces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otreba konsolidovania verejných financií stále vysoká v mnohých krajiná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Vládny dlh/HDP aktuálne cez 80% vo všetkých vyspelých ekonomikách (G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ĺžnik 7"/>
          <p:cNvSpPr/>
          <p:nvPr/>
        </p:nvSpPr>
        <p:spPr>
          <a:xfrm>
            <a:off x="73440" y="3860640"/>
            <a:ext cx="355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Eurostat, European Commision economic spring 2012 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ĺžnik 8"/>
          <p:cNvSpPr/>
          <p:nvPr/>
        </p:nvSpPr>
        <p:spPr>
          <a:xfrm>
            <a:off x="7991640" y="6021360"/>
            <a:ext cx="111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IMF, *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ĺžnik 9"/>
          <p:cNvSpPr/>
          <p:nvPr/>
        </p:nvSpPr>
        <p:spPr>
          <a:xfrm>
            <a:off x="684360" y="1366920"/>
            <a:ext cx="22320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100" spc="-1" strike="noStrike">
                <a:solidFill>
                  <a:srgbClr val="000000"/>
                </a:solidFill>
                <a:latin typeface="Arial"/>
              </a:rPr>
              <a:t>Vývoj deficitu a dlhu v EÚ a E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4079-01F8-420F-AA1E-011B6D775AF0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EFC1F30C-F65C-4373-8C07-53BDD9F8F28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700200" y="2247840"/>
            <a:ext cx="6392880" cy="38451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Inflácia a jej očakávaný vývoj (pohľad č.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Rovná spojovacia šípka 6"/>
          <p:cNvCxnSpPr/>
          <p:nvPr/>
        </p:nvCxnSpPr>
        <p:spPr>
          <a:xfrm>
            <a:off x="5795640" y="3644640"/>
            <a:ext cx="1297800" cy="4323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9" name="Rovná spojovacia šípka 8"/>
          <p:cNvCxnSpPr/>
          <p:nvPr/>
        </p:nvCxnSpPr>
        <p:spPr>
          <a:xfrm>
            <a:off x="5651640" y="4292640"/>
            <a:ext cx="1442160" cy="289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0" name="Obdĺžnik 7"/>
          <p:cNvSpPr/>
          <p:nvPr/>
        </p:nvSpPr>
        <p:spPr>
          <a:xfrm>
            <a:off x="3495240" y="602136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539640" y="1268280"/>
            <a:ext cx="8064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odukcia, ktorá nedosahuje svoj výrobný potenciál a obmedzovanie výdavkov spôsobujú, že inflácia je tiež nízka. Inflačné riziká plynú z cien potravín, energie, ako aj z vládneho sekto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Slabý ekonomický rast a vysoká nezamestnanosť spôsobia tlak na pokles inflácie v strednodobom výhľa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75AC-788F-4B0B-BB58-FBB1CE91641D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3E7CBFFB-7115-48D7-8B79-F259586FCD22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611280" y="1711440"/>
            <a:ext cx="6985080" cy="43146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Inflácia a jej očakávaný vývoj (pohľad č.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bdĺžnik 7"/>
          <p:cNvSpPr/>
          <p:nvPr/>
        </p:nvSpPr>
        <p:spPr>
          <a:xfrm>
            <a:off x="3495240" y="602136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BlokTextu 10"/>
          <p:cNvSpPr/>
          <p:nvPr/>
        </p:nvSpPr>
        <p:spPr>
          <a:xfrm>
            <a:off x="7530120" y="25653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83676"/>
                </a:solidFill>
                <a:latin typeface="Arial"/>
              </a:rPr>
              <a:t>2,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BlokTextu 11"/>
          <p:cNvSpPr/>
          <p:nvPr/>
        </p:nvSpPr>
        <p:spPr>
          <a:xfrm>
            <a:off x="7530120" y="28526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0000"/>
                </a:solidFill>
                <a:latin typeface="Arial"/>
              </a:rPr>
              <a:t>1,7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BlokTextu 12"/>
          <p:cNvSpPr/>
          <p:nvPr/>
        </p:nvSpPr>
        <p:spPr>
          <a:xfrm>
            <a:off x="7530120" y="32036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1,3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BlokTextu 13"/>
          <p:cNvSpPr/>
          <p:nvPr/>
        </p:nvSpPr>
        <p:spPr>
          <a:xfrm>
            <a:off x="7530120" y="34923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cdedf4"/>
                </a:solidFill>
                <a:latin typeface="Arial"/>
              </a:rPr>
              <a:t>1,2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68360" y="1339920"/>
            <a:ext cx="8280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5188"/>
                </a:solidFill>
                <a:latin typeface="Arial"/>
              </a:rPr>
              <a:t>Aký vývoj inflácie predikujú štátne dlhopisy (break even sadzby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ál 15"/>
          <p:cNvSpPr/>
          <p:nvPr/>
        </p:nvSpPr>
        <p:spPr>
          <a:xfrm>
            <a:off x="7093080" y="2492280"/>
            <a:ext cx="287280" cy="1297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BlokTextu 16"/>
          <p:cNvSpPr/>
          <p:nvPr/>
        </p:nvSpPr>
        <p:spPr>
          <a:xfrm rot="16200000">
            <a:off x="656640" y="3403800"/>
            <a:ext cx="1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C375-5E56-4C8A-9D1F-98C83FF8A67B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EA705760-5E6B-40C3-8C8C-90FD5460E81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C:\USERS\BloombergSAM\Desktop\ilbe.gif"/>
          <p:cNvPicPr/>
          <p:nvPr/>
        </p:nvPicPr>
        <p:blipFill>
          <a:blip r:embed="rId1"/>
          <a:stretch/>
        </p:blipFill>
        <p:spPr>
          <a:xfrm>
            <a:off x="611280" y="1504800"/>
            <a:ext cx="7632720" cy="45882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Inflácia a jej očakávaný vývoj (pohľad č.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611280" y="1411200"/>
            <a:ext cx="770580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5188"/>
                </a:solidFill>
                <a:latin typeface="Arial"/>
              </a:rPr>
              <a:t>Ako predikujú vývoj inflácie swapové derivá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bdĺžnik 7"/>
          <p:cNvSpPr/>
          <p:nvPr/>
        </p:nvSpPr>
        <p:spPr>
          <a:xfrm>
            <a:off x="3495240" y="602136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Zástupný symbol päty 3"/>
          <p:cNvSpPr/>
          <p:nvPr/>
        </p:nvSpPr>
        <p:spPr>
          <a:xfrm>
            <a:off x="468360" y="6303960"/>
            <a:ext cx="4390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6AF78547-57DD-4948-854A-C3C48EB7F59F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8A94A196-73DB-4752-A52D-E7BBC9C476E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eflácia, deflačná špirála a dlhové bremen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Zástupný symbol obsahu 7" descr=""/>
          <p:cNvPicPr/>
          <p:nvPr/>
        </p:nvPicPr>
        <p:blipFill>
          <a:blip r:embed="rId1"/>
          <a:stretch/>
        </p:blipFill>
        <p:spPr>
          <a:xfrm>
            <a:off x="438120" y="1755720"/>
            <a:ext cx="8315280" cy="4248360"/>
          </a:xfrm>
          <a:prstGeom prst="rect">
            <a:avLst/>
          </a:prstGeom>
          <a:ln w="0">
            <a:noFill/>
          </a:ln>
        </p:spPr>
      </p:pic>
      <p:sp>
        <p:nvSpPr>
          <p:cNvPr id="181" name="Šípka doprava 9"/>
          <p:cNvSpPr/>
          <p:nvPr/>
        </p:nvSpPr>
        <p:spPr>
          <a:xfrm rot="2956800">
            <a:off x="2116080" y="3709800"/>
            <a:ext cx="555480" cy="425520"/>
          </a:xfrm>
          <a:prstGeom prst="rightArrow">
            <a:avLst>
              <a:gd name="adj1" fmla="val 60000"/>
              <a:gd name="adj2" fmla="val 49980"/>
            </a:avLst>
          </a:prstGeom>
          <a:solidFill>
            <a:srgbClr val="daede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395280" y="1341360"/>
            <a:ext cx="77058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5188"/>
                </a:solidFill>
                <a:latin typeface="Arial"/>
              </a:rPr>
              <a:t>Prečo sa centrálne banky snažia zabrániť deflačným riziká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889308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Globálne CB – totálna expanzívna menová politik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B3E8-15B9-4928-99C8-7684E27A46FA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47DA7730-A5BE-434D-9C95-1D2E08AD253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3961080" cy="238284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3"/>
          <p:cNvSpPr/>
          <p:nvPr/>
        </p:nvSpPr>
        <p:spPr>
          <a:xfrm>
            <a:off x="4572000" y="1268280"/>
            <a:ext cx="40323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Komplexnejšie problémy ekonomického prostredia - komplexnejšia menová politika svetových centrálnych bánk ako reakc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Centrálne banky budú aj naďalej uplatňovať  politiku ultra-nízkych úrokov (štandardné nástroje), ako aj neštandardné menové nástroje (likvidita, OMO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Od ECB sa očakáva, že ponechá súčasné nízke sadzby minimálne až do konca roku 201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OMT program sterilizovaného odkupu dlhopisov – prevencia „tail risks“ súvisiacich so stabilitou menového systém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Fed oznámil program QE3 prostredníctvom trhu hypotekárnych CP (MBS), politika nízkych sadzieb minimálne do polovice roka 2015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Deklarovaný cieľ Fedu = znížiť mieru nezamestnanosti, OMT program = orientácia na zníženie kreditnej prirážk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2"/>
          <a:stretch/>
        </p:blipFill>
        <p:spPr>
          <a:xfrm>
            <a:off x="539640" y="3645000"/>
            <a:ext cx="3961080" cy="2382840"/>
          </a:xfrm>
          <a:prstGeom prst="rect">
            <a:avLst/>
          </a:prstGeom>
          <a:ln w="0">
            <a:noFill/>
          </a:ln>
        </p:spPr>
      </p:pic>
      <p:sp>
        <p:nvSpPr>
          <p:cNvPr id="188" name="Obdĺžnik 7"/>
          <p:cNvSpPr/>
          <p:nvPr/>
        </p:nvSpPr>
        <p:spPr>
          <a:xfrm>
            <a:off x="542520" y="602136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bdĺžnik 7"/>
          <p:cNvSpPr/>
          <p:nvPr/>
        </p:nvSpPr>
        <p:spPr>
          <a:xfrm>
            <a:off x="476280" y="3429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áza rok 2000 = 1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4:30:59Z</dcterms:created>
  <dc:creator>J133JJC</dc:creator>
  <dc:description/>
  <dc:language>en-US</dc:language>
  <cp:lastModifiedBy>HERMAN Peter</cp:lastModifiedBy>
  <cp:lastPrinted>2009-09-01T07:59:28Z</cp:lastPrinted>
  <dcterms:modified xsi:type="dcterms:W3CDTF">2012-11-02T10:10:50Z</dcterms:modified>
  <cp:revision>283</cp:revision>
  <dc:subject/>
  <dc:title>Titel der Präsentation</dc:title>
</cp:coreProperties>
</file>