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7F4-300F-4B7C-80E5-DDEBA762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57D-255B-49F2-8915-F1F175D3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401-E4C1-41AC-916F-9A62378B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0AA-66C8-4A01-87D4-2F59450C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8343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362-0E58-435E-8BDE-0E754BB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560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3768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560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3768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740-DD6E-4E76-8602-D1A4644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AB9-BFC1-4469-859A-67CA6712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45F-2250-46BD-99CF-BAEBD94C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8343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945-D568-496D-A005-847DD84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F0F-AE4D-461A-94C4-02987AEB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A62-A224-4EF7-8948-2DA4B29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7A6-3908-49B5-8927-383D4ED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71B4-9BD0-4E7D-9EEC-B3B3E00E168D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83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buClr>
                <a:srgbClr val="ffffff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algn="ctr">
              <a:spcBef>
                <a:spcPts val="400"/>
              </a:spcBef>
              <a:buClr>
                <a:srgbClr val="0732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3" marL="1371600" indent="1440" algn="ctr">
              <a:spcBef>
                <a:spcPts val="400"/>
              </a:spcBef>
              <a:buClr>
                <a:srgbClr val="07326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7326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484280"/>
            <a:ext cx="85838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k-SK" sz="4200" spc="-1" strike="noStrike">
                <a:solidFill>
                  <a:srgbClr val="ffffff"/>
                </a:solidFill>
                <a:latin typeface="Arial"/>
              </a:rPr>
              <a:t>Sme svedkami zásadnej zmeny štruktúry investícií do PF?</a:t>
            </a:r>
            <a:br>
              <a:rPr sz="4200"/>
            </a:br>
            <a:r>
              <a:rPr b="0" i="1" lang="sk-SK" sz="3000" spc="-1" strike="noStrike">
                <a:solidFill>
                  <a:srgbClr val="ffffff"/>
                </a:solidFill>
                <a:latin typeface="Arial"/>
              </a:rPr>
              <a:t>Nové produktové možnosti v praxi K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7696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00"/>
                </a:solidFill>
                <a:latin typeface="Arial"/>
              </a:rPr>
              <a:t>Martin Ďurianči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00"/>
                </a:solidFill>
                <a:latin typeface="Arial"/>
              </a:rPr>
              <a:t>Tatra Asse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4221000"/>
            <a:ext cx="8785440" cy="158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Dôvo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24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Výsledky fond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Konkurenčné produkt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Nová legislatíva, non-UCITS fond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F87-052A-4EDD-9AD0-C7656EBD6F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 a zmena </a:t>
            </a: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truktúry investícií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5100480" cy="4273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19640" y="1773000"/>
            <a:ext cx="338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Celkový čistý predaj pri fondoch s predajom nad 1mil</a:t>
            </a:r>
            <a:r>
              <a:rPr b="1" lang="sk-SK" sz="2200" spc="-1" strike="noStrike">
                <a:solidFill>
                  <a:srgbClr val="073260"/>
                </a:solidFill>
                <a:latin typeface="Arial"/>
                <a:ea typeface="Arial"/>
              </a:rPr>
              <a:t>€ za rok :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epozitné/Vklad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lternatívne Investície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Zmieša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907mil</a:t>
            </a:r>
            <a:r>
              <a:rPr b="0" lang="sk-SK" sz="3000" spc="-1" strike="noStrike">
                <a:solidFill>
                  <a:srgbClr val="073260"/>
                </a:solidFill>
                <a:latin typeface="Arial"/>
                <a:ea typeface="Arial"/>
              </a:rPr>
              <a:t>€ (94%)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kci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lhopis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073260"/>
                </a:solidFill>
                <a:latin typeface="Arial"/>
              </a:rPr>
              <a:t>62mil</a:t>
            </a:r>
            <a:r>
              <a:rPr b="0" lang="sk-SK" sz="3100" spc="-1" strike="noStrike">
                <a:solidFill>
                  <a:srgbClr val="073260"/>
                </a:solidFill>
                <a:latin typeface="Arial"/>
                <a:ea typeface="Arial"/>
              </a:rPr>
              <a:t>€ (6%)</a:t>
            </a:r>
            <a:endParaRPr b="0" lang="en-US" sz="31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4B9-A272-4D8C-9B91-C4D582205C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73260"/>
                </a:solidFill>
                <a:latin typeface="Arial"/>
              </a:rPr>
              <a:t>Európsky trh funguje na extrémnom počte fondov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2922480"/>
            <a:ext cx="6553440" cy="28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D56-90B2-482E-B818-BF185AF9F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28648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73260"/>
                </a:solidFill>
                <a:latin typeface="Arial"/>
              </a:rPr>
              <a:t>Na Slovensku je zaregistrovaných 420 fondov, do koľkých sa reálne investuje?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2879640"/>
            <a:ext cx="5605200" cy="364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63640" y="652464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7F6-0327-4C40-BE89-B93C6DF647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04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Klienti potrebujú niekoľko dobrých riešení, nie stovky neodlíšiteľných fondov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inálne riešenia vs </a:t>
            </a:r>
            <a:r>
              <a:rPr b="0" lang="en-US" sz="2800" spc="-1" strike="noStrike">
                <a:solidFill>
                  <a:srgbClr val="07326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ématicky zameran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inančný majetok retailového klienta je nízky, klienti si potrebujú tvoriť finančný majetok a najmä sporiť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F7A-5D8D-48B6-B0F9-2DB39114B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 a zmena </a:t>
            </a: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truktúry investícií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200" y="227772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Depozitné/Vkladov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ondy zamerané na alternatívne aktíva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Realit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Komodit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Aktívne riadené fondy/Absolute Return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Zaisten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41F-7256-4F0B-A427-48E4485616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77724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7400"/>
            </a:br>
            <a:endParaRPr b="1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7696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Martin Ďurianči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Tatra Asset 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Čistý príliv nových investícii do fond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048360" cy="3904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9640" y="609300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7D6-7B3E-4D04-AC8A-88FD1C95E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štruktúry investícii v SR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72360" cy="451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630864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270-E798-41CB-B7AA-D0458A136A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štruktúry investícii </a:t>
            </a:r>
            <a:r>
              <a:rPr b="1" lang="sk-SK" sz="2600" spc="-1" strike="noStrike">
                <a:solidFill>
                  <a:srgbClr val="073260"/>
                </a:solidFill>
                <a:latin typeface="Arial"/>
              </a:rPr>
              <a:t>(UCITS, Európa)</a:t>
            </a:r>
            <a:endParaRPr b="1" lang="en-US" sz="26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391440" cy="40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616572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EFAMA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E25-8D4D-47D5-9843-380162727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4221000"/>
            <a:ext cx="8785440" cy="158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Dôvo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24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Výsledky fond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Konkurenčné produkt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Nová legislatíva, non-UCITS fond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FC3-5ABB-4D02-A6D0-B1280D21A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5352" t="42078" r="42927" b="17392"/>
          <a:stretch/>
        </p:blipFill>
        <p:spPr>
          <a:xfrm>
            <a:off x="1908000" y="1989000"/>
            <a:ext cx="5328000" cy="3829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79640" y="609300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The American Association of Individual Investor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5A1-8906-471B-9D83-176FFB60BB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83640" cy="45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8AA-77C8-47B7-B91E-D21671CF27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657760" cy="401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35280" y="5877000"/>
            <a:ext cx="1800000" cy="12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41A-E312-42D2-96B8-C846A0440C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5440" cy="393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6021360"/>
            <a:ext cx="2592360" cy="1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1D3-75D7-4388-AF61-5CE2FEE888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8:50:05Z</dcterms:created>
  <dc:creator>tb19060</dc:creator>
  <dc:description/>
  <dc:language>en-US</dc:language>
  <cp:lastModifiedBy>atomcalova</cp:lastModifiedBy>
  <cp:lastPrinted>2012-11-08T19:01:55Z</cp:lastPrinted>
  <dcterms:modified xsi:type="dcterms:W3CDTF">2012-11-10T08:19:52Z</dcterms:modified>
  <cp:revision>146</cp:revision>
  <dc:subject/>
  <dc:title>TAM-SmartFund inovatívny prístup správy fondu</dc:title>
</cp:coreProperties>
</file>