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D3C6-1A42-44C3-81F0-FFF8F9DEF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" y="43174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1AFF-10C4-448C-8546-E37833C9B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540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9CB7-996D-4947-B250-BDC165471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5080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324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36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5080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324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5C3D-C8FC-4DB1-B6D2-BF3E1D24D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277D6-1F3C-447A-BCE7-14449DB02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92540-8D60-47C0-8FD4-A26DC5010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96C2C-38E1-411A-A347-CD0723ED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49A58-AD85-4060-BEA1-95BB26703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82E87-90E5-4732-8CA7-6481B834D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29600" cy="39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7348F-2333-4308-ACA5-DF1F8E7A4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8C3A4-A6D3-4199-B70A-05C17CEA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DAF3-8507-45C5-BB98-C206FA278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540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65992-EF03-415B-B9E5-D6C8782A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1ABFD-B4D3-49AC-BD17-540592D7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60" y="43174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2D167-2FF4-42A6-94D8-D35DC01F9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540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DA40A-3A6A-4A92-B5BD-DF521BC69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5080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3324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36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5080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3324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E5E3E-DB3F-4AF6-815A-187EBF593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DE33-E806-4E33-A85F-525B767AE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CEEC-79A0-4988-BE48-6E5BECB09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02B4-7591-4B78-BC40-990BA508D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29600" cy="39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C4DE-B724-4E94-9207-9484D6202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9A06-0702-4461-998F-0578EA32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540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6205-6F79-46A7-A59F-0B75F8EC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AEB9-65C6-4D24-A841-2B58F3E1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500880"/>
            <a:ext cx="9144000" cy="357120"/>
          </a:xfrm>
          <a:prstGeom prst="rect">
            <a:avLst/>
          </a:prstGeom>
          <a:solidFill>
            <a:srgbClr val="0038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00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00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300360" y="6578640"/>
            <a:ext cx="14130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68360" y="6570720"/>
            <a:ext cx="568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884720" y="6578640"/>
            <a:ext cx="8636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9AEB9-C3F3-4215-893C-72B48D79785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NBS_podstranka_modra"/>
          <p:cNvPicPr/>
          <p:nvPr/>
        </p:nvPicPr>
        <p:blipFill>
          <a:blip r:embed="rId2"/>
          <a:stretch/>
        </p:blipFill>
        <p:spPr>
          <a:xfrm>
            <a:off x="0" y="0"/>
            <a:ext cx="9140760" cy="79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NBS_uvod_modra"/>
          <p:cNvPicPr/>
          <p:nvPr/>
        </p:nvPicPr>
        <p:blipFill>
          <a:blip r:embed="rId2"/>
          <a:stretch/>
        </p:blipFill>
        <p:spPr>
          <a:xfrm>
            <a:off x="0" y="0"/>
            <a:ext cx="9140760" cy="40338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00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00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092720" y="6237360"/>
            <a:ext cx="18730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50920" y="6244920"/>
            <a:ext cx="61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028000" y="6453360"/>
            <a:ext cx="9367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494a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6A9AA-CC1C-4392-A0CE-05E36DF9FE81}" type="slidenum">
              <a:rPr b="1" lang="en-US" sz="2400" spc="-1" strike="noStrike">
                <a:solidFill>
                  <a:srgbClr val="494a45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560" y="2565360"/>
            <a:ext cx="8708760" cy="2594160"/>
          </a:xfrm>
          <a:prstGeom prst="rect">
            <a:avLst/>
          </a:prstGeom>
          <a:noFill/>
          <a:ln w="0">
            <a:noFill/>
          </a:ln>
        </p:spPr>
        <p:txBody>
          <a:bodyPr rIns="0" t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dddddd"/>
                </a:solidFill>
                <a:latin typeface="Tahoma"/>
              </a:rPr>
              <a:t>Implementácia smernice AIFMD</a:t>
            </a:r>
            <a:br>
              <a:rPr sz="4800"/>
            </a:br>
            <a:br>
              <a:rPr sz="4800"/>
            </a:br>
            <a:r>
              <a:rPr b="1" lang="sk-SK" sz="2800" spc="-1" strike="noStrike">
                <a:solidFill>
                  <a:srgbClr val="003881"/>
                </a:solidFill>
                <a:latin typeface="Tahoma"/>
              </a:rPr>
              <a:t>SLOVENSKO vs. EÚ</a:t>
            </a:r>
            <a:endParaRPr b="1" lang="en-US" sz="28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23640" y="5589360"/>
            <a:ext cx="8705880" cy="1152360"/>
          </a:xfrm>
          <a:prstGeom prst="rect">
            <a:avLst/>
          </a:prstGeom>
          <a:noFill/>
          <a:ln w="0">
            <a:noFill/>
          </a:ln>
        </p:spPr>
        <p:txBody>
          <a:bodyPr rIns="0" tIns="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494a45"/>
                </a:solidFill>
                <a:latin typeface="Tahoma"/>
                <a:ea typeface="Tahoma"/>
              </a:rPr>
              <a:t>Konferencia Kolektívne Investovanie, 9.novembra 201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494a45"/>
                </a:solidFill>
                <a:latin typeface="Tahoma"/>
                <a:ea typeface="Tahoma"/>
              </a:rPr>
              <a:t>Ing. Tomáš Ambr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494a45"/>
                </a:solidFill>
                <a:latin typeface="Tahoma"/>
                <a:ea typeface="Tahoma"/>
              </a:rPr>
              <a:t>odbor reguláci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494a45"/>
                </a:solidFill>
                <a:latin typeface="Tahoma"/>
                <a:ea typeface="Tahoma"/>
              </a:rPr>
              <a:t>Národná banka Slovensk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Rozsah regulácie smernice AIFMD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Tahoma"/>
              </a:rPr>
              <a:t>Celkom asi 1O biliónov EU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684360" y="2349360"/>
            <a:ext cx="7848360" cy="477720"/>
          </a:xfrm>
          <a:prstGeom prst="rect">
            <a:avLst/>
          </a:prstGeom>
          <a:solidFill>
            <a:srgbClr val="003881"/>
          </a:solidFill>
          <a:ln w="38160">
            <a:solidFill>
              <a:srgbClr val="003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Alternatívne investičné fon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684360" y="2828880"/>
            <a:ext cx="7848360" cy="2837160"/>
          </a:xfrm>
          <a:prstGeom prst="rect">
            <a:avLst/>
          </a:prstGeom>
          <a:noFill/>
          <a:ln w="38160">
            <a:solidFill>
              <a:srgbClr val="003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Hedge fon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Private equity fon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Realitné fon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+ Všetky národné neharmonizované investičné fondy (non-UCITS fond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+ Akékoľvek iné neharmonizované schémy, ktoré fungujú na princípe kolektívneho investovan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Dôsledky smernice AIFMD v EÚ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Zavedenie regulácie v sektoroch finačného trhu, ktoré boli tradične neregulovan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Tlak na re-domiciliáciu fondov do E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Tlak na konkurenčné prostredie v rámci EÚ a kvalitu regulácie a podnikateľského prostr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Odstránenie výhod národnej neharmonizovanej (non-UCITS) regulácie fondo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Dopady na slovenské subjekty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Správcovské spoločno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Depozitár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Subjekty vykonávajúce verejnú ponuku majetkových hodnô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677880" y="3284640"/>
            <a:ext cx="7848720" cy="477720"/>
          </a:xfrm>
          <a:prstGeom prst="rect">
            <a:avLst/>
          </a:prstGeom>
          <a:solidFill>
            <a:srgbClr val="003881"/>
          </a:solidFill>
          <a:ln w="38160">
            <a:solidFill>
              <a:srgbClr val="003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ýsled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666720" y="3786120"/>
            <a:ext cx="7848720" cy="2712600"/>
          </a:xfrm>
          <a:prstGeom prst="rect">
            <a:avLst/>
          </a:prstGeom>
          <a:noFill/>
          <a:ln w="38160">
            <a:solidFill>
              <a:srgbClr val="003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Tahoma"/>
              </a:rPr>
              <a:t>Regulovaný sektor (správcovské spoločnosti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ahoma"/>
              </a:rPr>
              <a:t>zvýšené náklad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ahoma"/>
              </a:rPr>
              <a:t>veľmi malé benefity zo zvýšenej miery a kvality regulác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Tahoma"/>
              </a:rPr>
              <a:t>Verejná ponuka majetkových hodnô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ahoma"/>
              </a:rPr>
              <a:t>zvýšenie ochrany investorov odstránením inštitútu verejnej ponuky majetkových hodnô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Tahoma"/>
              </a:rPr>
              <a:t>Neregulovaný sektor (private equity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ahoma"/>
              </a:rPr>
              <a:t>regulácia = možnosť pre rozvoj inštitucionálneho (podnikateľského) kolektívneho investovania a kapitálového trhu všeobec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Je možné AIFMD vnímať ako šancu?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Luxemburg a ďalšie štáty západnej Euró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Česká reforma regulácie kolektívneho investovan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Czech Republic for Financ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Návrh Zákona o Investičních Společnostech a Investičních Fondech (ZISIF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9b003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Administrácia fondo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9b003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Nové právne formy fondov (spoločnosti typu SICAV a komanditné spoločnosti s investičnými cennými papiermi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9b003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Fondy rizikového kapitál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Súčasný stav implementácie na Slovensku a hlavné oblasti záujmu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Neexistuje širšia verejná diskus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Jediným partnerom je SASS, ktorá prirodzene sleduje záujmy existujúcich regulovaných spoločností, ktoré sa sústredia na retai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Neexistuje ambícia podobná Č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Abdikovalo Slovensko na vytvorenie fungujúceho kapitálového trhu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Neexistuje širšia vízia reformy a rozvoja kapitálového trhu na Slovensk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Sme odkázaní na bankami financovanú ekonomiku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Pár poznámok na záver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Slovensko v EÚ – pozitíva a negatí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Budúcnosť kolektívneho investovania na Slovensk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otreba partnerstva štátu, trhu, akademickej obce a občanov – spotrebiteľov pri tvorbe politiky finančného trh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250560" y="4869000"/>
            <a:ext cx="8705880" cy="1224000"/>
          </a:xfrm>
          <a:prstGeom prst="rect">
            <a:avLst/>
          </a:prstGeom>
          <a:noFill/>
          <a:ln w="0">
            <a:noFill/>
          </a:ln>
        </p:spPr>
        <p:txBody>
          <a:bodyPr rIns="0" tIns="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494a45"/>
                </a:solidFill>
                <a:latin typeface="Tahoma"/>
                <a:ea typeface="Tahoma"/>
              </a:rPr>
              <a:t>Ing. Tomáš Amb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494a45"/>
                </a:solidFill>
                <a:latin typeface="Tahoma"/>
                <a:ea typeface="Tahoma"/>
              </a:rPr>
              <a:t>odbor regulác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494a45"/>
                </a:solidFill>
                <a:latin typeface="Tahoma"/>
                <a:ea typeface="Tahoma"/>
              </a:rPr>
              <a:t>Národná banka Slovensk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250560" y="422100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rIns="0" t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3881"/>
                </a:solidFill>
                <a:latin typeface="Tahoma"/>
              </a:rPr>
              <a:t>Ďakujem za pozornosť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2T11:29:03Z</dcterms:created>
  <dc:creator>User</dc:creator>
  <dc:description/>
  <dc:language>en-US</dc:language>
  <cp:lastModifiedBy>Tomáš Ambra</cp:lastModifiedBy>
  <dcterms:modified xsi:type="dcterms:W3CDTF">2012-11-05T09:43:11Z</dcterms:modified>
  <cp:revision>60</cp:revision>
  <dc:subject/>
  <dc:title>Slide 1</dc:title>
</cp:coreProperties>
</file>