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55B4-658E-4FC2-BAFB-D7490FE5F84A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1E10-B918-433C-8DE0-71CAEBECCD5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286E-47AA-4C70-B9FE-1E5CE3DB1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8131-7E88-4677-B198-75973BDE7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3E5B-E7E8-4487-AAD7-5F78A4BDA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1B81-16E7-402E-B923-3BBE83936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78F5-7406-449D-9ABA-5948E47B2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8AB3-DEFE-448C-9630-925E5334E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68AB-9502-4A0A-8F0B-ECF8805B0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EEC1-45E5-4A26-BDAB-1F865B2D5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9CD2-82E3-4944-8EFF-2014F742A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C8C0-8751-419C-A80A-57CA0F2D5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88FD-B704-4CFA-89E5-80D0ECF6E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716F-9640-425A-9A34-99AE8DC04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Fadrique\AppData\Local\Temp\wzfdd0\ISP_Linea Orizzontale\ISP_lineaOrizz.jpg"/>
          <p:cNvPicPr/>
          <p:nvPr/>
        </p:nvPicPr>
        <p:blipFill>
          <a:blip r:embed="rId2"/>
          <a:stretch/>
        </p:blipFill>
        <p:spPr>
          <a:xfrm>
            <a:off x="209520" y="6076800"/>
            <a:ext cx="863928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6920" y="6308280"/>
            <a:ext cx="103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5B40-361B-439F-9472-72C8E82ECE8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Obrázok 8" descr="VUB_asset man.bmp"/>
          <p:cNvPicPr/>
          <p:nvPr/>
        </p:nvPicPr>
        <p:blipFill>
          <a:blip r:embed="rId3"/>
          <a:stretch/>
        </p:blipFill>
        <p:spPr>
          <a:xfrm>
            <a:off x="324000" y="6294600"/>
            <a:ext cx="253368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Obrázok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8" descr="VUB_asset man.bmp"/>
          <p:cNvPicPr/>
          <p:nvPr/>
        </p:nvPicPr>
        <p:blipFill>
          <a:blip r:embed="rId3"/>
          <a:stretch/>
        </p:blipFill>
        <p:spPr>
          <a:xfrm>
            <a:off x="276120" y="500040"/>
            <a:ext cx="472608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eny v kolektívnom investovaní na Slovensku</a:t>
            </a:r>
            <a:br>
              <a:rPr sz="2800"/>
            </a:b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Hlavné trendy a výzvy v najbližších roko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560" y="4707000"/>
            <a:ext cx="75214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rian Matušovič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seda predstavenstva, VÚB Asse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rnava, 10.</a:t>
            </a:r>
            <a:r>
              <a:rPr b="0" lang="sk-SK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ovember, 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 2010  vrs.  skutočnosť 20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E2B4-38EF-47DF-95FC-C0FF1F8BE0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1214280"/>
            <a:ext cx="864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prieskumu: august 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lavný cieľ: zistiť očakávané trendy v produktovom portfóliu, v rozsahu poskytovaných služieb, segmentácii klientov, ako aj pri úprave obchodných modelov slovenských správcovských spoločností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tatistická metóda získavania údajov: štandardizovaný dotazní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spondenti: členovia predstavenstiev správcovských spoločností a dôchodkových správcovských spoločností, senior manažéri bánk (oddelenia treasury, depozitára, vývoja a distribúcie investičných produktov, privátneho bankovníctva),  odborníci z NBS a SA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čet dotazníko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74 zaslaný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8  vyplnených s  najväčším  zastúpením   manažérov správcovských spoločností (39,5 %) a  manažérov bánk (34,2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46B4-377A-43D4-BBC5-87BD0EC578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7643880" y="300024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300024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3"/>
          <p:cNvSpPr/>
          <p:nvPr/>
        </p:nvSpPr>
        <p:spPr>
          <a:xfrm>
            <a:off x="324000" y="333360"/>
            <a:ext cx="8424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Ktoré z uvedených trendov v oblasti KI budú s najväčšou pravdepodobnosťou podľa Vášho názoru v blízkej budúcnosti realizované na Slovensk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125360"/>
          <a:ext cx="8501040" cy="4578480"/>
        </p:xfrm>
        <a:graphic>
          <a:graphicData uri="http://schemas.openxmlformats.org/drawingml/2006/table">
            <a:tbl>
              <a:tblPr/>
              <a:tblGrid>
                <a:gridCol w="7572240"/>
                <a:gridCol w="928800"/>
              </a:tblGrid>
              <a:tr h="227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lementácia novej legislatívy snažiaca sa zvýšiť ochranu investorov a prísnejšej regul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lizácia programov na  zvýšenie finančnej gramotnosti obyvateľstva zabezpečovaná štá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rizikovej averzie investo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446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výšený záujem o fondy, ktoré zabezpečia 100% ochranu vloženého kapitálu a predvídateľnú, hoci aj nižšiu výkonnos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237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 s „optimálnym rozložením investícií“, bez zabezpečenia 100% ochrany  vloženého kapit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3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tupné znižovanie dominancie peňažných fondov v prospech fondov z vyšším rizikovým profilom (dlhopisové, zmiešané, akciové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111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tupné zvyšovanie investícií do fondov spravovaných zahraničnými správcovskými spoločnosťa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šenie vstupn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žovanie správcovsk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vedenie správcovských poplatkov závislých od dosiahnutej  výko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zšírenie nových sporiacich schém a zvýšená podpora ich pred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539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záujmu o investície do fondov a sporiace schémy z dôvodu nedôvery obyvateľstva voči schopnosti  štátu zabezpečiť primerané dôchodky, resp. potreby spori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íženie záujmu investorov o fondy v prospech ETF, dlhopisov, akcií a iných 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výšenie distribúcie fondov prostredníctvom interne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distribúcie fondov prostredníctvom pobočiek bá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26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é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134100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Čo nás čaká za ďalšie dva rok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F22C-FC97-4A5C-B816-5DD1E18441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8:47:48Z</dcterms:created>
  <dc:creator>Romsauerova</dc:creator>
  <dc:description/>
  <dc:language>en-US</dc:language>
  <cp:lastModifiedBy>mmatusovic</cp:lastModifiedBy>
  <dcterms:modified xsi:type="dcterms:W3CDTF">2012-11-02T16:22:38Z</dcterms:modified>
  <cp:revision>99</cp:revision>
  <dc:subject/>
  <dc:title>Snímka 1</dc:title>
</cp:coreProperties>
</file>