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0418-E5B9-4F4B-8A83-746D7405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D2F6-BE78-4B1A-AE7D-4751F5C0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D36-A730-401A-B6BF-DEED3313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3E07-A101-4EC5-B613-028335AF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561-AA20-42C9-B87F-032B5F3F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A17-B464-4A0C-B463-F25FF461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876-B198-4D7F-8CB5-02C788BF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9FB-1F0D-44B2-AA7F-54EC23BE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3737-27C3-43B2-A511-3CCE79DF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831-F9B8-49D9-8B42-161FD1A1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8DA-25D5-4D19-B39F-9E98CC6B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42B-2877-456D-BFF5-E4CA2AD2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3790-AB72-4221-8ACE-159F72BDF8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42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43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45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8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Rectangle 12"/>
          <p:cNvSpPr/>
          <p:nvPr/>
        </p:nvSpPr>
        <p:spPr>
          <a:xfrm>
            <a:off x="1011240" y="249228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Implementácia direktívy o správcoch alternatívnych investičných fon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79480" y="443700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án Fol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iaditeľ odboru kapitálového trhu a poisťovníc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3723120" y="545004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9. november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53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56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9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Odkiaľ prichádza AIFM 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BlokTextu 10"/>
          <p:cNvSpPr/>
          <p:nvPr/>
        </p:nvSpPr>
        <p:spPr>
          <a:xfrm>
            <a:off x="500040" y="1857240"/>
            <a:ext cx="807264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asmussen repor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uznesenie EP, IX 2008,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Komisia by mala preskúmať všetky platné právne predpisy Spoločenstva týkajúce sa finančných trhov s cieľom určiť prípadné medzery v oblasti regulácie hedge fondov a private equity a na základe tohto prieskumu predložiť Európskemu parlamentu v prípade potreby legislatívny návrh či návrhy týkajúce sa pozmenenia a doplnenia platných smerníc s cieľom lepšie regulovať  hedge fondy, private equity a ďalších relevantných účastníkov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e Larosiere report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kupina EU pre finančný dohľad, XI.2008 – II.2009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..„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mprove transparency in all financial markets - and notably for systemically important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dge funds - by imposing, in all EU Member States and internationally, registratio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d information requirements on hedge fund managers, concerning their strategies,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thods and leverage, including their worldwide activities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urópska Rada,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rec 2009  ....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“U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rýchlene by sa malo pokročiť aj v práci na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nadchadzajucich návrhoch Komisie o hedgeovych fondoch“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urópska Komisia,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apríl 2009, Návrh smernice o správcoch alternatívnych investičných fon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8. jún 2011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, publikácia v O.J., Smernica EP a Rady č. 2011/61/EU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63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64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66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9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Čo reguluje AIFM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BlokTextu 10"/>
          <p:cNvSpPr/>
          <p:nvPr/>
        </p:nvSpPr>
        <p:spPr>
          <a:xfrm>
            <a:off x="571680" y="1857240"/>
            <a:ext cx="8072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regulácia správcov AIF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„UCITizácia“ režimu správcov,  osobitné povolenie, organizácia, kapitálové požiadavky a transparentnosť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IF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-  fond iný ako UCITS fond, ktorý získava kapitál od viacerých investorov s cieľom investovať ho v súlade so stanovenou investičnou politikou v prospech týchto investorov, 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čl. 4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ie regulácia fondov, s výnimkou regulácie pákového ef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režim depozitárov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ový koncept depozitárskej úchovy, delegovanie funkcií (subcustody), režim zodpovedn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cezhraničná správa a distribúcia AIF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bdoba EU pasu ako pri UC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režim tretích krajín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EU pas aj pre správcovské spoločnosti z 3. krajín, koncept referenčného ČŠ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hľad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- cezhraničná kooperácia, úlohy E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73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74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76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9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Implementácia AIFM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BlokTextu 10"/>
          <p:cNvSpPr/>
          <p:nvPr/>
        </p:nvSpPr>
        <p:spPr>
          <a:xfrm>
            <a:off x="571680" y="1857240"/>
            <a:ext cx="807228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0240" indent="-12002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U level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~ 100 rôznych splnomocňovacích ustanovení, vykonávacie a delegované predpisy EK, technická pomoc E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 Návrh nariadenia EK- priamo aplikovate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ýpočty limitov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rganizácia a riadenia správcov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depozitár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ákový efek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formačné povin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SK level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ozsiahla novela zákona č. 203/2011 Z. z. o kolektívnom investovaní, vyvolaná novela zákona o 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transpozičný termín:  22.júl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0240" indent="-120024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83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84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86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9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BlokTextu 10"/>
          <p:cNvSpPr/>
          <p:nvPr/>
        </p:nvSpPr>
        <p:spPr>
          <a:xfrm>
            <a:off x="571680" y="1844640"/>
            <a:ext cx="8072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UVECA a EUSEF: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riadenia o európskych fondoch rizikového kapitálu a o európskych fondoch sociálneho podnikania, návrh EK, december 2011, súčasť 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Akčného plánu EK na zlepšenie prístup SME k financovan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gulácia  správcov fondov pod limitom 500 mil Eur, povinná registrácia podĺa AIFMD platná pre celú EÚ, distribúcia len profesionálnym investo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sk-SK" sz="1800" spc="-1" strike="noStrike">
                <a:solidFill>
                  <a:srgbClr val="000000"/>
                </a:solidFill>
                <a:latin typeface="Arial"/>
              </a:rPr>
              <a:t>fond sociálneho podnikania 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70% portfólia v non listed, malé podniky (do 50 mil. obratu), sociálny asp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sk-SK" sz="1800" spc="-1" strike="noStrike">
                <a:solidFill>
                  <a:srgbClr val="000000"/>
                </a:solidFill>
                <a:latin typeface="Arial"/>
              </a:rPr>
              <a:t>fond  rizikového kapitálu 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70% portfólia v non listed S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2012 -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UCITS V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„AIFMdizácia“ režimu depozitár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2013 -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UCITS VI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sekuritizácia, požičiavanie CP, repo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2015 – stanovisko a odporúčanie EK a ESMA k uplatňovaniu EU pasov pre správu a uvádzanie na trh AIF,  delegované akty 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vízia MiFID, dane z finančných transakci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Ďalší vývoj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93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94" name="Rectangle 9"/>
              <p:cNvSpPr/>
              <p:nvPr/>
            </p:nvSpPr>
            <p:spPr>
              <a:xfrm>
                <a:off x="1428840" y="1671840"/>
                <a:ext cx="6696000" cy="12571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96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99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7"/>
          <p:cNvSpPr/>
          <p:nvPr/>
        </p:nvSpPr>
        <p:spPr>
          <a:xfrm>
            <a:off x="1068480" y="209376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58960" y="3857760"/>
            <a:ext cx="5256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Ján Foltá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odbor kapitálového trhu a poisťovníc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Ministerstvo financií SR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Štefanovičova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817 82 Bratisl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Tel.:      +421 2 59582524         Fax: +421 2 5958354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E-mail:  jan.folt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mfsr.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09:39:31Z</dcterms:created>
  <dc:creator>Stanislava Ligová</dc:creator>
  <dc:description/>
  <dc:language>en-US</dc:language>
  <cp:lastModifiedBy>jfoltan</cp:lastModifiedBy>
  <dcterms:modified xsi:type="dcterms:W3CDTF">2012-10-30T14:02:32Z</dcterms:modified>
  <cp:revision>190</cp:revision>
  <dc:subject/>
  <dc:title>Snímka 1</dc:title>
</cp:coreProperties>
</file>