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2D78-F07F-4CCC-905D-60F2EBE0A48F}" type="slidenum"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A82-E3ED-4746-BA91-7A13DABE11CC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8B9-1A58-4B67-B394-818DAC795399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E2E-3031-4638-BBF2-E525C335382C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D1A-FC64-492A-9970-51C172D0C90C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C30-DE35-4A43-8307-99C842B70F28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9315-F3E4-4256-9D85-B11333713E26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3A2-BC8C-47A6-AC51-AA8B1F91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4ED-9D72-49C2-88A6-CCAC26D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DAB-4FE1-4A09-9D28-B5E033EA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4F6-0FD1-4645-9E68-B6891591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F205-E380-47C4-B29B-D9FBD551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8AE0-8F34-44DD-B0CB-9A4609D2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E76-3641-489C-A583-72EB7059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493-77C3-425C-9C57-E0E7E53A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458-4700-472C-A9AA-3F37DB91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C36E-4A4A-4E53-B4C0-D8EDD61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F1D-D041-467D-94F5-2BCA3C0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FBA-AA88-47B1-8CDD-B78D8454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8937-EF3E-4013-86F1-811099A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DB3-98A1-4A95-9066-3DA078E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F4B7-1E8F-4562-BE09-67F0BFD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145-3341-452E-861A-5C5D8650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AFFB-513A-47DF-A1CB-344CCBFF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C70-F1DD-41B1-8D63-FD50D09A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6B1-A681-4444-8908-FF99E78D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470-FB5D-4361-BD5E-98BFF9A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D0F-651B-47C6-8C09-F341227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DB3-81AD-434C-8CB5-B4C6A0C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91C-6727-4066-B010-6358250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F99-75F6-440D-80EE-72BA94C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93F-C05E-48A1-8425-A7091C7FD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069D-4A6A-4133-BE90-BC5211A1D4E3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dddddd"/>
                </a:solidFill>
                <a:latin typeface="Tahoma"/>
              </a:rPr>
              <a:t>Zmeny v kolektívnom investovaní na Slovensku</a:t>
            </a:r>
            <a:br>
              <a:rPr sz="48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Hlavné trendy a výzvy v budúcich najbližších rokoch</a:t>
            </a:r>
            <a:br>
              <a:rPr sz="4800"/>
            </a:b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 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Kam smerujú úspory obyvateľstva?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950760" y="5954760"/>
            <a:ext cx="6913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k 2Q /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71640" y="1811160"/>
            <a:ext cx="720072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Kolektívne investovanie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SA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klady v bankách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iera náhrady štátnych dôchodk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380520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1476360" y="3298680"/>
            <a:ext cx="633744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3440" y="2849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6600"/>
                </a:solidFill>
                <a:latin typeface="Arial"/>
              </a:rPr>
              <a:t>Miera náhrady</a:t>
            </a:r>
            <a:r>
              <a:rPr b="1" lang="fr-BE" sz="1400" spc="-1" strike="noStrike">
                <a:solidFill>
                  <a:srgbClr val="ff6600"/>
                </a:solidFill>
                <a:latin typeface="Arial"/>
              </a:rPr>
              <a:t> 6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85320" y="5649480"/>
            <a:ext cx="718668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ercentuálna miera náhrad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%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ledného príjm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 štátnych penzijných sché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droj: Európska Komisia a OEC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ýzvy pre kolektívne investovani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poriace produk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Úloha kolektívneho investovania v dôchodkovom spor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IFMD (rozvoj špeciálnych fond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tailové špeciálne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štitucionálne (podnikateľské)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á gramotnosť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NBS</cp:lastModifiedBy>
  <cp:lastPrinted>2012-11-08T13:40:12Z</cp:lastPrinted>
  <dcterms:modified xsi:type="dcterms:W3CDTF">2012-11-08T13:47:39Z</dcterms:modified>
  <cp:revision>59</cp:revision>
  <dc:subject/>
  <dc:title>Slide 1</dc:title>
</cp:coreProperties>
</file>